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66B2-87FC-4CC9-9C6A-DC9EC9306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6AF6-25B3-4DDC-99FF-DB6C34B1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E1A6-BABB-4F09-9A7C-D965FF1D9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3AED-3F0C-4DEE-BBDD-2ADC00356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9AC0-F0D4-4F60-90D6-7ACCEB41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949A-F184-4F3C-B36B-9DF467CF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73DA-3CA6-4436-9152-8F76D362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6579-4BE1-4ADA-8AC5-D1B5E07E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D3DE-D876-4374-9E12-0C7D2CFB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B80A-A444-45A4-B11B-F5B367A0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6F3D-82DC-4D86-9AE3-C63A1B74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21CD-2751-4D32-9469-5362D4B9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A46D-AEDB-40A3-A1FC-91C977C3E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691920"/>
            <a:ext cx="5472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VUKOV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84720" y="5013360"/>
            <a:ext cx="2519640" cy="1224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1700280"/>
            <a:ext cx="5472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GRAD  HERO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Book Antiqua"/>
              </a:rPr>
              <a:t>Grad je potpuno razore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33640" y="2924280"/>
            <a:ext cx="307836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Book Antiqua"/>
              </a:rPr>
              <a:t>  </a:t>
            </a:r>
            <a:r>
              <a:rPr b="0" lang="en-US" sz="4000" spc="-1" strike="noStrike">
                <a:solidFill>
                  <a:srgbClr val="ff3300"/>
                </a:solidFill>
                <a:latin typeface="Book Antiqua"/>
              </a:rPr>
              <a:t>Vukovarci  su protjerani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4489560" cy="2927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435640" y="3068640"/>
            <a:ext cx="32004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ook Antiqua"/>
              </a:rPr>
              <a:t>Podatc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0172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odatci svjedoče o golemim stradanjima građana branitel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 700 ljudi  je ubijeno u obrani grada (</a:t>
            </a:r>
            <a:r>
              <a:rPr b="0" lang="en-US" sz="2400" spc="-1" strike="noStrike">
                <a:solidFill>
                  <a:srgbClr val="ff3300"/>
                </a:solidFill>
                <a:latin typeface="Book Antiqua"/>
              </a:rPr>
              <a:t> 1 100 civila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više od 4 000 ljudi je ranje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zmeđu 3 000 i 5 000 ljudi je zaroblje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ekoliko tisuća ljudi se smatra nestali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Vukovar je branilo oko 1 800 boraca koji su tijekom obrane bili organizirani u  204. brigad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koro polovica branitelja su bili dragovoljci iz svih dijelova Hrvatske, Bosne i Hercegovine te iz cijeloga svijet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Povratak u Vukov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Nakon oslobodilačkih akcija u drugim krajevima Hrvatske 1995. godine, počeli su pregovori o povratku Vukovara pod hrvatsku vla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Lokalna je samouprava u Vukovaru počela djelovati sredinom 1997. godi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Hrvatsko podunavlje je mirno priključeno u Republiku Hrvatsku 15. siječnja 1998. godi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Otad se puno radi na obnovi grada i povratku svih stanovnika te se oživljava kulturni gospodarski život grada.</a:t>
            </a:r>
            <a:r>
              <a:rPr b="0" lang="hr-HR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535280" cy="3038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955040" y="1065240"/>
            <a:ext cx="392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včara - mjesto strad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rvatskih zarobljeni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788000" y="3645000"/>
            <a:ext cx="4289400" cy="3082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846000" y="4119480"/>
            <a:ext cx="336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emorijalno grobl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8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755640" y="115920"/>
            <a:ext cx="7488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Vukovar naš pon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b gr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2998440"/>
            <a:ext cx="403848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Book Antiqua"/>
              </a:rPr>
              <a:t>Vukovarski se povijesni grb prvi put pojavljuje 1871. godine kad se ujedinio Stari i Novi Vukovar u jednu cjelinu. Ujedinjenje je na grbu prikazano s dvije spojene kule. U središtu se nalazi djevojka, kao zaštitinica grada i lav simbol sn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54120" y="1600200"/>
            <a:ext cx="364320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643280" y="1413000"/>
            <a:ext cx="40388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Vukovar se smjestio u plodnoj Slavoniji  na obali Duna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lobodnim gradom postao je u XIII. stoljeć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O Vukovaru ukratko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1560" y="4195800"/>
            <a:ext cx="3772080" cy="2095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24600" y="4149720"/>
            <a:ext cx="3074760" cy="2189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95280" y="1700280"/>
            <a:ext cx="822960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 Antiqua"/>
              </a:rPr>
              <a:t>Vukovar je stari barokni grad, poznat po   mnoštvu vrlo lijepih, ali u ratu teško oštećenih građev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 Antiqua"/>
              </a:rPr>
              <a:t>Dvorac Eltz iz XVIII 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O Vukovaru ukratko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ook Antiqua"/>
              </a:rPr>
              <a:t>Franjevački samostan, župna crkva sv. Filipa i Jakova, pravoslavna crkva sv. Nikolaja i d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95240" y="3789360"/>
            <a:ext cx="3705480" cy="2620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03240" y="3860640"/>
            <a:ext cx="23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jevački samo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859280" y="3789360"/>
            <a:ext cx="3468600" cy="2620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654520" y="386064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kva sv. Filipa i Jak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O Vukovaru ukratko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16360" y="3403440"/>
            <a:ext cx="4319640" cy="32655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zvan grada, na obali Dunava prema Iloku nalazi se Vučedol, bogato arheološko nalaziš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bredna posud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Vučedolska golub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matra se simbol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grad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4400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18. studenoga,   prisjećamo se žrtve koju su podnijeli Vukovarci u Domovinskom ratu 1991.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71640" y="1984320"/>
            <a:ext cx="727236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ook Antiqua"/>
              </a:rPr>
              <a:t>Bitka za Vukova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56000" y="2205000"/>
            <a:ext cx="345600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ook Antiqua"/>
              </a:rPr>
              <a:t>Bitka za Vukova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Book Antiqua"/>
              </a:rPr>
              <a:t>Bitka za Vukovar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Book Antiqua"/>
              </a:rPr>
              <a:t>počela j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Book Antiqua"/>
              </a:rPr>
              <a:t>25. kolovoza 1991.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Tada je srpska vojska napala grad. Branitelji su se uspješno obrani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ri mjeseca neprijatelji su svakodnevno napadali gr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 zadnjim je danima obrane  branitelji  više nisu imali dovoljno oružja, pa su se podijelili u manje skupine i probili se na zapad. Jedna je skupina branitelja na Mitnici i u Borovom Naselju ostala potpuno okružena agresorom i bez municije. Zarobljeni su s ostalim civilima </a:t>
            </a:r>
            <a:r>
              <a:rPr b="0" lang="en-US" sz="2400" spc="-1" strike="noStrike">
                <a:solidFill>
                  <a:srgbClr val="ff3300"/>
                </a:solidFill>
                <a:latin typeface="Book Antiqua"/>
              </a:rPr>
              <a:t>18. studenog 1991. godin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 na dan koji pamtimo  kao dan okupacije Vukovar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Osvajačka srpska vojska je počinila mnoge zločine nad građanima i zarobljenicima.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66880" y="2854440"/>
            <a:ext cx="381024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08:40:56Z</dcterms:created>
  <dc:creator>Katica Konstantinović</dc:creator>
  <dc:description/>
  <dc:language>en-US</dc:language>
  <cp:lastModifiedBy>Stojic</cp:lastModifiedBy>
  <dcterms:modified xsi:type="dcterms:W3CDTF">2008-12-13T13:42:37Z</dcterms:modified>
  <cp:revision>13</cp:revision>
  <dc:subject/>
  <dc:title>VUKOVAR</dc:title>
</cp:coreProperties>
</file>