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wmf" ContentType="image/x-wm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EE4-2966-4693-9739-DCDB5839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A43-10E7-4573-A6D6-C086B11D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8A0-EC4D-4468-8F74-801027F9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633-99FC-48E5-AD39-AA3495E6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4A0-00CA-4C6F-88F5-E2E2A665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BC4-0729-4697-A507-69E7816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D51-28FA-414F-BBAE-B723EC8F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6015-01E5-4CF0-ADC6-E0F0E1D3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7FB-549F-402B-BAFB-B447907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A048-F033-4D6D-96D8-E2CE84D6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A172-2C8F-4A5F-97A8-484B1F0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25C-037F-4443-9F2C-B5F7CF48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0619-761F-4D04-8877-3B3573E4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345-7C8F-4E2D-A5A7-3E381E02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520-135D-4035-A2A2-95356514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DDF2-C88E-4DA6-99FB-A21300AD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3A27-C291-468D-B45E-037FC450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D93-10AA-4C1F-B679-85100B4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AF6E-3FD5-4132-BF3A-D810B5BA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593-2BC2-445E-BEF4-619DECD5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C994-7AFB-4B58-83AE-F4FF9D2E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385-3559-40A6-801C-6FB3658B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0C6-23A5-4BC4-9EC1-DC498E9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6852-4E75-4170-AC53-135AFF5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C413-895E-4183-91EE-9A972ACBEAE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926-0D0B-4BB0-B625-829FF224AEA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060280"/>
            <a:ext cx="80758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8800" spc="-1" strike="noStrike">
                <a:solidFill>
                  <a:srgbClr val="6767ff"/>
                </a:solidFill>
                <a:latin typeface="Arial"/>
              </a:rPr>
              <a:t>SWOT analiz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EFF3-6260-4AD5-AD2A-F47013162E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32720" y="-439632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604000" y="6021360"/>
            <a:ext cx="8244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47640" y="191628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>
                        <a:alpha val="77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749600" cy="1336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1486080" cy="1164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1546200" cy="151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2124000" y="1700280"/>
            <a:ext cx="2057400" cy="193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826-8CF2-4392-8345-E1D2D553E7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35760" y="-4955040"/>
            <a:ext cx="1526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16000" y="1844640"/>
          <a:ext cx="6504120" cy="4048200"/>
        </p:xfrm>
        <a:graphic>
          <a:graphicData uri="http://schemas.openxmlformats.org/drawingml/2006/table">
            <a:tbl>
              <a:tblPr/>
              <a:tblGrid>
                <a:gridCol w="2311560"/>
                <a:gridCol w="2097000"/>
                <a:gridCol w="2095560"/>
              </a:tblGrid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UTARN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MBE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JSK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IMBEN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C78-30E8-45E6-999E-683CCA28B4F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STRATE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LABOSTI PRETVORITI U S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RISTITI SNAGE ZA STVARANJE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TNJE PRETV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TI U MOGUĆ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81D-8B89-4A86-A2F1-D9EB350A4E3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44000" y="-1211400"/>
            <a:ext cx="900000" cy="26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3789000"/>
            <a:ext cx="822960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404640"/>
          <a:ext cx="8280360" cy="5415120"/>
        </p:xfrm>
        <a:graphic>
          <a:graphicData uri="http://schemas.openxmlformats.org/drawingml/2006/table">
            <a:tbl>
              <a:tblPr/>
              <a:tblGrid>
                <a:gridCol w="1223640"/>
                <a:gridCol w="1224000"/>
                <a:gridCol w="1008360"/>
                <a:gridCol w="1304640"/>
                <a:gridCol w="1173240"/>
                <a:gridCol w="1173240"/>
                <a:gridCol w="1173240"/>
              </a:tblGrid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TETNO PODRUČ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E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E I AKTIVNOS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OSTVARIVANJE CILJ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ŽNI RESURSI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INANCIJSKI, ORGANIZACIJSKI, LJUDSKI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e2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 DO KOJEGA ĆE SE CILJ OSTVAR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LEŽNA OSO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ERLJIVI POKAZATELJI OSTVARIVANJA CILJ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a su područja našeg rada koja najprije moramo promijenit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konkretne ciljeve želimo ostvariti u dogovorenom prioritetnom području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ifič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ljiv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ant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enski </a:t>
                      </a: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nirano</a:t>
                      </a:r>
                      <a:br>
                        <a:rPr sz="1400"/>
                      </a:br>
                      <a:r>
                        <a:rPr b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var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sve valja poduzimati da bi se ciljevi ostvarili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i je najbolji, najbrži, najučinkovitiji način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to ostvariti s najmanje mogućih troškov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neiskorištene kreativne ljudske resurse možemo za to iskoristiti?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na procjena vremena koje je potrebno da bi se došlo do cilj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ciljeve ostvariti što brže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ko preuzima odgovornost za cijeli postupak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znamo da smo ostvarili ciljeve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o to možemo 'opipljivo' dokazati?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85F-30A8-45D5-8428-D6AE088632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40720" y="-2896920"/>
            <a:ext cx="71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55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SAŽET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852640"/>
            <a:ext cx="822960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gledajte id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vjerite zahtjeve i ograni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58A-A6CB-4BE3-985C-1A4989D223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Arial"/>
              </a:rPr>
              <a:t>Sljedeći korac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pišite što slij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roučavanje prihvaćenih ide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aberite najbolje ideje i uskladite mišljenja </a:t>
            </a:r>
            <a:r>
              <a:rPr b="1" lang="hr-HR" sz="3200" spc="-1" strike="noStrike">
                <a:solidFill>
                  <a:srgbClr val="808080"/>
                </a:solidFill>
                <a:latin typeface="Arial"/>
              </a:rPr>
              <a:t>DEFINIRATI TRI PRIORITETNA   RAZVOJNA CILJ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redite korake koje trebate poduze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Počnite ostvarivati ide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8D9-9978-4E75-BC43-7BE8DA85E549}" type="slidenum">
              <a:t>15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921440" cy="12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HVALA NA SURADNJI 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1200240" cy="11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2EB-1C4C-449B-AC55-7E7FED3DC9D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50160" y="-4395600"/>
            <a:ext cx="698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560" y="1341000"/>
            <a:ext cx="7637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trenght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N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W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eaknese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SLABOST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pportunities –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PRIL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T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hreats - </a:t>
            </a:r>
            <a:r>
              <a:rPr b="1" lang="hr-HR" sz="4800" spc="-1" strike="noStrike">
                <a:solidFill>
                  <a:srgbClr val="ff0066"/>
                </a:solidFill>
                <a:latin typeface="Arial"/>
              </a:rPr>
              <a:t>PRIJET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736-BDD1-4A33-9B13-2FB1569135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32720" y="-336348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206064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>
                        <a:alpha val="77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64000" y="3933720"/>
            <a:ext cx="1749600" cy="133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124000" y="4005360"/>
            <a:ext cx="1486080" cy="116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292720" y="1916280"/>
            <a:ext cx="1546200" cy="1512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24000" y="1700280"/>
            <a:ext cx="2057400" cy="193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F23-8043-45F8-8239-D1667E9D42A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04000" y="-4330440"/>
            <a:ext cx="8244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27400"/>
            <a:ext cx="8229600" cy="30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100" spc="-1" strike="noStrike">
                <a:solidFill>
                  <a:srgbClr val="000000"/>
                </a:solidFill>
                <a:latin typeface="Arial"/>
              </a:rPr>
              <a:t>GDJE SMO DANAS?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CBA-8F95-436C-A9A4-C88D6ADF12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459280" y="-4366800"/>
            <a:ext cx="22716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7200" spc="-1" strike="noStrike">
                <a:solidFill>
                  <a:srgbClr val="000000"/>
                </a:solidFill>
                <a:latin typeface="Arial"/>
              </a:rPr>
              <a:t>GDJE BI MOGLI BITI U BUDUĆNOSTI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7E3-EB4E-4A57-94CC-66590B7BB0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2997360"/>
            <a:ext cx="6500880" cy="15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000000"/>
                </a:solidFill>
                <a:latin typeface="Arial"/>
              </a:rPr>
              <a:t>JASNO ODREDITI ŠTO SE ANALIZOM ŽELI OSTVARIT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DFA-90F8-48A1-9E99-9DD6BD1F28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ZAŠTO PROVODIMO ANALIZ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60640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poznavanje razvojnih potreba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upljanje podataka koji će pridonijeti razvoju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EF4-192A-4779-9CAD-E92E0A9895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Arial"/>
              </a:rPr>
              <a:t>PRAVI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udite kreativ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olje slaba ideja nego nikakva (VAŠE MIŠLJENJE JE VAŽ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skirajte, ne cenzuriraj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 kritiziraj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branjena evalu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574-3C40-40FE-AE54-BD961413A201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532720" y="-4366800"/>
            <a:ext cx="1540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32720" y="6021360"/>
            <a:ext cx="15408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03280" y="206064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ite dobre stra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bog čega je dobro biti učenik ili profesor u škol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AB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su sve mane, nedostaci, loše strane šk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ne funkcionira dobro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traži poboljšanj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ae8f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GUĆ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rojite sve neiskorištene mogućnosti, neiskorištene potencijale koji bi školu učinili još bolj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JET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sve okolnosti ugrožavaju i sprječavaju optimalan razvoj šk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i su rizici i ograničenja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B63-C535-4F9C-BAE4-C1F430F239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ojic</cp:lastModifiedBy>
  <dcterms:modified xsi:type="dcterms:W3CDTF">2008-12-31T10:27:39Z</dcterms:modified>
  <cp:revision>10</cp:revision>
  <dc:subject/>
  <dc:title>PowerPointova prezentaci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50</vt:r8>
  </property>
  <property fmtid="{D5CDD505-2E9C-101B-9397-08002B2CF9AE}" pid="3" name="Version">
    <vt:r8>4</vt:r8>
  </property>
</Properties>
</file>