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BAD-32E0-43A5-97AA-E2E9F1BF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A02-C6BC-4972-B9BE-CCEF04FD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2A00-9B25-410F-948B-17913142A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0D0-CEDC-4726-8212-CBF45057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FF32-7F2C-44EB-A936-E68BF5DD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4CD3B-32B2-455A-B2C7-2BD1C7D6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6F788-8B83-4F0B-B2EC-37388D0E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BFC9-3C60-4893-9C4E-BA66EB25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26BD-FDA4-4436-B943-96521E22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D3381-1ACA-4988-82DB-7D291512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0E54-3060-475E-9000-D5950535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B712-1B64-437B-BD07-B8659918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FB8E-C52E-42A0-9427-2F02F03F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9C4D-165C-4F66-9611-1F31B3AB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3450-4688-4DF7-9F5B-489BB340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49FD-3C6F-4DDD-B686-59B764F50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7857-A7EC-4CD6-A7BD-B88BB2B5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53504-CC93-4F71-9A58-20839533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2B320-CC82-4A4B-B4A5-9EB49679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0D8A8-7B01-48E1-A616-8D16D815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96392-03CB-42CC-A3F2-3DFA71FB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1A828-6108-4603-88D6-C1FB14F3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61AE-696E-4270-807F-3777F75D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08C6-E907-4538-9CDC-7E564A5D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A47EE-9DF6-4F33-AFA8-D51274C2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82CAD-7B51-46F0-9C2A-056B2864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E7640-0B4A-44F2-84FA-7668CE57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E6AC7-D9A6-49E9-978D-D987FCA0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E970C-6D0C-4945-BC59-30F69BF5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DBC76-F4CB-4931-8692-052EAEDC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4C67D-A458-4C69-975E-4E9CCE20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E5157-C1DA-4459-8ECA-52FE394F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847BB-7BAB-4138-BD38-4263FA6A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771-0BA6-4B57-AEA7-333D20D0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B1B92-1BB8-4C55-A016-CBD45722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32AB-02DB-4656-955F-1AF15AA7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B5F4A-F376-4312-BD62-EE13FE94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9E7F0-53D5-4B03-8805-A7493F60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F1AB-9036-4C9D-8481-11114417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4F307-E449-47DE-A3CF-76F96739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FE5C0-E076-4FE0-86CD-603AC42B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87525-CB57-430E-8273-6D86A87C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252BA-9A0A-4AA9-B6DE-D1848757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DA780-CB01-43B6-B51D-CD451AD2A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3D4-D713-47E5-A29E-DED03AB5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5E3D73-1022-4784-AB2A-AF8DC78D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74B78-ABFB-46B8-8874-F4F39D7F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35E8-5FDA-404E-A008-3A1EA4B4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D21C50-A583-4F79-AAC1-AD8F335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2C60-4540-4374-8E61-26DC73C0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E431-D018-4107-BC9F-EFA0775C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A7CB1-9EF1-4C3F-B168-2B5FC061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72E4A-18E3-488A-B68E-893001A2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F2F8F-3102-4C00-9C08-BE797622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64E5B-3F02-435B-AE39-8A6C0126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DE17-B8A5-450A-BE53-42C3442D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4FA04-D00E-42FF-9920-6EFA4553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73B17-EE79-47DC-9176-2AC4D9FE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376A7-CB2A-4A82-B1C6-576B6370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3035B-D537-4029-B6A9-5A055A9B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5ABB25-A192-427B-859F-663EB80D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730FDA-F383-4CBC-8043-587E49FB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2E73A-F6FC-4268-8E1A-B29DF359E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19D39-CE68-496E-8018-408FD355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49177-E81E-4A4B-82C8-C3FC0BE6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AEADC-8061-4E5A-8AD3-4C5E335B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358F-FA91-4EA7-B3A2-EC4BB137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C0701-B9EA-44C5-9650-9A8ADDD6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2098-9965-4EFF-B6AC-CA408FAEC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D8D76-67FD-40CC-B5DA-AF85DDBB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097EB-BC97-4E22-841B-29E9FB9D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85C05-9B0C-4858-9E88-1F87E530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790C1-D1EF-4EB2-9AD4-EAA5A885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61566-8CA8-497E-A4F7-1C98A22E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B8980-4915-4113-91FF-C9958F78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796BA-6535-4798-B05C-77F61CE4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E159E-D1DA-4901-9393-E2B0B793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489-5DD3-4871-901E-32AED7BA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54282-6E7E-406B-8ADE-D08C67A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44C16-6E89-4DB9-851F-CE613375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C7B23-BB61-441D-8A86-08891A1B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ADAC1-6E02-4EE4-8C52-F54776227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CE9CA-A3EB-4CF5-B798-DB3006A2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80D39-3824-41D0-AA90-11740DC4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68DA1-8A1A-4D73-96DE-91BC5DB6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372A8-52B4-4C56-A64F-C58BAD62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E9C62-1964-4735-935C-4EF8543C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530FD-9FE3-4541-A5E5-1F1AA521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8453-72BB-444A-A0D8-80608187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BC4CF-312C-4BBD-A453-19BAA631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041B2-6610-4ED6-935A-84623993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F601E-2702-4BDB-A56E-BF0C50F1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62C01-5B54-4013-A890-1BFE3A28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D75C9-9515-4AF1-B640-96E17AE0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4C552-2AFB-4DA9-9D3C-4C4B285E7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98F7D-C670-4555-8601-477308CB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1BD9-DAC4-461D-AF40-3970F9F2D8E9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avni poveznik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Ravni poveznik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Jednakokračni trokut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ravokutnik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ravokutnik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ravokutnik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ravokutnik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233C-EB69-495F-B280-C455F07EE9A6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kutnik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ravokutnik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8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80ff80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0f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8FBE-0F59-4D17-8572-BEF12560A50B}" type="slidenum">
              <a:rPr b="0" lang="hr-HR" sz="1400" spc="-1" strike="noStrike">
                <a:solidFill>
                  <a:srgbClr val="80ff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avni poveznik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Ravni poveznik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Jednakokračni trokut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Jednakokračni trokut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0AE7-9AD0-4574-ABAE-ED2E143196E9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avni poveznik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Jednakokračni trokut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F5E6-2E10-4A2E-964A-40C3503FA2B9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avni poveznik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avni poveznik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Jednakokračni trokut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7CF5-FC20-4BFF-BF67-2E916A1F6522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avni poveznik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Jednakokračni trokut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ravokutnik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80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80ff80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80ff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87A6-4CE7-4795-80D4-E3540130C779}" type="slidenum">
              <a:rPr b="0" lang="hr-HR" sz="1400" spc="-1" strike="noStrike">
                <a:solidFill>
                  <a:srgbClr val="80ff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avni poveznik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Jednakokračni trokut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00b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Ravni poveznik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00b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00b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009b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00b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336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AA7F-C11E-4B37-AF13-9C0C85A8A0A7}" type="slidenum">
              <a:rPr b="0" lang="hr-HR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childdevelopment.com/parenting/self_esteem" TargetMode="External"/><Relationship Id="rId3" Type="http://schemas.openxmlformats.org/officeDocument/2006/relationships/hyperlink" Target="http://www.familyeducation.com/" TargetMode="External"/><Relationship Id="rId4" Type="http://schemas.openxmlformats.org/officeDocument/2006/relationships/hyperlink" Target="http://www.pta.org/programs" TargetMode="External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http://www.self-esteem-nase.or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Znak 398"/>
          <p:cNvPicPr/>
          <p:nvPr/>
        </p:nvPicPr>
        <p:blipFill>
          <a:blip r:embed="rId1"/>
          <a:stretch/>
        </p:blipFill>
        <p:spPr>
          <a:xfrm>
            <a:off x="2916360" y="981000"/>
            <a:ext cx="32954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Georgia"/>
              </a:rPr>
              <a:t>Što o sebi kaže dijete niskog samopoštovanja?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“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Mene nitko ne voli. Ne, nemam prijatelja. Nemam hobi. Htjela sam se baviti plesom ili ritmikom, ali nisam. A i u školi mi teško ide. Koliko god da učim, nikad ne dobijem dobru ocjenu. Da, ove godine sam bolja u matematici, ali ne znam ja to ništa.”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Georgia"/>
              </a:rPr>
              <a:t>Što o sebi kaže dijete niskog samopoštovanja?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1"/>
          <a:stretch/>
        </p:blipFill>
        <p:spPr>
          <a:xfrm>
            <a:off x="0" y="2205000"/>
            <a:ext cx="3025800" cy="381636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2987640" y="1771560"/>
            <a:ext cx="5543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“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Mene nitko ne voli. Ne, nemam prijatelja. Nemam hobi. Htjela sam se baviti plesom ili ritmikom, ali nisam. A i u školi mi teško ide. Koliko god da učim, nikad ne dobijem dobru ocjenu. Da, ove godine sam bolja u matematici, ali ne znam ja to ništa.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BernhardMod BT"/>
              </a:rPr>
              <a:t>Osobine djeteta niskog samopoštovanja: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0" y="2205000"/>
            <a:ext cx="3025800" cy="3816360"/>
          </a:xfrm>
          <a:prstGeom prst="rect">
            <a:avLst/>
          </a:prstGeom>
          <a:ln w="0">
            <a:noFill/>
          </a:ln>
        </p:spPr>
      </p:pic>
      <p:sp>
        <p:nvSpPr>
          <p:cNvPr id="380" name="Rectangle 4"/>
          <p:cNvSpPr/>
          <p:nvPr/>
        </p:nvSpPr>
        <p:spPr>
          <a:xfrm>
            <a:off x="2987640" y="1484280"/>
            <a:ext cx="55436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N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ije zadovoljn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sobom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P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odcjenjuje se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I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ma negativno mišljenje o sebi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S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voje neuspjehe pripisuj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e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vlastitoj nesposobnosti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U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spjeh pripisuj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e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sre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ć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i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S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klon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o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je 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tra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ž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iti odobravanje od drugih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Oč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ekuje da će do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ž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ivjeti neuspjeh i da 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će ga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drugi odbaciti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Češće se sukobljava s roditeljim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99"/>
                </a:solidFill>
                <a:latin typeface="Georgia"/>
              </a:rPr>
              <a:t>Postoji li previsoko samopoštovanje?</a:t>
            </a:r>
            <a:endParaRPr b="0" lang="en-US" sz="36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BernhardMod BT"/>
              </a:rPr>
              <a:t>NE. Samopoštovanje je osobina koja nema dva suprotna pola. Kao što ne možemo biti previše zdravi, nije moguće imati ni previše samopoštovanja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BernhardMod BT"/>
              </a:rPr>
              <a:t>Problem je ipak kod onih ljudi koji svoje “samopoštovanje” baziraju na lažnim činjenicama (“Ja sam najpametniji, nema pametnije osobe od mene.”). Tu se radi o samoljublju a ne samopoštovanju!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Razvoj samopoštovanja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84" name="Picture 5" descr=""/>
          <p:cNvPicPr/>
          <p:nvPr/>
        </p:nvPicPr>
        <p:blipFill>
          <a:blip r:embed="rId1"/>
          <a:stretch/>
        </p:blipFill>
        <p:spPr>
          <a:xfrm rot="20536200">
            <a:off x="2700000" y="1916280"/>
            <a:ext cx="2890800" cy="327312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6"/>
          <p:cNvSpPr/>
          <p:nvPr/>
        </p:nvSpPr>
        <p:spPr>
          <a:xfrm>
            <a:off x="293760" y="5273640"/>
            <a:ext cx="845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3366"/>
                </a:solidFill>
                <a:latin typeface="Georgia"/>
              </a:rPr>
              <a:t>Samopoštovanje nije urođeno, već se razvija tijekom života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54b37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c54b37"/>
                </a:solidFill>
                <a:latin typeface="Georgia"/>
              </a:rPr>
              <a:t>Prve znakove samopoštovanja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 u djece naziremo u drugoj godini života. U toj dobi djeca počinju shvaćati sebe same odvojeno od svoje majke i drugih značajnih osoba u njihovu životu.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S tri godine djeca počinju donositi prve sudove o sebi i vrednovati poruke koje dolaze iz vanjskog svijeta a odnose se na njih. U toj dobi pokazuju i snažnu želju učiniti nešto samostalno i stoga često čujemo NE i NEĆU kad im pokušavamo nešto nametnuti.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	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	</a:t>
            </a: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U predškolskoj dobi</a:t>
            </a:r>
            <a:r>
              <a:rPr b="1" lang="hr-HR" sz="2600" spc="-1" strike="noStrike">
                <a:solidFill>
                  <a:srgbClr val="003366"/>
                </a:solidFill>
                <a:latin typeface="BernhardMod BT"/>
              </a:rPr>
              <a:t> intenzivno uče nove vještine (npr. vezanje cipela, crtanje i sl.), te postaju svjesna kako svojih interesa, tako i svojih sposobnosti u pojedinim područjima njihove aktivnosti. U ovoj dobi djeca prvi put svoj rad počinju uspoređivati s radom druge djece i tako stvaraju sliku o vlastitoj vrijednosti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	</a:t>
            </a:r>
            <a:r>
              <a:rPr b="1" lang="hr-HR" sz="2800" spc="-1" strike="noStrike">
                <a:solidFill>
                  <a:srgbClr val="c54b37"/>
                </a:solidFill>
                <a:latin typeface="Georgia"/>
              </a:rPr>
              <a:t>Polaskom u školu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 djeca se još intenzivnije počinju uspoređivati sa svojim vršnjacima (koliko je visoko u odnosu na druge, kako piše, koliko brzo računa ili trči). U školskoj sredini djeca imaju priliku prepoznati svoje dobre i loše strane.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U opisu sebe koriste riječi koje se odnose na: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njihove tjelesne, socijalne i intelektualne kompetentnosti,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percepciju funkcioniranja u školi,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osobine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 koje su vezane uz obitelj, vršnjake i svoju emocionalnu zrelost.</a:t>
            </a:r>
            <a:r>
              <a:rPr b="0" lang="en-GB" sz="2800" spc="-1" strike="noStrike">
                <a:solidFill>
                  <a:srgbClr val="003366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Georgia"/>
              </a:rPr>
              <a:t>Ima li razlika između dječaka i djevojčica?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3600" spc="-1" strike="noStrike">
                <a:solidFill>
                  <a:srgbClr val="003366"/>
                </a:solidFill>
                <a:latin typeface="Georgia"/>
              </a:rPr>
              <a:t>Kako to istraživanja pokazuju, dječacima su važnije njihove sposobnosti i talenti, a djevojčicama tjelesni izgled i uspjeh među vršnjacima.</a:t>
            </a:r>
            <a:endParaRPr b="0" lang="en-US" sz="3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BernhardMod BT"/>
              </a:rPr>
              <a:t>Da li se samopoštovanje mijenja?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DA. Čak se i osobe koje općenito imaju visoko samopoštovanje, ponekad nađu u razdoblju života u kojem se ne mogu pohvaliti dobrim mislima o samima sebi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Istraživanja pokazuju da je u srednjem (od 6. do 10. godine)  i kasnom djetinjstvu (od 10. do 12. godine) samopoštovanje uglavnom stabilno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U adolescenciji dolazi do mnogih promjena. Prema većini autora, početkom adolescencije (oko 12 godina) samopoštovanje uglavnom opada, a povećava se opet polaskom u srednju školu. Neki istraživači ukazuju da čak 1/6 adolescenata ima kronično nisko samopoštovanje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618920" y="5013000"/>
            <a:ext cx="5832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99"/>
                </a:solidFill>
                <a:latin typeface="Georgia"/>
              </a:rPr>
              <a:t>razvoj samopoštovanja kod školskog djeteta</a:t>
            </a:r>
            <a:endParaRPr b="0" lang="en-US" sz="36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1332000" y="0"/>
            <a:ext cx="612144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99"/>
                </a:solidFill>
                <a:latin typeface="BernhardMod BT"/>
              </a:rPr>
              <a:t>Kako roditelji mogu pomoći razvoj samopoštovanja svoje djece?</a:t>
            </a:r>
            <a:endParaRPr b="0" lang="en-US" sz="36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1"/>
          <a:stretch/>
        </p:blipFill>
        <p:spPr>
          <a:xfrm rot="20536200">
            <a:off x="2339640" y="2276280"/>
            <a:ext cx="33368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hr-HR" sz="2800" spc="-1" strike="noStrike">
                <a:solidFill>
                  <a:srgbClr val="000099"/>
                </a:solidFill>
                <a:latin typeface="BernhardMod BT"/>
              </a:rPr>
              <a:t>Djeca od roditelja i drugih značajnih osoba iz njihova života traže potvrdu da su voljena, važna, sposobna. Zbog toga značajnu ulogu u nastanku pozitivne slike kod djece imaju roditelji i druge odrasle osobe koje brinu o njima.</a:t>
            </a:r>
            <a:br>
              <a:rPr sz="2800"/>
            </a:br>
            <a:br>
              <a:rPr sz="2800"/>
            </a:br>
            <a:r>
              <a:rPr b="1" lang="hr-HR" sz="2800" spc="-1" strike="noStrike">
                <a:solidFill>
                  <a:srgbClr val="000099"/>
                </a:solidFill>
                <a:latin typeface="BernhardMod BT"/>
              </a:rPr>
              <a:t>Kako roditelji reagiraju na djetetov uspjeh, neuspjeh, odluke koje donosi, situacije u kojima se nađe, ono zaključuje ne samo iz njihovih verbalnih izjava, već i iz neverbalnih poruka, promatrajući stvarno ponašanje. </a:t>
            </a:r>
            <a:br>
              <a:rPr sz="2800"/>
            </a:br>
            <a:endParaRPr b="0" lang="en-US" sz="28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	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Ne propustite priliku da djetetu ka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</a:rPr>
              <a:t>ž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ete što vam se svi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</a:rPr>
              <a:t>đ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a kod njega, što je dobro u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</a:rPr>
              <a:t>č</a:t>
            </a:r>
            <a:r>
              <a:rPr b="1" lang="hr-HR" sz="2800" spc="-1" strike="noStrike">
                <a:solidFill>
                  <a:srgbClr val="000099"/>
                </a:solidFill>
                <a:latin typeface="Georgia"/>
                <a:ea typeface="Times New Roman"/>
              </a:rPr>
              <a:t>inilo i da ga volite.</a:t>
            </a:r>
            <a:endParaRPr b="0" lang="en-US" sz="28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457200" y="1628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Roditelji su često skloni djeci ukazivati samo na pogreške. Neka djeca nisu sigurna da ih roditelji vole samo zato što im to nikada ili dovoljno često nisu rekli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Reći djetetu da ga volimo, čak i kada je pogriješilo, ne mora značiti da prihvaćamo njegovo pogrešno ponašanje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Zagrljaj, osmijeh, pogled odobravanja i nježan dodir također su snažni izrazi ljubavi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Osjećaj da je voljeno, da je za nas posebno, snažno hrani djetetovo samopoštovanje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hr-HR" sz="3200" spc="-1" strike="noStrike">
                <a:solidFill>
                  <a:srgbClr val="000099"/>
                </a:solidFill>
                <a:latin typeface="BernhardMod BT"/>
              </a:rPr>
              <a:t>Pohvalite dijete kada je:</a:t>
            </a:r>
            <a:br>
              <a:rPr sz="3200"/>
            </a:br>
            <a:r>
              <a:rPr b="1" lang="hr-HR" sz="3200" spc="-1" strike="noStrike">
                <a:solidFill>
                  <a:srgbClr val="000099"/>
                </a:solidFill>
                <a:latin typeface="BernhardMod BT"/>
              </a:rPr>
              <a:t>Uspješno dovršilo neki zadatak ili obvezu: “Dobro si pokosio travu.”</a:t>
            </a:r>
            <a:br>
              <a:rPr sz="3200"/>
            </a:br>
            <a:r>
              <a:rPr b="1" lang="hr-HR" sz="3200" spc="-1" strike="noStrike">
                <a:solidFill>
                  <a:srgbClr val="000099"/>
                </a:solidFill>
                <a:latin typeface="BernhardMod BT"/>
              </a:rPr>
              <a:t>Pokazalo da ima talenta: “Jako lijep crtež. Imaš ukusa za odabir boja.” Tako ćete kod djeteta potaknuti interes za ativnosti koje mu pričinjaju zadovoljstvo i koje može samostalno obavljati.</a:t>
            </a:r>
            <a:br>
              <a:rPr sz="3200"/>
            </a:br>
            <a:r>
              <a:rPr b="1" lang="hr-HR" sz="3200" spc="-1" strike="noStrike">
                <a:solidFill>
                  <a:srgbClr val="000099"/>
                </a:solidFill>
                <a:latin typeface="BernhardMod BT"/>
              </a:rPr>
              <a:t>Iskazalo svoje dobre osobine: “Sviđa mi se kada priznaš da si pogriješila čak i onda kada ti je teško.”</a:t>
            </a:r>
            <a:r>
              <a:rPr b="0" lang="hr-HR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br>
              <a:rPr sz="4000"/>
            </a:br>
            <a:r>
              <a:rPr b="0" lang="hr-HR" sz="4000" spc="-1" strike="noStrike">
                <a:solidFill>
                  <a:srgbClr val="000099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50920" y="476280"/>
            <a:ext cx="8447040" cy="586584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c54b37"/>
                </a:solidFill>
                <a:latin typeface="BernhardMod BT"/>
              </a:rPr>
              <a:t>	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Georgia"/>
              </a:rPr>
              <a:t>Ne kritizirajte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U ljutnji, koju je izazvalo djetetovo ponašanje, neki roditelji izgovaraju kritike na njegov račun. Zbog njih se ono osjeća nevoljeno i povrijeđeno. 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“Smotan si. Ništa ne možeš učiniti kako treba.”,  “Zločesta si.”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</a:rPr>
              <a:t>Roditelji se prema svojoj djeci trebaju ponašati na isti način kako žele da to čine osobe koje su djetetu nepoznate.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Nikad ne kritizirajte dijete (“Ti si loš dje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č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ak.”), ve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ć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 njegovo ponašanje (“To što 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č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iniš je loše.”).</a:t>
            </a:r>
            <a:r>
              <a:rPr b="1" lang="en-GB" sz="2800" spc="-1" strike="noStrike">
                <a:solidFill>
                  <a:srgbClr val="9933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99"/>
                </a:solidFill>
                <a:latin typeface="Georgia"/>
              </a:rPr>
              <a:t>Učite dijete pozitivnom govoru</a:t>
            </a:r>
            <a:endParaRPr b="0" lang="en-US" sz="36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BernhardMod BT"/>
              </a:rPr>
              <a:t>	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0" lang="hr-HR" sz="2600" spc="-1" strike="noStrike">
                <a:solidFill>
                  <a:srgbClr val="003366"/>
                </a:solidFill>
                <a:latin typeface="Georgia"/>
              </a:rPr>
              <a:t>Istraživanja su pokazala da se uglavnom osjećamo onako kako se ponašamo i onako kako govorimo. Što više dijete spominje dobre stvari o samome sebi, to će više biti uvjereno u ono što govori. Zato, potičite dijete da govori pozitivno o sebi i drugima: “Mislim da mogu rješiti ovaj problem ako se potrudim.” 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Georgia"/>
                <a:ea typeface="Times New Roman"/>
              </a:rPr>
              <a:t>Pomozite djetetu da nau</a:t>
            </a: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č</a:t>
            </a:r>
            <a:r>
              <a:rPr b="1" lang="hr-HR" sz="3200" spc="-1" strike="noStrike">
                <a:solidFill>
                  <a:srgbClr val="000099"/>
                </a:solidFill>
                <a:latin typeface="Georgia"/>
                <a:ea typeface="Times New Roman"/>
              </a:rPr>
              <a:t>i donositi odluke</a:t>
            </a: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 i</a:t>
            </a:r>
            <a:r>
              <a:rPr b="1" lang="hr-HR" sz="3200" spc="-1" strike="noStrike">
                <a:solidFill>
                  <a:srgbClr val="000099"/>
                </a:solidFill>
                <a:latin typeface="Georgia"/>
                <a:ea typeface="Times New Roman"/>
              </a:rPr>
              <a:t> rješavati probleme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Već mlađa djeca (3 i više godina) su sposobna donositi prve odluke (ako im to dopustite): </a:t>
            </a:r>
            <a:r>
              <a:rPr b="1" i="1" lang="hr-HR" sz="2800" spc="-1" strike="noStrike">
                <a:solidFill>
                  <a:srgbClr val="003366"/>
                </a:solidFill>
                <a:latin typeface="Georgia"/>
              </a:rPr>
              <a:t>“Želiš li obući plave ili zelene čarape?”,”Koji sok želiš?”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Starija djeca spremna su donositi i važnije odluke, pogotovo ako ih na to pripremite. 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Samostalno donošenje odluka i rješavanje problema prilika je za dijete da preuzme odgovornost za svoje ponašanje. Naučit će da svi ponekad griješimo u svojim odlukama i da se greške mogu ispraviti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c54b37"/>
                </a:solidFill>
                <a:latin typeface="Georgia"/>
              </a:rPr>
              <a:t>I ne zaboravite: ljudski je griješiti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4136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Georgia"/>
              </a:rPr>
              <a:t>Učite dijete da si postavlja i ostvaruje ciljeve: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BernhardMod BT"/>
              </a:rPr>
              <a:t>Vrlo je važno da su ciljevi realni s obzirom na djetetovu dob i sposobnosti. Ciljevi koji su djetetu neostvarivi vode ga k razočarenju i osjećaju bespomoćnosti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66cc"/>
                </a:solidFill>
                <a:latin typeface="BernhardMod BT"/>
              </a:rPr>
              <a:t>	</a:t>
            </a:r>
            <a:r>
              <a:rPr b="0" lang="hr-HR" sz="2400" spc="-1" strike="noStrike">
                <a:solidFill>
                  <a:srgbClr val="cc3300"/>
                </a:solidFill>
                <a:latin typeface="BernhardMod BT"/>
              </a:rPr>
              <a:t>Znate li priču o buhi koja je uhvačena u kutiju šibica? Skakala je i skakala ne bi li izašla na svjetlo dana, međutim, stalno je udarala u poklopac kutijice. Na koncu se umorila. A kad su kutijicu otvorili... ona više nije niti pokušavala</a:t>
            </a:r>
            <a:r>
              <a:rPr b="0" lang="hr-HR" sz="2400" spc="-1" strike="noStrike">
                <a:solidFill>
                  <a:srgbClr val="3366cc"/>
                </a:solidFill>
                <a:latin typeface="BernhardMod BT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BernhardMod BT"/>
              </a:rPr>
              <a:t>Za ostvarenje ciljeva potrebno je odrediti male ciljeve-korake čije ostvarenje će dijete dovesti do konačnog cilj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I još nekoliko malih savjeta: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557360"/>
            <a:ext cx="8229600" cy="475128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Pružite djetetu priliku da pomogne drugima (npr. nekom vršnjaku, mlađem djetetu ili starijoj osobi)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Va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ž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no je djetetu omogu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ć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iti i poticati ga da otvoreno govori o svojim osje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ć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ajim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Pomozite mu da realno prihvati svoje jake strane kao i slabosti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Razgovarajte s njim o njegovim korijenim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Ne uspoređujte ga s braćom i sestram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	</a:t>
            </a:r>
            <a:r>
              <a:rPr b="0" lang="hr-HR" sz="2800" spc="-1" strike="noStrike">
                <a:solidFill>
                  <a:srgbClr val="003366"/>
                </a:solidFill>
                <a:latin typeface="Georgia"/>
                <a:ea typeface="Times New Roman"/>
              </a:rPr>
              <a:t>Neka humor bude prisutan u vašem domu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be03">
              <a:alpha val="3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3366"/>
                </a:solidFill>
                <a:latin typeface="Georgia"/>
              </a:rPr>
              <a:t>Ne zaboravite:</a:t>
            </a:r>
            <a:endParaRPr b="0" lang="en-US" sz="3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BernhardMod BT"/>
              </a:rPr>
              <a:t>Informacije koje djeci (i odraslima) daju njima važne osobe (roditelji, učitelji, rođaci i prijatelji), ujedno i najviše utječu na njihovo samopoštovanje. Zato je djeci važno dati do znanja kada su nešto učinila dobro te im dati do znanja da se i greške mogu ispravljati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000099"/>
                </a:solidFill>
                <a:latin typeface="Georgia"/>
              </a:rPr>
              <a:t>Samopoštovanje je...</a:t>
            </a:r>
            <a:endParaRPr b="0" lang="en-US" sz="54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56" name="Picture 4" descr=""/>
          <p:cNvPicPr/>
          <p:nvPr/>
        </p:nvPicPr>
        <p:blipFill>
          <a:blip r:embed="rId1"/>
          <a:stretch/>
        </p:blipFill>
        <p:spPr>
          <a:xfrm rot="20118600">
            <a:off x="755280" y="1773000"/>
            <a:ext cx="2724120" cy="34192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5"/>
          <p:cNvSpPr/>
          <p:nvPr/>
        </p:nvSpPr>
        <p:spPr>
          <a:xfrm>
            <a:off x="3492360" y="1989000"/>
            <a:ext cx="45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Georgia"/>
              </a:rPr>
              <a:t>negativna ili pozitivna slika o sebi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To je način na koji vrednujemo ono što činimo, ono što jesmo i rezultate koje postižem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Literatura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417" name="Picture 5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53920" cy="141300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7"/>
          <p:cNvSpPr/>
          <p:nvPr/>
        </p:nvSpPr>
        <p:spPr>
          <a:xfrm>
            <a:off x="468360" y="19162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Bezinović, P. i Lacković-Grgin, K. (1990.). Percepcija vlastite kompetentnosti, tjelesnog izgleda i samopoštovanja kod 10-godišnje djece,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Primjenjena psihologija,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11.,71-79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Brajković, S. Živković, Ž. (2002.).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Ja to mogu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. Osijek: Nanse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Dinkmeyer, D.Sr., McKay, G. D. (1997.).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The Parents Handbook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. Minnesota: AG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Lacković-Grgin, K. (1994.).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Samopoimanje mladih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. Jastrebarsko: Naklada Slap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Lindenfield, G. (2001.).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Confident teens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. London: Thorsons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Severe, S. (2000.). </a:t>
            </a:r>
            <a:r>
              <a:rPr b="1" i="1" lang="hr-HR" sz="1800" spc="-1" strike="noStrike">
                <a:solidFill>
                  <a:srgbClr val="003366"/>
                </a:solidFill>
                <a:latin typeface="Arial"/>
              </a:rPr>
              <a:t>How to Behave</a:t>
            </a: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. London: Vrmilion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childdevelopment.com/parenting/self_estee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familyeducation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3366"/>
                </a:solidFill>
                <a:latin typeface="Arial"/>
              </a:rPr>
              <a:t>www.kidsource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www.pta.org/program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99"/>
                </a:solidFill>
                <a:latin typeface="Georgia"/>
              </a:rPr>
              <a:t>Preporučujemo:</a:t>
            </a:r>
            <a:endParaRPr b="0" lang="en-U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420" name="Picture 3" descr="animleser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853920" cy="1413000"/>
          </a:xfrm>
          <a:prstGeom prst="rect">
            <a:avLst/>
          </a:prstGeom>
          <a:ln w="0">
            <a:noFill/>
          </a:ln>
        </p:spPr>
      </p:pic>
      <p:sp>
        <p:nvSpPr>
          <p:cNvPr id="421" name="Rectangle 4"/>
          <p:cNvSpPr/>
          <p:nvPr/>
        </p:nvSpPr>
        <p:spPr>
          <a:xfrm>
            <a:off x="324000" y="198900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iljković, D. (1996). Roditelji i dječje samopouzdanje,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Zrno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, 46.,8-10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Delač-Hrupelj, J., Miljković D., Lugomer Armano, G. I sur. (2000.)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Lijepo je biti roditelj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 Zagreb: Kreativ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iljković, D. (1996).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Pomozite svojoj djeci da razviju samopouzdanje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, Đakovo: Temp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iljković, D. I Rijavec, M. (2002).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Bolje biti vjetar nego list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 Zagreb: IEP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Miljković, D. I Rijavec, M.(1994).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Čuda se ipak događaju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 Zagreb: IE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Sullo, R. A. (1995). </a:t>
            </a:r>
            <a:r>
              <a:rPr b="0" i="1" lang="hr-HR" sz="2000" spc="-1" strike="noStrike">
                <a:solidFill>
                  <a:srgbClr val="003366"/>
                </a:solidFill>
                <a:latin typeface="Arial"/>
              </a:rPr>
              <a:t>Učite ih da budu sretni</a:t>
            </a: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. Zagreb: Aline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3366"/>
                </a:solidFill>
                <a:latin typeface="Arial"/>
              </a:rPr>
              <a:t>www.school.discovery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www.self-esteem-nase.or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29672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99"/>
                </a:solidFill>
                <a:latin typeface="Bookman Old Style"/>
              </a:rPr>
              <a:t>Zašto je poželjno da djeca imaju visoko samopoštovanje?</a:t>
            </a:r>
            <a:endParaRPr b="0" lang="en-US" sz="36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59" name="Picture 5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4716360" cy="34783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6" descr=""/>
          <p:cNvPicPr/>
          <p:nvPr/>
        </p:nvPicPr>
        <p:blipFill>
          <a:blip r:embed="rId2"/>
          <a:stretch/>
        </p:blipFill>
        <p:spPr>
          <a:xfrm rot="1129800">
            <a:off x="5724000" y="2781360"/>
            <a:ext cx="27244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Način na koji dijete vidi samo sebe, značajno utječe na njegove osjećaje, njegov rad i naposljetku na njegovo postignuće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Što dijete ima veće samopoštovanje, bit će samouvjerenije u svoje sposobnosti, lakše će nalaziti prijatelje, lakše donositi odluke. Ukratko, djeca visokog samopoštovanja općenito su uspješnija u životu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Samopoštovanje utječe na školski uspjeh. Djeca koja imaju pozitivno mišljenje o sebi, češće imaju bolji uspjeh u školi. Dobar školski uspjeh opet povećava njihovo samopoštovanje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Djeca koja imaju lošiji uspjeh u školi, često imaju i nisko samopoštovanje.</a:t>
            </a: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2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76320">
            <a:solidFill>
              <a:srgbClr val="bbbe03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Istraživanja su pokazala da nisko samopoštovanje kod većine djece može pridonijeti (uz neke druge okolnosti kao što su stresne situacije) emocionalnim problemima, a može doći i do depresije, maloljetničke delikvencije, anoreksije i drugih ozbiljnih psihičkih poremećaj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	</a:t>
            </a:r>
            <a:r>
              <a:rPr b="1" lang="hr-HR" sz="2800" spc="-1" strike="noStrike">
                <a:solidFill>
                  <a:srgbClr val="003366"/>
                </a:solidFill>
                <a:latin typeface="Georgia"/>
              </a:rPr>
              <a:t>Djeca visokog samopoštovanja znaju se oduprijeti negativnom utjecaju vršnjaka: lakše će odbiti ponuđen alkohol ili drogu. Takva djeca lakše izlaze na kraj sa svim životnim izazovima.</a:t>
            </a: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99"/>
                </a:solidFill>
                <a:latin typeface="Georgia"/>
              </a:rPr>
              <a:t>Što o sebi kaže dijete visokog samopoštovanja?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0" y="2205000"/>
            <a:ext cx="3025800" cy="381636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5"/>
          <p:cNvSpPr/>
          <p:nvPr/>
        </p:nvSpPr>
        <p:spPr>
          <a:xfrm>
            <a:off x="2987640" y="1771560"/>
            <a:ext cx="554364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“</a:t>
            </a:r>
            <a:r>
              <a:rPr b="1" lang="hr-HR" sz="2600" spc="-1" strike="noStrike">
                <a:solidFill>
                  <a:srgbClr val="003366"/>
                </a:solidFill>
                <a:latin typeface="Georgia"/>
              </a:rPr>
              <a:t>Volim se igrati s drugom djecom. Uglavnom se dobro slažemo. U razredu imam zaista puno prijatelja. Što se tiče učenja, mogu reći da sam dobar učenik. Ipak, dogodi mi se i pokoja loša ocjena. To je uglavnom onda kada se nisam dovoljno trudio. Imam mnogo hobija: igram nogomet s dečkima, izrađujem makete i sviram gitaru. Kako sve uspjevam? Pa to je bar lako!”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bbbe03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3366"/>
                </a:solidFill>
                <a:latin typeface="Georgia"/>
              </a:rPr>
              <a:t>Osobine djeteta visokog samopoštovanja:</a:t>
            </a:r>
            <a:endParaRPr b="0" lang="en-US" sz="4000" spc="-1" strike="noStrike">
              <a:solidFill>
                <a:srgbClr val="000099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24000" y="1628640"/>
            <a:ext cx="790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Lako sklapa prijateljstva i uspješno se zabavlja samo ili u društvu s drugom djecom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Veselo je i puno energije, koju često prenosi i na drugu djecu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Uspješno surađuje s vršnjacima i odraslima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Zna donositi odluke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Kreativno je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Sigurno je u svoje sposobnosti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R</a:t>
            </a:r>
            <a:r>
              <a:rPr b="0" lang="en-GB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ad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i</a:t>
            </a:r>
            <a:r>
              <a:rPr b="0" lang="en-GB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 bolje i uz manji napor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Z</a:t>
            </a:r>
            <a:r>
              <a:rPr b="0" lang="en-GB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adovoljnij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e je</a:t>
            </a:r>
            <a:r>
              <a:rPr b="0" lang="en-GB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 svojim 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radom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O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</a:rPr>
              <a:t>č</a:t>
            </a:r>
            <a:r>
              <a:rPr b="0" lang="hr-HR" sz="2400" spc="-1" strike="noStrike">
                <a:solidFill>
                  <a:srgbClr val="003366"/>
                </a:solidFill>
                <a:latin typeface="Georgia"/>
                <a:ea typeface="Times New Roman"/>
              </a:rPr>
              <a:t>ekuje uspjeh.</a:t>
            </a: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366c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Gill Sans MT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2987640" y="1771560"/>
            <a:ext cx="55436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72" name="Picture 5" descr=""/>
          <p:cNvPicPr/>
          <p:nvPr/>
        </p:nvPicPr>
        <p:blipFill>
          <a:blip r:embed="rId1"/>
          <a:stretch/>
        </p:blipFill>
        <p:spPr>
          <a:xfrm rot="1129800">
            <a:off x="5724000" y="2781360"/>
            <a:ext cx="27244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23:37:07Z</dcterms:created>
  <dc:creator>sanja</dc:creator>
  <dc:description/>
  <dc:language>en-US</dc:language>
  <cp:lastModifiedBy>Kreso Stojic</cp:lastModifiedBy>
  <dcterms:modified xsi:type="dcterms:W3CDTF">2009-05-15T19:51:14Z</dcterms:modified>
  <cp:revision>19</cp:revision>
  <dc:subject/>
  <dc:title>Slide 1</dc:title>
</cp:coreProperties>
</file>