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v3_sound001.wav" ContentType="audio/x-wav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7.jpeg" ContentType="image/jpeg"/>
  <Override PartName="/ppt/media/image3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104.png" ContentType="image/pn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5.jpeg" ContentType="image/jpeg"/>
  <Override PartName="/ppt/media/image70.jpeg" ContentType="image/jpeg"/>
  <Override PartName="/ppt/media/image99.jpeg" ContentType="image/jpeg"/>
  <Override PartName="/ppt/media/image95.jpeg" ContentType="image/jpeg"/>
  <Override PartName="/ppt/media/image2.wmf" ContentType="image/x-wmf"/>
  <Override PartName="/ppt/media/image93.jpeg" ContentType="image/jpeg"/>
  <Override PartName="/ppt/media/image96.jpeg" ContentType="image/jpeg"/>
  <Override PartName="/ppt/media/image76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51.jpeg" ContentType="image/jpeg"/>
  <Override PartName="/ppt/media/image38.jpeg" ContentType="image/jpeg"/>
  <Override PartName="/ppt/media/image97.jpeg" ContentType="image/jpeg"/>
  <Override PartName="/ppt/media/image23.jpeg" ContentType="image/jpeg"/>
  <Override PartName="/ppt/media/image102.jpeg" ContentType="image/jpeg"/>
  <Override PartName="/ppt/media/image82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76E8-AFE4-473A-8384-5C30DF4DEBE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kblknlnmč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504-D63F-4048-B762-AE0E0948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EE0-5054-4A61-8580-5A2E80B5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93D-83A7-4E53-9AB8-23A6B2CB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8A3-A8C9-4B71-8BA2-F0B92CD7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B1F3-92CE-43CE-AB06-63E8AD92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63A7-BCDC-48DF-82FB-84DAA091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9C1D-66D4-4B39-8E5C-0F39A91B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9BF1-0804-429C-9F6D-6FD6C95C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162B-ABBF-4B7A-A4CE-828BB69D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9F0E-348D-4999-B8A9-EF0C4E83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7A3-936E-48FA-9D74-6F4814F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A16-2045-45AD-907A-D9937B04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28F1-46CB-4901-BC7C-3537B2A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8BF3-927D-40F0-A3B9-D8FD746C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170-0EA8-4C9F-8DDE-32F07760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5E0B-D03D-4DF0-9428-BD18C6AD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27CA-0694-405C-B4AB-8F9DCF60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517-F748-4AE1-A1D9-BD5BCE8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915-1A67-42DA-B368-02DD2647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CDF-2771-4E99-B375-6D83118D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6F2-CD34-4C29-A034-A28BA6C1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719-3AE1-4C01-BA8D-1B581F9F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B0D-B3E7-4DD9-9C63-E324585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898-52C9-42FC-825B-CDF8A0B1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3BF8-A68C-43A7-A44D-DEDB1F993675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3A8-F6F7-46A9-BDC0-BD4C843E8F61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3_sound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0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93.jpeg"/><Relationship Id="rId6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0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png"/><Relationship Id="rId4" Type="http://schemas.openxmlformats.org/officeDocument/2006/relationships/image" Target="../media/image105.jpeg"/><Relationship Id="rId5" Type="http://schemas.openxmlformats.org/officeDocument/2006/relationships/image" Target="../media/image10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21195600">
            <a:off x="2124000" y="508428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00ccff"/>
                </a:solidFill>
                <a:latin typeface="Arial"/>
              </a:rPr>
              <a:t>VO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2" name="v3_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ecff"/>
                </a:solidFill>
                <a:latin typeface="Arial"/>
              </a:rPr>
              <a:t>2.) Suradnja s roditeljim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jesečna aktiv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kupljanje podata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ost predava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2184480" cy="2911320"/>
          </a:xfrm>
          <a:prstGeom prst="rect">
            <a:avLst/>
          </a:prstGeom>
          <a:ln w="28440">
            <a:solidFill>
              <a:srgbClr val="ff9966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305320" y="1600200"/>
            <a:ext cx="2181240" cy="2908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Zoran Nakić,</a:t>
            </a: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hidrogeolo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ocent na Rudarsko geološko - naftnom fakulte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dručje zanimanja: V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oditelj učenika 2.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 učenicima izveo nekoliko pok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bjasnio i poučio kako voda putuje od izvora do slavine u našem do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233 0.0088 L -0.26528 0.05648 C -0.24497 0.06736 -0.21458 0.07361 -0.18281 0.07361 C -0.1467 0.07361 -0.11771 0.06736 -0.09722 0.05648 L 0 0.0088 E">
                                      <p:cBhvr>
                                        <p:cTn id="318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3.) Predme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rvatski jezik – izrada razrednih novina na temu zaštita vode u našem zavičaj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iroda i društvo – projekt upoznajem kapljicu vode od izvora do kućanst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ikovna kultura – kapljica vode mijenja svijet, kombinirana tehn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lazbena kultura – Kiša pada, ritamska struk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ređenje pan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rganizirano slobodno vrije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štedimo vo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2210040" cy="210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98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98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319200" y="1314000"/>
            <a:ext cx="5824440" cy="4128120"/>
            <a:chOff x="3319200" y="1314000"/>
            <a:chExt cx="5824440" cy="4128120"/>
          </a:xfrm>
        </p:grpSpPr>
        <p:sp>
          <p:nvSpPr>
            <p:cNvPr id="318" name="_s362501"/>
            <p:cNvSpPr/>
            <p:nvPr/>
          </p:nvSpPr>
          <p:spPr>
            <a:xfrm>
              <a:off x="4787280" y="1413000"/>
              <a:ext cx="1742400" cy="1817280"/>
            </a:xfrm>
            <a:prstGeom prst="ellipse">
              <a:avLst/>
            </a:prstGeom>
            <a:solidFill>
              <a:srgbClr val="cdd9d1">
                <a:alpha val="50000"/>
              </a:srgbClr>
            </a:solidFill>
            <a:ln w="57240">
              <a:solidFill>
                <a:srgbClr val="cdd9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_s362502"/>
            <p:cNvSpPr/>
            <p:nvPr/>
          </p:nvSpPr>
          <p:spPr>
            <a:xfrm>
              <a:off x="5050440" y="1314000"/>
              <a:ext cx="14536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300" spc="-1" strike="noStrike">
                  <a:solidFill>
                    <a:srgbClr val="0033cc"/>
                  </a:solidFill>
                  <a:latin typeface="Tahoma"/>
                </a:rPr>
                <a:t>priroda i društv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_s362503"/>
            <p:cNvSpPr/>
            <p:nvPr/>
          </p:nvSpPr>
          <p:spPr>
            <a:xfrm>
              <a:off x="6517080" y="1413000"/>
              <a:ext cx="1740240" cy="18172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_s362504"/>
            <p:cNvSpPr/>
            <p:nvPr/>
          </p:nvSpPr>
          <p:spPr>
            <a:xfrm>
              <a:off x="7689960" y="2996280"/>
              <a:ext cx="14536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300" spc="-1" strike="noStrike">
                  <a:solidFill>
                    <a:srgbClr val="0033cc"/>
                  </a:solidFill>
                  <a:latin typeface="Tahoma"/>
                </a:rPr>
                <a:t>hrvatski jez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_s362508"/>
            <p:cNvSpPr/>
            <p:nvPr/>
          </p:nvSpPr>
          <p:spPr>
            <a:xfrm>
              <a:off x="6010920" y="3068280"/>
              <a:ext cx="1744560" cy="1817280"/>
            </a:xfrm>
            <a:prstGeom prst="ellipse">
              <a:avLst/>
            </a:prstGeom>
            <a:solidFill>
              <a:srgbClr val="009900">
                <a:alpha val="50000"/>
              </a:srgbClr>
            </a:solidFill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_s362509"/>
            <p:cNvSpPr/>
            <p:nvPr/>
          </p:nvSpPr>
          <p:spPr>
            <a:xfrm>
              <a:off x="6780240" y="4988520"/>
              <a:ext cx="14536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300" spc="-1" strike="noStrike">
                  <a:solidFill>
                    <a:srgbClr val="ffffff"/>
                  </a:solidFill>
                  <a:latin typeface="Arial"/>
                </a:rPr>
                <a:t>glazbena kultur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_s362510"/>
            <p:cNvSpPr/>
            <p:nvPr/>
          </p:nvSpPr>
          <p:spPr>
            <a:xfrm>
              <a:off x="5435640" y="2275920"/>
              <a:ext cx="1738800" cy="1823040"/>
            </a:xfrm>
            <a:prstGeom prst="ellipse">
              <a:avLst/>
            </a:prstGeom>
            <a:solidFill>
              <a:srgbClr val="cbd7ce">
                <a:alpha val="50000"/>
              </a:srgbClr>
            </a:solidFill>
            <a:ln w="57240">
              <a:solidFill>
                <a:srgbClr val="cbd7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_s362511"/>
            <p:cNvSpPr/>
            <p:nvPr/>
          </p:nvSpPr>
          <p:spPr>
            <a:xfrm>
              <a:off x="3319200" y="4986720"/>
              <a:ext cx="14536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300" spc="-1" strike="noStrike">
                  <a:solidFill>
                    <a:srgbClr val="ffffff"/>
                  </a:solidFill>
                  <a:latin typeface="Arial"/>
                </a:rPr>
                <a:t>likovna kultur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_s362505"/>
            <p:cNvSpPr/>
            <p:nvPr/>
          </p:nvSpPr>
          <p:spPr>
            <a:xfrm>
              <a:off x="4500720" y="3141000"/>
              <a:ext cx="1742040" cy="1824480"/>
            </a:xfrm>
            <a:prstGeom prst="ellipse">
              <a:avLst/>
            </a:prstGeom>
            <a:solidFill>
              <a:srgbClr val="9ca8a4">
                <a:alpha val="50000"/>
              </a:srgbClr>
            </a:solidFill>
            <a:ln w="57240">
              <a:solidFill>
                <a:srgbClr val="9ca8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_s362506"/>
            <p:cNvSpPr/>
            <p:nvPr/>
          </p:nvSpPr>
          <p:spPr>
            <a:xfrm>
              <a:off x="3850560" y="3213000"/>
              <a:ext cx="145368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300" spc="-1" strike="noStrike">
                  <a:solidFill>
                    <a:srgbClr val="0033cc"/>
                  </a:solidFill>
                  <a:latin typeface="Tahoma"/>
                </a:rPr>
                <a:t>engleski jez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7d80"/>
                </a:solidFill>
                <a:latin typeface="Arial"/>
              </a:rPr>
              <a:t>5.) INTEGRACIJ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unutar predmeta (koncentrični krugov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međupredmet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međurazre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98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98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4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16000" y="901800"/>
            <a:ext cx="3527280" cy="2878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487680" cy="28782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3527280" cy="2878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3456000" cy="2817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887480" y="55080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87280" y="1159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cc"/>
                </a:solidFill>
                <a:latin typeface="Tahoma"/>
              </a:rPr>
              <a:t>2.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35640" y="189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cc"/>
                </a:solidFill>
                <a:latin typeface="Tahoma"/>
              </a:rPr>
              <a:t>2.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602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Tahoma"/>
              </a:rPr>
              <a:t>2.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08720" y="602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Tahoma"/>
              </a:rPr>
              <a:t>2.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a.) Hrvatski jezi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jesmice na zadanu tem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ičamo po nizu sli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Razredne nov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stavljam prič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4424400" cy="3318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>
    <p:wipe dir="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9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98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98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98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98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ogledaj vodu, pogledaj vod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voda te gle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voda je ž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a drevna v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koja se val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u mračnoj dubini spokoj skr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oslušaj vodu, poslušaj vod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voda te zo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voda te ma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a drevna v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koja se val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udi ti zabora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dolje u ta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Osjeti vod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osjeti vodu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voda te čist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voda te blaž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a drevna v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koja se val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daje sreć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onom tko traž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Ivica Smol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16000" y="33336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Arial"/>
              </a:rPr>
              <a:t>Na klupice učenici slažu prikupljeni slikovni materij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Arial"/>
              </a:rPr>
              <a:t>Pregledavaju ih i odabiru one na kojima prepoznaju vod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Arial"/>
              </a:rPr>
              <a:t>Pri opisivanju slike osobit naglasak stavljaju na vod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Arial"/>
              </a:rPr>
              <a:t>i njezin oblik pojav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0520" y="0"/>
            <a:ext cx="514512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940360" y="3206880"/>
            <a:ext cx="2735280" cy="36511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5940360" y="0"/>
            <a:ext cx="27259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PLAKA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22560" cy="4029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138720" y="0"/>
            <a:ext cx="3005280" cy="4005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2554200" y="1700280"/>
            <a:ext cx="3870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6666ff"/>
                </a:solidFill>
                <a:latin typeface="Arial"/>
              </a:rPr>
              <a:t>OŠ AUGUSTA ŠENO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016000" y="2232000"/>
            <a:ext cx="920880" cy="922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205680" y="223200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016000" y="4570560"/>
            <a:ext cx="920880" cy="923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110120" y="296712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4110120" y="296712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4110120" y="296712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6877080" y="479736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7667640" y="170028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5219640" y="170028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3203640" y="4869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3132000" y="2637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611280" y="270828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3"/>
          <a:stretch/>
        </p:blipFill>
        <p:spPr>
          <a:xfrm>
            <a:off x="826920" y="1628640"/>
            <a:ext cx="922680" cy="924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7451640" y="522936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5"/>
          <a:stretch/>
        </p:blipFill>
        <p:spPr>
          <a:xfrm>
            <a:off x="5796000" y="393372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6"/>
          <a:stretch/>
        </p:blipFill>
        <p:spPr>
          <a:xfrm>
            <a:off x="7667640" y="407664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7"/>
          <a:stretch/>
        </p:blipFill>
        <p:spPr>
          <a:xfrm>
            <a:off x="5219640" y="3645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8"/>
          <a:stretch/>
        </p:blipFill>
        <p:spPr>
          <a:xfrm>
            <a:off x="755640" y="436572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9"/>
          <a:stretch/>
        </p:blipFill>
        <p:spPr>
          <a:xfrm>
            <a:off x="7020000" y="314172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0"/>
          <a:stretch/>
        </p:blipFill>
        <p:spPr>
          <a:xfrm>
            <a:off x="4500720" y="443700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1"/>
          <a:stretch/>
        </p:blipFill>
        <p:spPr>
          <a:xfrm>
            <a:off x="2627280" y="357336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2"/>
          <a:stretch/>
        </p:blipFill>
        <p:spPr>
          <a:xfrm>
            <a:off x="5219640" y="256536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3"/>
          <a:stretch/>
        </p:blipFill>
        <p:spPr>
          <a:xfrm>
            <a:off x="1476360" y="508464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4"/>
          <a:stretch/>
        </p:blipFill>
        <p:spPr>
          <a:xfrm>
            <a:off x="1476360" y="299736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5"/>
          <a:stretch/>
        </p:blipFill>
        <p:spPr>
          <a:xfrm>
            <a:off x="3851280" y="3645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6"/>
          <a:stretch/>
        </p:blipFill>
        <p:spPr>
          <a:xfrm>
            <a:off x="5796000" y="464832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7"/>
          <a:stretch/>
        </p:blipFill>
        <p:spPr>
          <a:xfrm>
            <a:off x="3924360" y="170028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8"/>
          <a:stretch/>
        </p:blipFill>
        <p:spPr>
          <a:xfrm>
            <a:off x="2411280" y="162864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Plakati   2.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3348000" cy="4464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205680" y="2941560"/>
            <a:ext cx="2938320" cy="39164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432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8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ecff"/>
                </a:solidFill>
                <a:latin typeface="Arial"/>
              </a:rPr>
              <a:t>b.) Priroda i društv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oda u našim život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oda “svuda” oko 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okusi s vo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straživački projek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Čuvamo vodu koja nas okružu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eb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98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98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98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98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98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98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98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491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917360" y="26028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99ff"/>
                </a:solidFill>
                <a:latin typeface="Times New Roman"/>
              </a:rPr>
              <a:t>TEKUĆICA OD IZVORA DO UŠĆ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972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IZV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60" y="21337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VODOP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4440" y="41911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PRIT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5280" y="594360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DESNA OB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944320" y="320040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LIJEVA OB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98600" y="380988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RIJEČNI T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01720" y="51055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UŠĆ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914040" y="114264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761760" y="2438280"/>
            <a:ext cx="19810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066320" y="4267080"/>
            <a:ext cx="16765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71240" y="4419720"/>
            <a:ext cx="25909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495680" y="3352320"/>
            <a:ext cx="1447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257800" y="4114440"/>
            <a:ext cx="2895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800600"/>
            <a:ext cx="1676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500"/>
                            </p:stCondLst>
                            <p:childTnLst>
                              <p:par>
                                <p:cTn id="6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6000"/>
                            </p:stCondLst>
                            <p:childTnLst>
                              <p:par>
                                <p:cTn id="6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6500"/>
                            </p:stCondLst>
                            <p:childTnLst>
                              <p:par>
                                <p:cTn id="6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7000"/>
                            </p:stCondLst>
                            <p:childTnLst>
                              <p:par>
                                <p:cTn id="7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644560" cy="352584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3203640" y="189000"/>
            <a:ext cx="2592360" cy="3456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1979640" y="3645000"/>
            <a:ext cx="2411280" cy="32130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5867280" y="189000"/>
            <a:ext cx="2594160" cy="34560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4492800" y="3645000"/>
            <a:ext cx="2563560" cy="32130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2590920" cy="34527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427640" y="692280"/>
            <a:ext cx="3768480" cy="28270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8000" y="3906720"/>
            <a:ext cx="3933720" cy="29512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4427640" y="3716280"/>
            <a:ext cx="3887640" cy="291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451480" y="260280"/>
            <a:ext cx="2647800" cy="3529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716360" y="3887640"/>
            <a:ext cx="3959280" cy="297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395280" y="3887640"/>
            <a:ext cx="3959280" cy="297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1403280" y="260280"/>
            <a:ext cx="2589120" cy="352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7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  <p:set>
                                      <p:cBhvr>
                                        <p:cTn id="742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POKUS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ZANIMLJIVOSTI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-108000" y="1697040"/>
            <a:ext cx="5256360" cy="39434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210280" y="835200"/>
            <a:ext cx="3933720" cy="2950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208480" y="3789360"/>
            <a:ext cx="3935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d) Likovna kul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ontrast boja i oblika pustinja – zem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apljica v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ombinirana tehnika, rad u pa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očiti razlike između zemlje natopljene vodom i zemlje bez vode (pustinj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267160" y="2060640"/>
            <a:ext cx="2772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5" presetSubtype="4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1" dur="indefinite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62" dur="indefinite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63" dur="indefinite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7" dur="2000" fill="hold"/>
                                        <p:tgtEl>
                                          <p:spTgt spid="4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438800" y="0"/>
            <a:ext cx="4705200" cy="35290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-181080" y="3400560"/>
            <a:ext cx="4608720" cy="3457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4427640" y="3357720"/>
            <a:ext cx="4716360" cy="3500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52080" y="2520"/>
            <a:ext cx="8332920" cy="6825600"/>
            <a:chOff x="352080" y="2520"/>
            <a:chExt cx="8332920" cy="6825600"/>
          </a:xfrm>
        </p:grpSpPr>
        <p:sp>
          <p:nvSpPr>
            <p:cNvPr id="250" name="_s268313"/>
            <p:cNvSpPr/>
            <p:nvPr/>
          </p:nvSpPr>
          <p:spPr>
            <a:xfrm flipH="1">
              <a:off x="2428560" y="3413880"/>
              <a:ext cx="105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268312"/>
            <p:cNvSpPr/>
            <p:nvPr/>
          </p:nvSpPr>
          <p:spPr>
            <a:xfrm>
              <a:off x="352080" y="2563920"/>
              <a:ext cx="2079000" cy="1702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900" spc="-1" strike="noStrike">
                  <a:solidFill>
                    <a:srgbClr val="ccecff"/>
                  </a:solidFill>
                  <a:latin typeface="Arial"/>
                </a:rPr>
                <a:t>2.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268311"/>
            <p:cNvSpPr/>
            <p:nvPr/>
          </p:nvSpPr>
          <p:spPr>
            <a:xfrm>
              <a:off x="4516920" y="4264560"/>
              <a:ext cx="0" cy="86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268310"/>
            <p:cNvSpPr/>
            <p:nvPr/>
          </p:nvSpPr>
          <p:spPr>
            <a:xfrm>
              <a:off x="3479040" y="5125320"/>
              <a:ext cx="2079000" cy="17028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900" spc="-1" strike="noStrike">
                  <a:solidFill>
                    <a:srgbClr val="0000ff"/>
                  </a:solidFill>
                  <a:latin typeface="Arial"/>
                </a:rPr>
                <a:t>2.C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268309"/>
            <p:cNvSpPr/>
            <p:nvPr/>
          </p:nvSpPr>
          <p:spPr>
            <a:xfrm>
              <a:off x="5554440" y="3413880"/>
              <a:ext cx="1051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268308"/>
            <p:cNvSpPr/>
            <p:nvPr/>
          </p:nvSpPr>
          <p:spPr>
            <a:xfrm>
              <a:off x="6606000" y="2563920"/>
              <a:ext cx="2079000" cy="1702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900" spc="-1" strike="noStrike">
                  <a:solidFill>
                    <a:srgbClr val="008ae8"/>
                  </a:solidFill>
                  <a:latin typeface="Arial"/>
                </a:rPr>
                <a:t>2.B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268307"/>
            <p:cNvSpPr/>
            <p:nvPr/>
          </p:nvSpPr>
          <p:spPr>
            <a:xfrm flipV="1">
              <a:off x="4516920" y="1703520"/>
              <a:ext cx="0" cy="86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268306"/>
            <p:cNvSpPr/>
            <p:nvPr/>
          </p:nvSpPr>
          <p:spPr>
            <a:xfrm>
              <a:off x="3479040" y="2520"/>
              <a:ext cx="2079000" cy="1702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900" spc="-1" strike="noStrike">
                  <a:solidFill>
                    <a:srgbClr val="ccecff"/>
                  </a:solidFill>
                  <a:latin typeface="Arial"/>
                </a:rPr>
                <a:t>2.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268305"/>
            <p:cNvSpPr/>
            <p:nvPr/>
          </p:nvSpPr>
          <p:spPr>
            <a:xfrm>
              <a:off x="3479040" y="2563920"/>
              <a:ext cx="2079000" cy="1702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ccecff"/>
                  </a:solidFill>
                  <a:latin typeface="Arial"/>
                </a:rPr>
                <a:t>PROJEKTNI D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148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6066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730920" y="5259240"/>
            <a:ext cx="2413080" cy="1598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0" y="5370480"/>
            <a:ext cx="2232000" cy="14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0040" cy="37861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2840040" cy="3786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6310440" y="0"/>
            <a:ext cx="2833560" cy="37767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2556000" y="3814920"/>
            <a:ext cx="4057560" cy="304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8920" cy="3375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0" y="348156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1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6" dur="25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1" dur="250" autoRev="1" fill="hold"/>
                                        <p:tgtEl>
                                          <p:spTgt spid="4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557440" cy="3409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348000" y="0"/>
            <a:ext cx="2517840" cy="3357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1763640" y="3400560"/>
            <a:ext cx="2594160" cy="3457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578640" y="0"/>
            <a:ext cx="2565360" cy="34178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4859280" y="34290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28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29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8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39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40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9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50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51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1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61" dur="1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62" dur="1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1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72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73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7d80"/>
                </a:solidFill>
                <a:latin typeface="Arial"/>
              </a:rPr>
              <a:t>c.) Glazbena kultur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navljanje dječjeg napjeva KIŠA P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2708280"/>
            <a:ext cx="93492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635280" y="2708280"/>
            <a:ext cx="936720" cy="93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995640" y="3933720"/>
            <a:ext cx="1440000" cy="1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08360" y="2133720"/>
            <a:ext cx="1871640" cy="5745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UČITEL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08720" y="3789360"/>
            <a:ext cx="244800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Ritam udaraljk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92360" y="3716280"/>
            <a:ext cx="22320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Dječji napj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8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PJEVAMO I SVIRA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68360" y="1230480"/>
            <a:ext cx="3959280" cy="27748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3959280" cy="2852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4427640" y="1174680"/>
            <a:ext cx="3960720" cy="2830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4427640" y="3938760"/>
            <a:ext cx="4032000" cy="29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aš d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4572000" y="211464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468360" y="383364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768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7" dur="768" fill="hold"/>
                                        <p:tgtEl>
                                          <p:spTgt spid="4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9" dur="768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1" dur="768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e) Engleski jez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ovi pojmovi : water, lake, clean water,rive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zrada slikovnih podsjetnika (memo kart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427640" y="2060640"/>
            <a:ext cx="43513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38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4462560" y="3357720"/>
            <a:ext cx="4681440" cy="3500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35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18080" cy="35733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4078440" cy="30589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984480" cy="29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2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ecff"/>
                </a:solidFill>
                <a:latin typeface="Arial"/>
              </a:rPr>
              <a:t>4.) Praćenje i uočavanje učeničke pozornosti i angažiranosti u projektnom danu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468360" y="2133720"/>
          <a:ext cx="8229600" cy="359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ća motivaci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znovrsnost meto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znovrsnost obli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ktiv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ktični radov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meno i pismeno izražavanj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enska nast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ke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znavanje individualnih sposobnos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rovitost učeni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898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7" dur="250" autoRev="1" fill="hold"/>
                                        <p:tgtEl>
                                          <p:spTgt spid="4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8059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66"/>
                </a:solidFill>
                <a:latin typeface="Arial"/>
              </a:rPr>
              <a:t>NAŠ ZAVIČAJ</a:t>
            </a: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000066"/>
                </a:solidFill>
                <a:latin typeface="Arial"/>
              </a:rPr>
              <a:t>VODA – ZAŠTITA I LJUDSKA POTREB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32000" y="5084640"/>
            <a:ext cx="6400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Arial"/>
              </a:rPr>
              <a:t>14.11.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156060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98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9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457200" y="3946680"/>
            <a:ext cx="4038480" cy="21794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4648320" y="3946680"/>
            <a:ext cx="4038480" cy="21794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9640" y="0"/>
            <a:ext cx="3024360" cy="230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6087960" y="0"/>
            <a:ext cx="30560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OVO   SMO   RADIL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5210280" y="1077840"/>
            <a:ext cx="3609720" cy="2708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324000" y="3938760"/>
            <a:ext cx="3609720" cy="2708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3611520" cy="2709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324000" y="1077840"/>
            <a:ext cx="360972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6" dur="250" autoRev="1" fill="hold"/>
                                        <p:tgtEl>
                                          <p:spTgt spid="4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1" dur="25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6" dur="250" autoRev="1" fill="hold"/>
                                        <p:tgtEl>
                                          <p:spTgt spid="4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43280" y="-177840"/>
            <a:ext cx="4500720" cy="35355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4572000" y="32925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98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98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457200" y="3946680"/>
            <a:ext cx="4038480" cy="21794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4648320" y="3946680"/>
            <a:ext cx="4038480" cy="21794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356000" y="0"/>
            <a:ext cx="4788000" cy="2016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jesm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Kiša pa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 ritamskom pratnj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zveli su: Ana, Jelena, Hana, Josip, Mari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esna, Patrik P., Matej, Jozo i Mateo...2.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Lovro, Luka, Jana, Dagmar, Patrik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Helena, Fran, Alen, Sara, Ivona...2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ecff"/>
                </a:solidFill>
                <a:latin typeface="Arial"/>
              </a:rPr>
              <a:t>6.) Naučili smo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oda nas okružuje, naša je životna potreba i svakodnev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odu trebamo čuvati, zaštititi, brinuti o njezinom očuvanj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itke vode ima sve manje (na ovom svijetu), zato ćemo paziti prilikom korištenja pitke vo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42920" y="1125360"/>
            <a:ext cx="40388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VODA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Voda je sićuš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Kapljica kiš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Voda je m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Što brodove njiš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Voda je pa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Što oblake stvar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Voda je jeze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Lokva i ba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Voda je snije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Što pokriva brije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Voda je l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Proziran i blij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Voda je izvo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Potok i rijek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Voda je pić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ddddd"/>
                </a:solidFill>
                <a:latin typeface="Arrus L2"/>
                <a:ea typeface="Times New Roman"/>
              </a:rPr>
              <a:t>Najboljeg tek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9ff99"/>
                </a:solidFill>
                <a:latin typeface="Arial"/>
              </a:rPr>
              <a:t>   </a:t>
            </a:r>
            <a:r>
              <a:rPr b="1" lang="hr-HR" sz="1400" spc="-1" strike="noStrike">
                <a:solidFill>
                  <a:srgbClr val="99ff99"/>
                </a:solidFill>
                <a:latin typeface="Arial"/>
              </a:rPr>
              <a:t>Mladen Kuše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98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898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898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98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ecff"/>
                </a:solidFill>
                <a:latin typeface="Arial"/>
              </a:rPr>
              <a:t>7.) Kreativnost učenik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očili smo kakvu vodu pijemo (poku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poznali smo različite glazbene instrumente koje smo koristili kao ritamsku pratn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aučili smo nove engleske riječi i vezali  ih uz rijeku Savu i jezera u našem zaviča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 paru smo oslikavali i oblikovali kapljicu v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zradili smo razredne novine i tako na vidnom mjestu prikazali sve što smo naučili o vo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0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898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98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98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98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57560" cy="45720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4057560" cy="45720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50920" y="620640"/>
            <a:ext cx="8642160" cy="5688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50920" y="620640"/>
            <a:ext cx="8642160" cy="5688000"/>
          </a:xfrm>
          <a:prstGeom prst="rect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3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3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1" nodeType="afterEffect" fill="hold" presetClass="exit" presetID="5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3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3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5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7" dur="3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9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3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štitimo OVO bogastvo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839880" y="1600200"/>
            <a:ext cx="3271680" cy="21859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822920" y="1600200"/>
            <a:ext cx="3421080" cy="2189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Zaštitimo i poštujmo bogatstvo vode!"/>
          <p:cNvPicPr/>
          <p:nvPr/>
        </p:nvPicPr>
        <p:blipFill>
          <a:blip r:embed="rId3"/>
          <a:stretch/>
        </p:blipFill>
        <p:spPr>
          <a:xfrm>
            <a:off x="1014480" y="3938760"/>
            <a:ext cx="2922480" cy="2187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Image Hosted by ImageShack.us"/>
          <p:cNvPicPr/>
          <p:nvPr/>
        </p:nvPicPr>
        <p:blipFill>
          <a:blip r:embed="rId4"/>
          <a:stretch/>
        </p:blipFill>
        <p:spPr>
          <a:xfrm>
            <a:off x="5186520" y="3938760"/>
            <a:ext cx="2960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4" dur="1000" autoRev="1" fill="hold"/>
                                        <p:tgtEl>
                                          <p:spTgt spid="4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9" dur="100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KLJUČA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rus L2"/>
                <a:ea typeface="Times New Roman"/>
              </a:rPr>
              <a:t>Voda je bistra. Nastaje od prirodnog izvora. Kad ne bi bilo vode ne bismo mogli piti i zalijevati cvijeće. Vodu piju i životinje. Vodu možemo prepoznati po okusu.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Arrus L2"/>
                <a:ea typeface="Times New Roman"/>
              </a:rPr>
              <a:t>Patrik P., 2.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rus L2"/>
                <a:ea typeface="Times New Roman"/>
              </a:rPr>
              <a:t>Voda ima običan okus, prozirna je, voda je neophodna za život, ona služi u mnogim kućanskim poslovima, neke države nemaju čiste vode pa ih moraju kupovati u trgovinama, voda je najzdravije pić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rus L2"/>
              </a:rPr>
              <a:t>      </a:t>
            </a:r>
            <a:r>
              <a:rPr b="0" lang="hr-HR" sz="1800" spc="-1" strike="noStrike">
                <a:solidFill>
                  <a:srgbClr val="ffffff"/>
                </a:solidFill>
                <a:latin typeface="Arrus L2"/>
              </a:rPr>
              <a:t>Nina, 2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rus L2"/>
                <a:ea typeface="Times New Roman"/>
              </a:rPr>
              <a:t>Voda je ledena, nema okusa, voda je pitka, voda nije slana, kad se voda pomiješa sa sokom bude slađa, voda je zdrava.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Arrus L2"/>
                <a:ea typeface="Times New Roman"/>
              </a:rPr>
              <a:t>Petar, 2.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rus L2"/>
                <a:ea typeface="Times New Roman"/>
              </a:rPr>
              <a:t>Voda je najzdravije piće. Bez nje ne bismo mogli živjeti. Voda se koristi u raznim jelima i kolačima. U akvariju ribe plivaju u vodi. Voda je prozirna</a:t>
            </a:r>
            <a:r>
              <a:rPr b="0" lang="hr-HR" sz="1800" spc="-1" strike="noStrike">
                <a:solidFill>
                  <a:srgbClr val="ffffff"/>
                </a:solidFill>
                <a:latin typeface="Arrus L2"/>
              </a:rPr>
              <a:t>, voda je tekućina.</a:t>
            </a:r>
            <a:r>
              <a:rPr b="0" lang="hr-HR" sz="1800" spc="-1" strike="noStrike">
                <a:solidFill>
                  <a:srgbClr val="ffffff"/>
                </a:solidFill>
                <a:latin typeface="Arrus L2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rus L2"/>
                <a:ea typeface="Times New Roman"/>
              </a:rPr>
              <a:t>      </a:t>
            </a:r>
            <a:r>
              <a:rPr b="0" lang="hr-HR" sz="1800" spc="-1" strike="noStrike">
                <a:solidFill>
                  <a:srgbClr val="ffffff"/>
                </a:solidFill>
                <a:latin typeface="Arrus L2"/>
                <a:ea typeface="Times New Roman"/>
              </a:rPr>
              <a:t>Luka, 2.c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0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15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3600"/>
                            </p:stCondLst>
                            <p:childTnLst>
                              <p:par>
                                <p:cTn id="1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HVALA NA PAŽNJI</a:t>
            </a:r>
            <a:br>
              <a:rPr sz="4000"/>
            </a:b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PITANJA I SUGESTIJ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000" y="2706840"/>
            <a:ext cx="8064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 radionicama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premama učitelja i predavača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ječjoj aktivnosti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ipremila: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andra Vuk, 2.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98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898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98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98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5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8a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O n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30080"/>
            <a:ext cx="771516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Broj učenika: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OKO 107 učeni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UČITELJI: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Vuk Sandra, Zvjezdana Lužić, Ivanka Šikić, Zdenka Pavlinovac, Ana Dujmović, Danijela Uroić , Lana Banovec  i Ivana Sau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GOST predavač: 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Zoran Nakić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ocent na Rudarsko geološko-naftnom fakulte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2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143160" cy="4572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3000240" y="1143000"/>
            <a:ext cx="3143520" cy="4572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3143160" cy="4572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fade thruBlk="true"/>
  </p:transition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0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3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3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3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3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3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2" dur="3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3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3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3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1" dur="3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0600" cy="33987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575240" y="343044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4500720" y="0"/>
            <a:ext cx="5148000" cy="33955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 thruBlk="true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4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4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4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4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4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4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4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4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8" dur="5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99ff99"/>
                </a:solidFill>
                <a:latin typeface="Arial"/>
              </a:rPr>
              <a:t>ODREDNIC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laniranje i priprema projektnog d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Nastavna sredstva i pomag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uradnja s roditelj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Osiguravanje pros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Ugodno razredno i školsko ozrač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Objašnjenje zadat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Zajedničko planiranje i iz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Dvosmjerna komunik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Učenička angažira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Kreativnost u nasta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Utjecaj iz okoline u poučavanju uče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Razvoj osnovnog senzibiliteta prema ekolog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repoznavanje individualnih sposobnosti uče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Traženje odgov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Međusobno prihvaćanje mišlje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Ispravljanje uvriježenih spoznaja o vo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štivanje prir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cecff"/>
                </a:solidFill>
                <a:latin typeface="Arial"/>
              </a:rPr>
              <a:t>1.) </a:t>
            </a:r>
            <a:r>
              <a:rPr b="1" lang="hr-HR" sz="4000" spc="-1" strike="noStrike">
                <a:solidFill>
                  <a:srgbClr val="ccecff"/>
                </a:solidFill>
                <a:latin typeface="Arial"/>
              </a:rPr>
              <a:t>Planiranje i priprema projektnog dan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Razredni akti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 zajedničko planira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 suradnja s roditelj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 sakupljanje materij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59280" y="3786120"/>
            <a:ext cx="2919240" cy="2187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2494080" cy="1869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2374920" cy="178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98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Timski rad je pretpostavka kvalitetnog učenja i rada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76720" y="2637000"/>
            <a:ext cx="1150920" cy="57600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Glazbena kul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59280" y="2637000"/>
            <a:ext cx="1150920" cy="57600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Priroda i društ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47640" y="3141720"/>
            <a:ext cx="1151280" cy="57636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Hrvatski jez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6720" y="3357720"/>
            <a:ext cx="1150920" cy="57600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Likovna kul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1268280"/>
            <a:ext cx="1150920" cy="719280"/>
          </a:xfrm>
          <a:prstGeom prst="ellipse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DRU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RAZRED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3068640"/>
            <a:ext cx="21564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3500280"/>
            <a:ext cx="21600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08000" y="3573360"/>
            <a:ext cx="21600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19280" y="3141720"/>
            <a:ext cx="21600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2637000"/>
            <a:ext cx="215640" cy="2156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24360" y="2637000"/>
            <a:ext cx="216000" cy="2156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64000" y="3141720"/>
            <a:ext cx="21600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3068640"/>
            <a:ext cx="21600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2000" y="3068640"/>
            <a:ext cx="21564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96360" y="3645000"/>
            <a:ext cx="215640" cy="2156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20000" y="3860640"/>
            <a:ext cx="21600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3213000"/>
            <a:ext cx="21600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692360" y="1557360"/>
            <a:ext cx="2376360" cy="1728720"/>
          </a:xfrm>
          <a:prstGeom prst="line">
            <a:avLst/>
          </a:prstGeom>
          <a:ln w="9360">
            <a:solidFill>
              <a:srgbClr val="008a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635280" y="1989000"/>
            <a:ext cx="576360" cy="648000"/>
          </a:xfrm>
          <a:prstGeom prst="line">
            <a:avLst/>
          </a:prstGeom>
          <a:ln w="9360">
            <a:solidFill>
              <a:srgbClr val="008a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9280" y="1989000"/>
            <a:ext cx="504720" cy="719280"/>
          </a:xfrm>
          <a:prstGeom prst="line">
            <a:avLst/>
          </a:prstGeom>
          <a:ln w="9360">
            <a:solidFill>
              <a:srgbClr val="008a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76720" y="1700280"/>
            <a:ext cx="2590920" cy="1873080"/>
          </a:xfrm>
          <a:prstGeom prst="line">
            <a:avLst/>
          </a:prstGeom>
          <a:ln w="9360">
            <a:solidFill>
              <a:srgbClr val="008a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20000" y="1844640"/>
            <a:ext cx="1150920" cy="57636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ccecff"/>
                </a:solidFill>
                <a:latin typeface="Arial"/>
              </a:rPr>
              <a:t>Engleski jez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1557360"/>
            <a:ext cx="1871640" cy="576360"/>
          </a:xfrm>
          <a:prstGeom prst="line">
            <a:avLst/>
          </a:prstGeom>
          <a:ln w="12600">
            <a:solidFill>
              <a:srgbClr val="008a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80360" y="1700280"/>
            <a:ext cx="21600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2276640"/>
            <a:ext cx="215640" cy="2156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20000" y="2276640"/>
            <a:ext cx="216000" cy="2156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76720" y="1484280"/>
            <a:ext cx="2087640" cy="432000"/>
          </a:xfrm>
          <a:prstGeom prst="line">
            <a:avLst/>
          </a:prstGeom>
          <a:ln cap="sq" w="19080">
            <a:solidFill>
              <a:srgbClr val="0068ae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8840" y="429840"/>
            <a:ext cx="79563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ecff"/>
                </a:solidFill>
                <a:latin typeface="Arial"/>
              </a:rPr>
              <a:t>Planiranje - rad u razredu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3887640" cy="2909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59280" cy="29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20:05:14Z</dcterms:created>
  <dc:creator>Sandra Vuk</dc:creator>
  <dc:description/>
  <dc:language>en-US</dc:language>
  <cp:lastModifiedBy>Krešo</cp:lastModifiedBy>
  <dcterms:modified xsi:type="dcterms:W3CDTF">2008-05-30T21:42:38Z</dcterms:modified>
  <cp:revision>181</cp:revision>
  <dc:subject/>
  <dc:title>Voda</dc:title>
</cp:coreProperties>
</file>