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AEB-641B-4110-9AFC-3F2A87AE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6C4-C18C-4314-9ECE-CFD1F46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A7F-6E07-47C5-95E1-2C64CDA6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8BC-5517-45CF-961E-723B2D7D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262-27ED-42B0-9AF9-480AD585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A1B-80C6-4DF8-B172-746FFB28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2DF-D9B1-4874-BC2D-4BD6041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233-20AC-4E59-96D3-F99EAC9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526-0B35-415B-8723-80BBA8F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D1D-5050-4960-B43A-E712ACC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4CF-3987-4073-989F-E9DEE75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973-5FC1-4E25-84EE-361FF13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BC4-CC4F-4238-9A4B-0230E5F3A65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549360"/>
          <a:ext cx="8229600" cy="5351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1076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82760" y="54936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2760" y="1455840"/>
            <a:ext cx="2016000" cy="8208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760" y="22766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141720"/>
            <a:ext cx="201600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2760" y="3990960"/>
            <a:ext cx="201600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0" y="54936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0" y="141300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0" y="2276640"/>
            <a:ext cx="2016000" cy="8078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14172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1600" y="3990960"/>
            <a:ext cx="201600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549360"/>
            <a:ext cx="207324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41440"/>
            <a:ext cx="208764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62240"/>
            <a:ext cx="208764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14840" y="30830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962520"/>
            <a:ext cx="2030400" cy="8348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3920" y="549360"/>
            <a:ext cx="197172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3920" y="1455840"/>
            <a:ext cx="197172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276640"/>
            <a:ext cx="201600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0686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3976560"/>
            <a:ext cx="2016000" cy="8208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97360"/>
            <a:ext cx="820728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7920"/>
          <a:ext cx="8229600" cy="64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5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68360" y="31896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852640"/>
            <a:ext cx="27352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105440"/>
            <a:ext cx="2743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2852640"/>
            <a:ext cx="27432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1896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4105440"/>
            <a:ext cx="2743200" cy="131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31752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892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2852640"/>
            <a:ext cx="27432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105440"/>
            <a:ext cx="2743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430960"/>
            <a:ext cx="8229600" cy="1218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50022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765000"/>
            <a:ext cx="1008360" cy="10083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765000"/>
            <a:ext cx="1008000" cy="10083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765000"/>
            <a:ext cx="1008000" cy="10083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765000"/>
            <a:ext cx="1008000" cy="100836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765000"/>
            <a:ext cx="1008000" cy="100836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765000"/>
            <a:ext cx="1008360" cy="100836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773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1773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1773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1773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1773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1773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2781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2781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2781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781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2781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2781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789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3789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3789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3789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789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3789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4797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4797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797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797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4797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6:26:49Z</dcterms:created>
  <dc:creator>name</dc:creator>
  <dc:description/>
  <dc:language>en-US</dc:language>
  <cp:lastModifiedBy>Krešo</cp:lastModifiedBy>
  <dcterms:modified xsi:type="dcterms:W3CDTF">2008-03-21T21:48:15Z</dcterms:modified>
  <cp:revision>21</cp:revision>
  <dc:subject/>
  <dc:title>Slide 1</dc:title>
</cp:coreProperties>
</file>