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53E-E367-4234-9880-F0747365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3ED-6E51-426A-A1BB-F6B8AFE9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3FA-A4E7-4845-A6D5-7D20C111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1B0-60F4-4DE5-9932-4C150D31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C68-DB9D-41B7-95D5-BF7DE669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84CF-3D6B-4E0A-ADC6-88E6C13F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167C-59FA-4B84-8DCD-91F5FE12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C59B-307E-4DEF-BEEF-D6D01685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29D9-12BC-4CFD-BAA1-474DBA7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0BE0-ABD3-4628-A019-763A1671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C88C-C1A6-4618-848E-ECA77D0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210-9789-48B0-9523-AA9B15FF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B28E-9550-4328-A48B-D517F2F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3A4-213B-4E4E-A9B4-B109A4E4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1A48-4D26-48CD-96A2-8D7AF4AF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388-E08C-4C80-A4C4-00AD57EC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2555-26EA-44E1-8E1B-87834F3B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B21-792E-49DE-B785-B1638C4D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973-1B73-4836-B99D-88FF3446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041-0395-4E42-BFA5-4B481640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EAC-E001-414B-B917-362B4AF3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1A4-A41F-4E10-83C7-274B546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3DC-5BB1-4BDD-AFF4-4636F82D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07C-F0E5-4639-96D4-82B5092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DC76-6F39-4A12-985C-B281EECCC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4F8-EDAC-4103-9724-DDF50E93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2130120"/>
            <a:ext cx="60260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82232"/>
                </a:solidFill>
                <a:latin typeface="Arial"/>
              </a:rPr>
              <a:t>PowerPoint u nasta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39600" y="271440"/>
            <a:ext cx="486252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Što je Power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632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 za izradu prezentacija, dio programskog paketa Microsoft Offic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je popularniji jer olakšava stvaranje atraktivnih prezentacijskih materij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lativno lako ga je svlad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 se prikazati na računalnom ekranu, projicirati uporabom projektora ili grafosko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entacije se mogu obogatiti slikama, animacijama i zvukov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Uporaba PowerPointa u nast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632592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lo koristan izvor zn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mo ga rabiti u svim nastavnim predmetima i svim tipovima s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cima olakšava razumijevanje sadrž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prinosi zornosti nast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Na što treba obratiti pozornost pri izradi prezentaci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64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entacija treba imati svoj tijek, ako je rabimo na nastavnom satu treba slijediti faze s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držaj treba biti jasno predstavlj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entacija ne smije biti opterećena prevelikom količinom informacija i animac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014480" cy="1125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"/>
          <p:cNvPicPr/>
          <p:nvPr/>
        </p:nvPicPr>
        <p:blipFill>
          <a:blip r:embed="rId2"/>
          <a:stretch/>
        </p:blipFill>
        <p:spPr>
          <a:xfrm>
            <a:off x="6372360" y="115920"/>
            <a:ext cx="2085840" cy="1582560"/>
          </a:xfrm>
          <a:prstGeom prst="rect">
            <a:avLst/>
          </a:prstGeom>
          <a:ln w="9360">
            <a:solidFill>
              <a:srgbClr val="f3315f"/>
            </a:solidFill>
            <a:miter/>
          </a:ln>
        </p:spPr>
      </p:pic>
      <p:pic>
        <p:nvPicPr>
          <p:cNvPr id="92" name="Picture 18" descr=""/>
          <p:cNvPicPr/>
          <p:nvPr/>
        </p:nvPicPr>
        <p:blipFill>
          <a:blip r:embed="rId3"/>
          <a:stretch/>
        </p:blipFill>
        <p:spPr>
          <a:xfrm>
            <a:off x="6653160" y="2421000"/>
            <a:ext cx="186552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042920" y="5084640"/>
            <a:ext cx="7489800" cy="865440"/>
          </a:xfrm>
          <a:prstGeom prst="rect">
            <a:avLst/>
          </a:prstGeom>
          <a:solidFill>
            <a:srgbClr val="f7f9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ičaste” pozadine (pozadinske slike koje nemaju veze sa sadržajem prezentacije, različite boje pozad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doni MT Black"/>
              </a:rPr>
              <a:t>Uporab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viš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rsta </a:t>
            </a:r>
            <a:r>
              <a:rPr b="0" lang="hr-HR" sz="2400" spc="-1" strike="noStrike">
                <a:solidFill>
                  <a:srgbClr val="000000"/>
                </a:solidFill>
                <a:latin typeface="Castellar"/>
              </a:rPr>
              <a:t>slova</a:t>
            </a:r>
            <a:r>
              <a:rPr b="0" lang="hr-HR" sz="2400" spc="-1" strike="noStrike">
                <a:solidFill>
                  <a:srgbClr val="00000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Arial"/>
              </a:rPr>
              <a:t>Uporab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ff"/>
                </a:solidFill>
                <a:latin typeface="Arial"/>
              </a:rPr>
              <a:t>viš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33cc"/>
                </a:solidFill>
                <a:latin typeface="Arial"/>
              </a:rPr>
              <a:t>bo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9900"/>
                </a:solidFill>
                <a:latin typeface="Arial"/>
              </a:rPr>
              <a:t>sl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oraba više vrsta anim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oraba mnogo dinamičnih anim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asićenost teks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c82232"/>
                </a:solidFill>
                <a:latin typeface="Arial"/>
              </a:rPr>
              <a:t>SVE OVO ODVLAČI POZORNOST OD SADRŽAJA PREZENTACI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356000" y="443700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solidFill>
            <a:srgbClr val="f331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95280" y="1484280"/>
            <a:ext cx="8137440" cy="2952720"/>
          </a:xfrm>
          <a:prstGeom prst="rect">
            <a:avLst/>
          </a:prstGeom>
          <a:noFill/>
          <a:ln w="38160">
            <a:solidFill>
              <a:srgbClr val="f331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Najčešće pogreške pri izradi prezenta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179280" y="4724280"/>
          <a:ext cx="819360" cy="113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724280"/>
                    <a:ext cx="8193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4"/>
          <p:cNvGraphicFramePr/>
          <p:nvPr/>
        </p:nvGraphicFramePr>
        <p:xfrm>
          <a:off x="5364000" y="2492280"/>
          <a:ext cx="88596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0" y="2492280"/>
                    <a:ext cx="8859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ZAPAM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lj je prezentirati sadržaj, a ne mogućnosti PowerPoint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9:48:53Z</dcterms:created>
  <dc:creator>Prosvjetari</dc:creator>
  <dc:description/>
  <dc:language>en-US</dc:language>
  <cp:lastModifiedBy>Stojic</cp:lastModifiedBy>
  <dcterms:modified xsi:type="dcterms:W3CDTF">2008-10-27T15:19:03Z</dcterms:modified>
  <cp:revision>11</cp:revision>
  <dc:subject/>
  <dc:title>PowerPoint u nastavi</dc:title>
</cp:coreProperties>
</file>