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A11-87C6-446A-9DA0-0474AC79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26A-6C33-4C78-BB05-00C58E46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156-E617-411A-99A0-DC331ACF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AC1-E2B1-41EC-983D-4F7149E8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718-E802-4F9B-BFD2-4952D43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E34-930C-4651-BA9E-7B429016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D10-8D29-4615-AFE7-6193E268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8BB-9025-41BB-887F-42E7407D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DED-0D9C-4E18-833A-F0FB4F85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223-7383-4B9A-A068-5CFEAF4A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396-3912-436F-A755-66D4D924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549-AD48-45DC-AE02-7E5D4504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6AB3-2AEA-443B-B22A-283F27870C0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Znak 334"/>
          <p:cNvPicPr/>
          <p:nvPr/>
        </p:nvPicPr>
        <p:blipFill>
          <a:blip r:embed="rId1"/>
          <a:stretch/>
        </p:blipFill>
        <p:spPr>
          <a:xfrm>
            <a:off x="2627280" y="1052640"/>
            <a:ext cx="35956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 rot="20902200">
            <a:off x="324000" y="1341000"/>
            <a:ext cx="7772400" cy="1470240"/>
          </a:xfrm>
          <a:prstGeom prst="rect">
            <a:avLst/>
          </a:prstGeom>
          <a:solidFill>
            <a:srgbClr val="018360">
              <a:alpha val="8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Georgia"/>
              </a:rPr>
              <a:t>Što znači misliti kreativ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 rot="1259400">
            <a:off x="3879360" y="3315960"/>
            <a:ext cx="2952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. Roth definira </a:t>
            </a:r>
            <a:r>
              <a:rPr b="0" lang="de-DE" sz="3200" spc="-1" strike="noStrike">
                <a:solidFill>
                  <a:srgbClr val="018360"/>
                </a:solidFill>
                <a:latin typeface="Arial"/>
              </a:rPr>
              <a:t>kreativnost u svakodnevnici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a ovaj nači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Tko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kada je to potrebno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može ogradu pretvoriti u ljestve, zavjesu u haljinu, sanduk u stol, krpu u lutku, mikroskop u oružje, u tom je trenutku kreativ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218440" cy="287964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Misliti kreativno znači 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uvidjeti veze između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nepovezanih iskustava koje se pojavljuju u obliku novih misaonih shema, ideja i proizvo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Ovaj kreativni potencijal ima 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svaki pojedinac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 i može ga upotrijebiti u svakoj životnoj situa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ferdnand2002033131224"/>
          <p:cNvPicPr/>
          <p:nvPr/>
        </p:nvPicPr>
        <p:blipFill>
          <a:blip r:embed="rId1"/>
          <a:stretch/>
        </p:blipFill>
        <p:spPr>
          <a:xfrm>
            <a:off x="900000" y="3789360"/>
            <a:ext cx="69850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60836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Kreativno mišljenje mogu ograničavati zahtjevi da se 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obuzda 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mašta</a:t>
            </a: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, da se “misli kao i drugi”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, da se kreće sigurnim, poznatim i prihvaćenim putev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3300"/>
                </a:solidFill>
                <a:latin typeface="Georgia"/>
              </a:rPr>
              <a:t>   </a:t>
            </a:r>
            <a:r>
              <a:rPr b="1" lang="hr-HR" sz="3200" spc="-1" strike="noStrike">
                <a:solidFill>
                  <a:srgbClr val="018360"/>
                </a:solidFill>
                <a:latin typeface="Georgia"/>
              </a:rPr>
              <a:t>Kreativno mišljenje bira, 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nasuprot tom</a:t>
            </a:r>
            <a:r>
              <a:rPr b="1" lang="hr-HR" sz="3200" spc="-1" strike="noStrike">
                <a:solidFill>
                  <a:srgbClr val="018360"/>
                </a:solidFill>
                <a:latin typeface="Georgia"/>
              </a:rPr>
              <a:t>e,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 nesigurn</a:t>
            </a:r>
            <a:r>
              <a:rPr b="1" lang="hr-HR" sz="3200" spc="-1" strike="noStrike">
                <a:solidFill>
                  <a:srgbClr val="018360"/>
                </a:solidFill>
                <a:latin typeface="Georgia"/>
              </a:rPr>
              <a:t>e, neutabane staze!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Mislimo kreativn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mjer </a:t>
            </a:r>
            <a:r>
              <a:rPr b="0" lang="hr-HR" sz="2800" spc="-1" strike="noStrike">
                <a:solidFill>
                  <a:srgbClr val="018360"/>
                </a:solidFill>
                <a:latin typeface="Arial"/>
              </a:rPr>
              <a:t>zadatka za test kreativnosti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Na slici pred vama je plastična žaba, dječja igračka. Ovakva žaba može se kupiti u dućanu za dvadesetak kuna. Dugačka je 15 cm. Teška je 150 grama. Na praznom prostoru na stranici napišite najpametnije, najzanimljivije i najneobičnije načine koje možete smisliti za promjenu ove igračke tako da djeci bude još veće zadovoljstvo igrati se s njom. Ne brinite oko cijene promjene. Mislite samo na to što će igračku učiniti bolj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zek – Vidović, V. i sur.,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OPOO49LG"/>
          <p:cNvPicPr/>
          <p:nvPr/>
        </p:nvPicPr>
        <p:blipFill>
          <a:blip r:embed="rId1">
            <a:grayscl/>
          </a:blip>
          <a:stretch/>
        </p:blipFill>
        <p:spPr>
          <a:xfrm>
            <a:off x="3203640" y="2133720"/>
            <a:ext cx="13683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eorgia"/>
              </a:rPr>
              <a:t>Kakve su </a:t>
            </a:r>
            <a:r>
              <a:rPr b="1" lang="de-DE" sz="4400" spc="-1" strike="noStrike">
                <a:solidFill>
                  <a:srgbClr val="018360"/>
                </a:solidFill>
                <a:latin typeface="Georgia"/>
              </a:rPr>
              <a:t>kreativne osobe</a:t>
            </a:r>
            <a:r>
              <a:rPr b="1" lang="de-DE" sz="4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539640" y="1773360"/>
            <a:ext cx="51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otvorene prema 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okol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k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ritič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leksibi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lako se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 oduše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imaju puno inicij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origina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ferdnand20040112199210"/>
          <p:cNvPicPr/>
          <p:nvPr/>
        </p:nvPicPr>
        <p:blipFill>
          <a:blip r:embed="rId1"/>
          <a:stretch/>
        </p:blipFill>
        <p:spPr>
          <a:xfrm>
            <a:off x="1619280" y="4660920"/>
            <a:ext cx="58323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Georgia"/>
              </a:rPr>
              <a:t>Kakve su </a:t>
            </a:r>
            <a:r>
              <a:rPr b="1" lang="de-DE" sz="4400" spc="-1" strike="noStrike">
                <a:solidFill>
                  <a:srgbClr val="018360"/>
                </a:solidFill>
                <a:latin typeface="Georgia"/>
              </a:rPr>
              <a:t>kreativne osobe</a:t>
            </a:r>
            <a:r>
              <a:rPr b="1" lang="de-DE" sz="4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468360" y="228456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ekonvenciona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energične i hra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vole n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u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strajno rade na rješavanju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zadatka,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neovis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zrele, emocionalno stabilne i dominant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imaju </a:t>
            </a:r>
            <a:r>
              <a:rPr b="1" lang="it-IT" sz="2800" spc="-1" strike="noStrike">
                <a:solidFill>
                  <a:srgbClr val="000000"/>
                </a:solidFill>
                <a:latin typeface="Georgia"/>
              </a:rPr>
              <a:t>izrazit osjećaj za</a:t>
            </a:r>
            <a:r>
              <a:rPr b="1" lang="hr-HR" sz="2800" spc="-1" strike="noStrike">
                <a:solidFill>
                  <a:srgbClr val="000000"/>
                </a:solidFill>
                <a:latin typeface="Georgia"/>
              </a:rPr>
              <a:t> hum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Kako </a:t>
            </a:r>
            <a:r>
              <a:rPr b="1" lang="hr-HR" sz="3600" spc="-1" strike="noStrike">
                <a:solidFill>
                  <a:srgbClr val="018360"/>
                </a:solidFill>
                <a:latin typeface="Georgia"/>
              </a:rPr>
              <a:t>poticati</a:t>
            </a: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 kreativnost djete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Odrasle osobe, učitelji i roditelji, mogu poticati kreativnost djece na brojne nač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postavljanjem </a:t>
            </a:r>
            <a:r>
              <a:rPr b="1" lang="hr-HR" sz="2000" spc="-1" strike="noStrike">
                <a:solidFill>
                  <a:srgbClr val="018360"/>
                </a:solidFill>
                <a:latin typeface="Georgia"/>
              </a:rPr>
              <a:t>pitanja koja pobuđuju različite psihičke funkcije</a:t>
            </a:r>
            <a:r>
              <a:rPr b="1" lang="hr-HR" sz="2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1" i="1" lang="hr-HR" sz="2000" spc="-1" strike="noStrike">
                <a:solidFill>
                  <a:srgbClr val="000000"/>
                </a:solidFill>
                <a:latin typeface="Georgia"/>
              </a:rPr>
              <a:t>Tko?, Kada?, Gdje?, Kako?, Zašto?, Objasni!, Na koji još način možeš...?, Što bi bilo kad bi..?, Imaš li drugu ideju?, Usporedi, što je bolje, ljepše... ? Što te još podsjeća na to? Po čemu je to slično a po čemu je različito od...? Što misliš da će se dogoditi ako...? Na što te to podsjeća?</a:t>
            </a:r>
            <a:r>
              <a:rPr b="1" lang="hr-HR" sz="2000" spc="-1" strike="noStrike">
                <a:solidFill>
                  <a:srgbClr val="000000"/>
                </a:solidFill>
                <a:latin typeface="Georgia"/>
              </a:rPr>
              <a:t>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 rot="1259400">
            <a:off x="610920" y="1341000"/>
            <a:ext cx="2952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01836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Kako </a:t>
            </a:r>
            <a:r>
              <a:rPr b="1" lang="hr-HR" sz="3600" spc="-1" strike="noStrike">
                <a:solidFill>
                  <a:srgbClr val="018360"/>
                </a:solidFill>
                <a:latin typeface="Georgia"/>
              </a:rPr>
              <a:t>poticati</a:t>
            </a:r>
            <a:r>
              <a:rPr b="1" lang="hr-HR" sz="3600" spc="-1" strike="noStrike">
                <a:solidFill>
                  <a:srgbClr val="000000"/>
                </a:solidFill>
                <a:latin typeface="Georgia"/>
              </a:rPr>
              <a:t> kreativnost djete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 rot="309600">
            <a:off x="647280" y="1989000"/>
            <a:ext cx="849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 djecom možemo igrati i različite </a:t>
            </a:r>
            <a:r>
              <a:rPr b="0" lang="hr-HR" sz="2400" spc="-1" strike="noStrike">
                <a:solidFill>
                  <a:srgbClr val="009999"/>
                </a:solidFill>
                <a:latin typeface="Arial"/>
              </a:rPr>
              <a:t>ig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gre originalnih odgovora -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pr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Što je sve crveno?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uobičajeni odgovori donose 1 bod (jabuka, srce, rajčica), neuobičajeni 2 ili više (Mars, kapa patulj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gre riječi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povezivanje, premetanje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mišljanje nastavka priče ili drukčijeg kr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nalaženje vez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npr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Što je zajedničko mravu i lokomotiv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zličite upotreb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npr.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Za što sve može poslužiti olovk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vršavanje jednostavnih crteža na što zanimljiviji nač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mišljanje i dodavanje različitih pokr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blemske prič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53920" cy="1413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684360" y="2133720"/>
            <a:ext cx="806580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Burke Walsh, K. (obrada hrvatskog izdanja Hitrec, G.). (2002.). </a:t>
            </a:r>
            <a:r>
              <a:rPr b="0" i="1" lang="hr-HR" sz="2000" spc="-1" strike="noStrike">
                <a:solidFill>
                  <a:srgbClr val="000000"/>
                </a:solidFill>
                <a:latin typeface="Georgia"/>
              </a:rPr>
              <a:t>Kurikulum za prvi razred osnovne škole – Stvaranje razreda usmjerenog na dijete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. Zagreb: Udruga roditelja </a:t>
            </a:r>
            <a:r>
              <a:rPr b="0" i="1" lang="hr-HR" sz="2000" spc="-1" strike="noStrike">
                <a:solidFill>
                  <a:srgbClr val="000000"/>
                </a:solidFill>
                <a:latin typeface="Georgia"/>
              </a:rPr>
              <a:t>Korak po korak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za promicanje kvalitete življenja djece i obitel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Moises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 S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 KREATIVITÄ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T, </a:t>
            </a:r>
            <a:r>
              <a:rPr b="0" lang="de-DE" sz="2000" spc="-1" strike="noStrike">
                <a:solidFill>
                  <a:srgbClr val="000000"/>
                </a:solidFill>
                <a:latin typeface="Georgia"/>
              </a:rPr>
              <a:t>paedpsych.jk.uni-linz.ac.at/internet/ARBEITSBLAETTERORD/ PSYCHOLOGIEORD/Kreativitaet.html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rića, V. (1992.). </a:t>
            </a:r>
            <a:r>
              <a:rPr b="0" i="1" lang="hr-HR" sz="2000" spc="-1" strike="noStrike">
                <a:solidFill>
                  <a:srgbClr val="000000"/>
                </a:solidFill>
                <a:latin typeface="Georgia"/>
              </a:rPr>
              <a:t>Upravljanje kreativnošću.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Zagreb: Školska knj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Stevanović, M. (2002.). </a:t>
            </a:r>
            <a:r>
              <a:rPr b="0" i="1" lang="hr-HR" sz="2000" spc="-1" strike="noStrike">
                <a:solidFill>
                  <a:srgbClr val="000000"/>
                </a:solidFill>
                <a:latin typeface="Georgia"/>
              </a:rPr>
              <a:t>Škola i stvaralaštvo. 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Labin: Media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Vizek Vidović, V. i sur. (2003.). </a:t>
            </a:r>
            <a:r>
              <a:rPr b="0" i="1" lang="hr-HR" sz="2000" spc="-1" strike="noStrike">
                <a:solidFill>
                  <a:srgbClr val="000000"/>
                </a:solidFill>
                <a:latin typeface="Georgia"/>
              </a:rPr>
              <a:t>Psihologija obrazovanja</a:t>
            </a:r>
            <a:r>
              <a:rPr b="0" lang="hr-HR" sz="2000" spc="-1" strike="noStrike">
                <a:solidFill>
                  <a:srgbClr val="000000"/>
                </a:solidFill>
                <a:latin typeface="Georgia"/>
              </a:rPr>
              <a:t>. Zagreb: IEP-V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353160" y="5373720"/>
            <a:ext cx="844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Georgia"/>
              </a:rPr>
              <a:t>poticanje kreativnosti kod dje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Preporučuj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53920" cy="1413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84360" y="214776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Cvetković – Lay, J. (2002.). 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Darovito je, što ću sa sobom? priručnik</a:t>
            </a:r>
            <a:r>
              <a:rPr b="1" i="1" lang="it-IT" sz="2400" spc="-1" strike="noStrike">
                <a:solidFill>
                  <a:srgbClr val="000000"/>
                </a:solidFill>
                <a:latin typeface="Georgia"/>
              </a:rPr>
              <a:t> za obitelj, vrtić i školu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Zagreb: Ali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Cvetković – Lay, J. (1998.). 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Darovito je, što ću s njim? - priručnik za odgoj i obrazovanje darovite djece predškolske dobi.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Zagreb: Ali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Srića, V. (1992.). </a:t>
            </a:r>
            <a:r>
              <a:rPr b="1" i="1" lang="hr-HR" sz="2400" spc="-1" strike="noStrike">
                <a:solidFill>
                  <a:srgbClr val="000000"/>
                </a:solidFill>
                <a:latin typeface="Georgia"/>
              </a:rPr>
              <a:t>Upravljanje kreativnošću.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Zagreb: Školska knj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Georgia"/>
              </a:rPr>
              <a:t>Što je kreativ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Kreativnošću se označavaju mentalni procesi koji dovode do novih rješenja, ideja, zamisli, umjetničkih formi, teorija i proizvoda koji su </a:t>
            </a:r>
            <a:r>
              <a:rPr b="1" lang="hr-HR" sz="2400" spc="-1" strike="noStrike">
                <a:solidFill>
                  <a:srgbClr val="018360"/>
                </a:solidFill>
                <a:latin typeface="Georgia"/>
              </a:rPr>
              <a:t>jedinstveni i novi.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Riječ je latinskog porijekla – “</a:t>
            </a:r>
            <a:r>
              <a:rPr b="1" lang="hr-HR" sz="2400" spc="-1" strike="noStrike">
                <a:solidFill>
                  <a:srgbClr val="018360"/>
                </a:solidFill>
                <a:latin typeface="Georgia"/>
              </a:rPr>
              <a:t>c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reare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” znači stvarati, rađ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Za ono što je kreativno kažemo najčešće da je – 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originalno,  novo, neuobičajeno, spontano, primjereno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 itd.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Z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a kreativne osobe kažemo da imaju osobine kao što su – 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otvorenost, produktivnost, fleksibilnost, sposobnost pronalaštva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 itd. Često se kao sinonimi za kreativnost koriste riječi – 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genijalnost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 i </a:t>
            </a:r>
            <a:r>
              <a:rPr b="1" lang="it-IT" sz="2400" spc="-1" strike="noStrike">
                <a:solidFill>
                  <a:srgbClr val="018360"/>
                </a:solidFill>
                <a:latin typeface="Georgia"/>
              </a:rPr>
              <a:t>originalnost</a:t>
            </a:r>
            <a:r>
              <a:rPr b="1" lang="it-IT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Kreativnost i </a:t>
            </a:r>
            <a:r>
              <a:rPr b="1" lang="hr-HR" sz="4400" spc="-1" strike="noStrike">
                <a:solidFill>
                  <a:srgbClr val="018360"/>
                </a:solidFill>
                <a:latin typeface="Georgia"/>
              </a:rPr>
              <a:t>inteligen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835280" y="1282680"/>
            <a:ext cx="6984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Istraživanja pokazuju relativno malu povezanost između kreativnosti i inteligenc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Oni koji postižu niske rezultate ispitivane klasičnim testovima inteligencije, postižu niske rezultate i u testovima kreativ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Oni koji postižu visoke rezultate u testovima inteligencije, postižu od najnižih do najviših rezultata u testovima kreativnosti. Drugim riječima, prosječna inteligencija je nužan, ali ne i dovoljan uvjet za kreativno mišlje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Georgia"/>
              </a:rPr>
              <a:t>Kreativnost i </a:t>
            </a:r>
            <a:r>
              <a:rPr b="1" lang="hr-HR" sz="4400" spc="-1" strike="noStrike">
                <a:solidFill>
                  <a:srgbClr val="018360"/>
                </a:solidFill>
                <a:latin typeface="Georgia"/>
              </a:rPr>
              <a:t>inteligen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35280" y="1557360"/>
            <a:ext cx="6984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I visoko inteligentna i visoko kreativna djeca su u školi uspješnija od ostale dje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Istraživanja pokazuju neka specifična obilježja obitelji iz kojih potiču kreativna djeca – to su obitelji u kojima se cijene </a:t>
            </a:r>
            <a:r>
              <a:rPr b="1" lang="hr-HR" sz="2400" spc="-1" strike="noStrike">
                <a:solidFill>
                  <a:srgbClr val="018360"/>
                </a:solidFill>
                <a:latin typeface="Georgia"/>
              </a:rPr>
              <a:t>dječji interesi, nezavisnost i preuzimanje rizika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S druge strane, obitelji visokointeligentne djece, prema istraživanjima, češće daju više važnosti </a:t>
            </a:r>
            <a:r>
              <a:rPr b="1" lang="hr-HR" sz="2400" spc="-1" strike="noStrike">
                <a:solidFill>
                  <a:srgbClr val="018360"/>
                </a:solidFill>
                <a:latin typeface="Georgia"/>
              </a:rPr>
              <a:t>dobrom ponašanju i školskom uspjehu</a:t>
            </a:r>
            <a:r>
              <a:rPr b="1" lang="hr-HR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1341360"/>
            <a:ext cx="9144000" cy="5803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Kreativnost kao </a:t>
            </a:r>
            <a:r>
              <a:rPr b="1" lang="it-IT" sz="4000" spc="-1" strike="noStrike">
                <a:solidFill>
                  <a:srgbClr val="ff0000"/>
                </a:solidFill>
                <a:latin typeface="Georgia"/>
              </a:rPr>
              <a:t>cilj</a:t>
            </a: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 obrazovanja i odg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21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Cilj 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odgoja i </a:t>
            </a: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obrazovanja nije više jednostrano inteligentan, dobro prilagođen čovjek oslobođen konflikata</a:t>
            </a:r>
            <a:r>
              <a:rPr b="1" lang="hr-HR" sz="32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već kreativna (stvaralačka), kritična osoba koja je sposobna rješavati konflikte (sukob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1341360"/>
            <a:ext cx="9144000" cy="5803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Kreativnost kao </a:t>
            </a:r>
            <a:r>
              <a:rPr b="1" lang="it-IT" sz="4000" spc="-1" strike="noStrike">
                <a:solidFill>
                  <a:srgbClr val="ff0000"/>
                </a:solidFill>
                <a:latin typeface="Georgia"/>
              </a:rPr>
              <a:t>cilj</a:t>
            </a: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 obrazovanja i odg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Znanstveno – tehnički napredak se sve više ubrzava, zato se sve više traži intelektualni i kreativni rad. Društvene pojave i odnosi su u suvremenom svijetu su sve složeniji pa se ne mogu rješavati samo učenjem činjenica. Zato djecu trebamo sve više učiti rješavanju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Za kreativno mišljenje i ponašanje potrebno je i imati pouzdanja u vlastita prosuđivanja i hrabrosti za zalaganje za vlastite ideje. Stoga djecu trebamo poučavati i kritičnom prosuđivanju, a ne preuzimanju tuđih ideja. S druge strane, rad se sve više odvija timski pa je potrebno učiti djecu suradnji i rješavanju konflik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1341360"/>
            <a:ext cx="9144000" cy="5803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183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Kreativnost kao </a:t>
            </a:r>
            <a:r>
              <a:rPr b="1" lang="it-IT" sz="4000" spc="-1" strike="noStrike">
                <a:solidFill>
                  <a:srgbClr val="ff0000"/>
                </a:solidFill>
                <a:latin typeface="Georgia"/>
              </a:rPr>
              <a:t>cilj</a:t>
            </a:r>
            <a:r>
              <a:rPr b="1" lang="it-IT" sz="4000" spc="-1" strike="noStrike">
                <a:solidFill>
                  <a:srgbClr val="ffffff"/>
                </a:solidFill>
                <a:latin typeface="Georgia"/>
              </a:rPr>
              <a:t> obrazovanja i odg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42100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50920" y="1989000"/>
            <a:ext cx="86421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eorgia"/>
              </a:rPr>
              <a:t>Slavna učiteljica Ellen Key u knjizi “Stoljeće djeteta” piše o tome: </a:t>
            </a:r>
            <a:r>
              <a:rPr b="0" i="1" lang="hr-HR" sz="2800" spc="-1" strike="noStrike">
                <a:solidFill>
                  <a:srgbClr val="000000"/>
                </a:solidFill>
                <a:latin typeface="Georgia"/>
              </a:rPr>
              <a:t>“Stvaranje novog naraštaja treba odgojitelja koji neće savjetovati djetetu da čini ono što i drugi čine, već će se radovati kad uoči da dijete odstupa od toga. Ako nam tuđe mišljenje postane smjernica, počet ćemo se podčinjavati i tuđoj volji i tako postati samo dio horde koju “nadčovjek” vodi na temelju svoje volje, volje koja ne bi mogla svladati broj ličnosti koje su svaka oblikovane za seb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258920" y="3716280"/>
            <a:ext cx="69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Humanistička psihologija polazi od toga da je kreativnost </a:t>
            </a:r>
            <a:r>
              <a:rPr b="1" lang="it-IT" sz="3200" spc="-1" strike="noStrike">
                <a:solidFill>
                  <a:srgbClr val="018360"/>
                </a:solidFill>
                <a:latin typeface="Georgia"/>
              </a:rPr>
              <a:t>opća i osnovna potreba čovjeka</a:t>
            </a:r>
            <a:r>
              <a:rPr b="1" lang="it-IT" sz="3200" spc="-1" strike="noStrike">
                <a:solidFill>
                  <a:srgbClr val="000000"/>
                </a:solidFill>
                <a:latin typeface="Georgia"/>
              </a:rPr>
              <a:t> – kreativnost je bitan izraz razvoja čovje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20:00:11Z</dcterms:created>
  <dc:creator>sanja</dc:creator>
  <dc:description/>
  <dc:language>en-US</dc:language>
  <cp:lastModifiedBy>Kreso Stojic</cp:lastModifiedBy>
  <dcterms:modified xsi:type="dcterms:W3CDTF">2009-05-15T19:58:19Z</dcterms:modified>
  <cp:revision>12</cp:revision>
  <dc:subject/>
  <dc:title>Slide 1</dc:title>
</cp:coreProperties>
</file>