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B00-01A3-48CC-AD01-471DAE3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CEE-A47D-4745-B25C-7C78118C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42A-897D-4562-9E45-F1B4F97A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14C-6A0E-47BC-84FC-161C5904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B7FB-997C-43FC-98BF-932822A4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0E9-735B-458D-AE19-4836842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2FC7-1BF5-4323-9BC8-B3E3D7C3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4F1D-618E-438A-8118-F072D48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2204-9DD3-4DE5-A2D1-881CB47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6422-1E90-4471-8476-F96B191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665-EDD9-4DC2-A32B-D8FDA1A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6B1-3FBB-47B7-A04D-AE58DFA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AF1F-7559-4C4A-8DE5-C0AED62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F996-CE2F-4C89-949C-4452099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1BCA-F223-429F-9D6D-6241498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890-6A65-4B19-908B-9FB1C7A9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8C4-D557-443A-BCE8-ADB1F7F6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382-AA62-42BB-BB8F-9F0D49F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3F5-BB95-483F-8408-B8B25CC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362-CD2B-4637-8F89-14E4F2C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11D-6F97-4BA7-8737-6E41DEDF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CC9-0846-472E-80A5-4224913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260-2DFF-4CDA-A02C-127DC21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B1D-2A55-4F2C-86A5-E0B7379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99F-6852-4900-8096-EC25DC121AF8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AAB-0AD4-46BA-8F6D-68763D600046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b9efee"/>
                </a:solidFill>
                <a:latin typeface="Garamond"/>
              </a:rPr>
              <a:t>Pomozite djetetu da lakše uč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načina kako roditelj može pomoći djetetu u uče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6000" y="4797360"/>
            <a:ext cx="61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okažite iskreni interes prema onome što dij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č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Imajte pozitivan stav prema sposobnost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jeteta, vjerujte u njegov uspjeh i tr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Organizirajte mjesto u stanu koje služi samo 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čenje, provjerite da li je mjesto dobro osvijetlje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101080" y="2924280"/>
            <a:ext cx="581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U vrijeme kad dijete uči smanjite količinu buke u stanu, ugasite TV, ne dopustite da ga ometa glasna glazba, zvonjava telefona, ne dopustite ostalim članovima obitelji, susjedima ili prijateljima ulaženje u sobu gdje dijete uč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Pomognite djetetu da adekvatno organizira vrijeme za učenje – teže zadatke neka obavi dok je odmorno, lakše neka ostavi za kr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6. Ako primjećujete da se dijete teško snalazi u gradivu pomozite mu da prepozna BITNO u tekstu, potičite ga da izvlači bilješke pored teksta, neka raznim bojama označi bitne činjenice u grad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7. Pomognite djetetu da zapiše pitanja o gradivu koja ga mogu voditi u učenju, na svako pitanje neka napiše jasan i koncizan odgovor. Ako dijete to želi možete ga ispitati pomoću tih p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8. Pokažite mu gdje može pronaći dodatne informacije – Internet, knjižnica i sl. mogu djetetu pomoći povezati sve dijelove gradiva u cjelinu i povezati naizgled nepovezane inform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9. Potaknite dijete da uzme pauzu nakon obavljenog zadatka, neka se nagradi kad izvrši dio obveza – npr. malom čokoladom ili voćem. Pazite da pauza ne bude duža od 10-15 minu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ako bi se dijete moglo lakše ponovno koncentrira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10. Ako primjećujete da vaše dijete ima poteškoća u koncentriranju, nemogućnosti zapamćivanja ili procesu učenja ili teško čita/piše vaša roditeljska obaveza je pronaći stručnjaka i obratiti mu se za pomo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(Pripremila: Sonja P.H.prof.psiholo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9:32:43Z</dcterms:created>
  <dc:creator>Korisnik</dc:creator>
  <dc:description/>
  <dc:language>en-US</dc:language>
  <cp:lastModifiedBy>Krešo</cp:lastModifiedBy>
  <dcterms:modified xsi:type="dcterms:W3CDTF">2008-06-06T18:42:39Z</dcterms:modified>
  <cp:revision>4</cp:revision>
  <dc:subject/>
  <dc:title>Pomozite djetetu da lakše uči</dc:title>
</cp:coreProperties>
</file>