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461-7B18-427D-B9F3-FBD8038F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0343-8474-4F2F-87F1-69A7C9419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33DD-A255-4F80-8831-1625359E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26B-89EA-4519-9B07-F306503F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271-3546-4F66-9E16-132899AE7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29D-88FC-46F7-90B3-9AFC52E9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FF8-51E4-4F6C-8626-841745A8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6F1-A731-4D5F-91EE-976E028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71A-AA71-4321-95F6-323DB7A5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657-26D6-42DE-827F-3B9690B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D86-DFB6-4369-B8FD-A454099E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84A1-D365-46B4-988C-B4B11BE9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CDE3-7218-4BEF-A4CA-9449BCB66AB9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533520"/>
            <a:ext cx="1295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Ploh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76320" y="1143000"/>
            <a:ext cx="41148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oha je oblik koji ima samo širinu i duži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oslovno: svjetlosna mrlja ili sjena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lobodnije: treća dimenzija je nenaglaše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D:\predavanja\Ploha mala\baterije.jpg"/>
          <p:cNvPicPr/>
          <p:nvPr/>
        </p:nvPicPr>
        <p:blipFill>
          <a:blip r:embed="rId1"/>
          <a:stretch/>
        </p:blipFill>
        <p:spPr>
          <a:xfrm>
            <a:off x="4267080" y="12600"/>
            <a:ext cx="45468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191120" y="152280"/>
            <a:ext cx="46479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likovni i kompozicijski elementi kao poticaj,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tam geometrijskih likov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ritam geometrijskih likov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olaž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D:\predavanja\Ploha mala\rezanje geometrije.jpg"/>
          <p:cNvPicPr/>
          <p:nvPr/>
        </p:nvPicPr>
        <p:blipFill>
          <a:blip r:embed="rId1"/>
          <a:stretch/>
        </p:blipFill>
        <p:spPr>
          <a:xfrm>
            <a:off x="190440" y="0"/>
            <a:ext cx="2857680" cy="6845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D:\predavanja\Ploha mala\rezanje razred.jpg"/>
          <p:cNvPicPr/>
          <p:nvPr/>
        </p:nvPicPr>
        <p:blipFill>
          <a:blip r:embed="rId2"/>
          <a:stretch/>
        </p:blipFill>
        <p:spPr>
          <a:xfrm>
            <a:off x="4267080" y="2362320"/>
            <a:ext cx="30816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8"/>
          <p:cNvSpPr/>
          <p:nvPr/>
        </p:nvSpPr>
        <p:spPr>
          <a:xfrm>
            <a:off x="6629400" y="4648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ctor Vasarely: Folk-lor, 197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9" descr="D:\predavanja\Ploha mala\Victor Vasarely. Folk Lor. 1973.jpg"/>
          <p:cNvPicPr/>
          <p:nvPr/>
        </p:nvPicPr>
        <p:blipFill>
          <a:blip r:embed="rId1"/>
          <a:stretch/>
        </p:blipFill>
        <p:spPr>
          <a:xfrm>
            <a:off x="5334120" y="380880"/>
            <a:ext cx="3479760" cy="419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D:\predavanja\Ploha mala\1 razred. geometrija 3.jpg"/>
          <p:cNvPicPr/>
          <p:nvPr/>
        </p:nvPicPr>
        <p:blipFill>
          <a:blip r:embed="rId2"/>
          <a:stretch/>
        </p:blipFill>
        <p:spPr>
          <a:xfrm>
            <a:off x="317520" y="0"/>
            <a:ext cx="2730600" cy="2184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D:\predavanja\Ploha mala\1 razred. geometrija 4.jpg"/>
          <p:cNvPicPr/>
          <p:nvPr/>
        </p:nvPicPr>
        <p:blipFill>
          <a:blip r:embed="rId3"/>
          <a:stretch/>
        </p:blipFill>
        <p:spPr>
          <a:xfrm>
            <a:off x="355680" y="4699080"/>
            <a:ext cx="2692440" cy="2158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D:\predavanja\Ploha mala\1 razred. geometrija 1.jpg"/>
          <p:cNvPicPr/>
          <p:nvPr/>
        </p:nvPicPr>
        <p:blipFill>
          <a:blip r:embed="rId4"/>
          <a:stretch/>
        </p:blipFill>
        <p:spPr>
          <a:xfrm>
            <a:off x="228600" y="2298600"/>
            <a:ext cx="28195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1143000"/>
            <a:ext cx="65530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ohe još mogu bit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Samostal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lohe - načinjene geometrijskim i slobodnim likovima, 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Funkcional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nesamostal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lohe -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oplošj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koja zatvaraju neki volumen. U arhitekturi su to fasade i unutarnje stijene, a u kiparstvu vanjski i unutarnji dijelovi kipa gdje se susreću volumen i prosto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04920" y="3124080"/>
            <a:ext cx="45720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loha im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granicu, obris ili konturu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boju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teksturu (preuzima od površine)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eutralizacija se događa u ogledalu i stakl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D:\predavanja\Ploha i povrsina\Walter Gropius. Zgrada Bauhausa, 1925.jpg"/>
          <p:cNvPicPr/>
          <p:nvPr/>
        </p:nvPicPr>
        <p:blipFill>
          <a:blip r:embed="rId1"/>
          <a:stretch/>
        </p:blipFill>
        <p:spPr>
          <a:xfrm>
            <a:off x="4952880" y="2635200"/>
            <a:ext cx="39052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:\predavanja\Ploha mala\ogledala.jpg"/>
          <p:cNvPicPr/>
          <p:nvPr/>
        </p:nvPicPr>
        <p:blipFill>
          <a:blip r:embed="rId1"/>
          <a:stretch/>
        </p:blipFill>
        <p:spPr>
          <a:xfrm>
            <a:off x="2197080" y="6480"/>
            <a:ext cx="474984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predavanja\Ploha i povrsina\kazaliste sjena 1.JPG"/>
          <p:cNvPicPr/>
          <p:nvPr/>
        </p:nvPicPr>
        <p:blipFill>
          <a:blip r:embed="rId1"/>
          <a:stretch/>
        </p:blipFill>
        <p:spPr>
          <a:xfrm>
            <a:off x="304920" y="1220760"/>
            <a:ext cx="4038480" cy="3048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304920" y="380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Kazalište sje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D:\predavanja\Ploha mala\kazaliste sjena 2.jpg"/>
          <p:cNvPicPr/>
          <p:nvPr/>
        </p:nvPicPr>
        <p:blipFill>
          <a:blip r:embed="rId2"/>
          <a:stretch/>
        </p:blipFill>
        <p:spPr>
          <a:xfrm>
            <a:off x="5791320" y="1219320"/>
            <a:ext cx="2971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D:\predavanja\Ploha i povrsina\Rodcenko.jpg"/>
          <p:cNvPicPr/>
          <p:nvPr/>
        </p:nvPicPr>
        <p:blipFill>
          <a:blip r:embed="rId1"/>
          <a:stretch/>
        </p:blipFill>
        <p:spPr>
          <a:xfrm>
            <a:off x="4237200" y="0"/>
            <a:ext cx="452592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981080" y="601992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eksandar Rodčenk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Ul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6095880" y="60199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Cartier-Bresso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im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5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D:\predavanja\Ploha mala\Henri Cartier Bresson.Rim.1959.jpg"/>
          <p:cNvPicPr/>
          <p:nvPr/>
        </p:nvPicPr>
        <p:blipFill>
          <a:blip r:embed="rId1"/>
          <a:stretch/>
        </p:blipFill>
        <p:spPr>
          <a:xfrm>
            <a:off x="1155600" y="0"/>
            <a:ext cx="46357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5791320" y="601992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y Cartier-Bresso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Rim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D:\predavanja\Ploha mala\Henri Cartier Bresson.Rome.1965.jpg"/>
          <p:cNvPicPr/>
          <p:nvPr/>
        </p:nvPicPr>
        <p:blipFill>
          <a:blip r:embed="rId1"/>
          <a:stretch/>
        </p:blipFill>
        <p:spPr>
          <a:xfrm>
            <a:off x="990720" y="1020600"/>
            <a:ext cx="7162560" cy="47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28600" y="1143000"/>
            <a:ext cx="411480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lici ili likovi kojima se služimo na plohi mogu biti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geometrijs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oblici: kvadrat, pravokutnik, trokut, krug, elipsa itd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slobod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li </a:t>
            </a: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organs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oblici, koji se slobodno razvijaju, bez uočljivog pravila geometrizacije, imaju element slučajnosti u svojoj građi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80880" y="60199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Katsukawa Shunsh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Glumac Ichikawa Danjuro V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78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" descr="D:\predavanja\Ploha mala\Katsukawa Shunsho. Glumac Ichikawa Danjuro V.1782.jpg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6629400" y="58672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ctor Vasarely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Orion No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7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D:\predavanja\Ploha mala\Victor Vasarely. Orion.Noir.1970.jpg"/>
          <p:cNvPicPr/>
          <p:nvPr/>
        </p:nvPicPr>
        <p:blipFill>
          <a:blip r:embed="rId1"/>
          <a:stretch/>
        </p:blipFill>
        <p:spPr>
          <a:xfrm>
            <a:off x="236520" y="228600"/>
            <a:ext cx="6087960" cy="6477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D:\predavanja\Ploha mala\Victor Vasarely. Orion.Noir.1970 2.jpg"/>
          <p:cNvPicPr/>
          <p:nvPr/>
        </p:nvPicPr>
        <p:blipFill>
          <a:blip r:embed="rId2"/>
          <a:stretch/>
        </p:blipFill>
        <p:spPr>
          <a:xfrm>
            <a:off x="6477120" y="1727280"/>
            <a:ext cx="25398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5257800" y="632448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oan M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Osobe na crvenoj zemlj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3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D:\predavanja\Ploha mala\Joan Miro. Osobe na crvenoj zemlji. 1938.jpg"/>
          <p:cNvPicPr/>
          <p:nvPr/>
        </p:nvPicPr>
        <p:blipFill>
          <a:blip r:embed="rId1"/>
          <a:stretch/>
        </p:blipFill>
        <p:spPr>
          <a:xfrm>
            <a:off x="838080" y="639720"/>
            <a:ext cx="739152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304920" y="586728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Vincent van Gogh: </a:t>
            </a:r>
            <a:br>
              <a:rPr sz="1200"/>
            </a:br>
            <a:r>
              <a:rPr b="0" i="1" lang="hr-HR" sz="1200" spc="-1" strike="noStrike">
                <a:solidFill>
                  <a:srgbClr val="ffffff"/>
                </a:solidFill>
                <a:latin typeface="Arial"/>
              </a:rPr>
              <a:t>Portret Pere Tangyja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, 188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D:\predavanja\Ploha mala\Vincent.van.Gogh.Portret Pere Tangyja.1888.jpg"/>
          <p:cNvPicPr/>
          <p:nvPr/>
        </p:nvPicPr>
        <p:blipFill>
          <a:blip r:embed="rId1"/>
          <a:stretch/>
        </p:blipFill>
        <p:spPr>
          <a:xfrm>
            <a:off x="2914560" y="0"/>
            <a:ext cx="531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143000" y="5164200"/>
            <a:ext cx="25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ikaz privid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volum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onska model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D:\predavanja\Ploha i povrsina\matisse.JPG"/>
          <p:cNvPicPr/>
          <p:nvPr/>
        </p:nvPicPr>
        <p:blipFill>
          <a:blip r:embed="rId1"/>
          <a:stretch/>
        </p:blipFill>
        <p:spPr>
          <a:xfrm>
            <a:off x="3973680" y="380880"/>
            <a:ext cx="4941720" cy="4119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3886200" y="51814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lošni prika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800000"/>
                </a:solidFill>
                <a:latin typeface="Arial"/>
              </a:rPr>
              <a:t>Lokalna boj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nema tonske modela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828800" y="45720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Carravagi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Narcis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7.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477120" y="45720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Matiss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Crvena sob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0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D:\predavanja\Ploha mala\narcis.jpg"/>
          <p:cNvPicPr/>
          <p:nvPr/>
        </p:nvPicPr>
        <p:blipFill>
          <a:blip r:embed="rId2"/>
          <a:stretch/>
        </p:blipFill>
        <p:spPr>
          <a:xfrm>
            <a:off x="209520" y="380880"/>
            <a:ext cx="3371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5:09:51Z</dcterms:created>
  <dc:creator>Miro</dc:creator>
  <dc:description/>
  <dc:language>en-US</dc:language>
  <cp:lastModifiedBy>Kreso Stojic</cp:lastModifiedBy>
  <dcterms:modified xsi:type="dcterms:W3CDTF">2009-05-15T20:29:50Z</dcterms:modified>
  <cp:revision>179</cp:revision>
  <dc:subject/>
  <dc:title>Boja</dc:title>
</cp:coreProperties>
</file>