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7.jpeg" ContentType="image/jpeg"/>
  <Override PartName="/ppt/media/image20.png" ContentType="image/png"/>
  <Override PartName="/ppt/media/image4.jpeg" ContentType="image/jpe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CBF1-0FD8-4A60-82C7-B8C96502F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DDD2-99DB-4AC2-B980-F1381FD34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8D64-0241-4A07-B9A6-A92145B0F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2B92-F6D3-4AEC-9C28-10B328B24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5D4E3-7D77-4EB5-9B94-BD2C33A81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03AF2-2471-4425-B487-8807F8872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62A50-2D18-4A90-BA31-5DD3F093C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97B7C-E581-4AA5-8911-D366C90D2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8DBA8-644E-473A-A73E-99F00224A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4746F-81EE-4AF1-A16D-52D9920D9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A8EF4-BFC2-4BD8-83BE-75C8CC8C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013A-89D2-4CBC-87EF-91B0A9902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0F5DA-E98A-4BF9-985C-A01CDE4F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60362-3757-4F29-9EE5-D32B7FCA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64DAE-B6CB-4EFA-8C47-13CDD5A32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5FDB6-BA9B-4F71-9255-B2FC8B759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3D9D0-59AB-45BA-98E3-0B9F02B71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CF9B-62F7-447F-9205-89232C2BD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0DC4-8B66-4990-BE26-10CE350FE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73ED-0D5B-4C99-84B9-C59552ACE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F887-F174-4521-95CC-084531607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684A-825E-4E8C-9612-5C5BB8F9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27AA-6255-4558-B04B-59CDF489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A994-0C3B-4A3C-800E-3E69D26F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620280" y="-418320"/>
            <a:ext cx="2669400" cy="7673760"/>
            <a:chOff x="-620280" y="-418320"/>
            <a:chExt cx="2669400" cy="7673760"/>
          </a:xfrm>
        </p:grpSpPr>
        <p:sp>
          <p:nvSpPr>
            <p:cNvPr id="1" name=""/>
            <p:cNvSpPr/>
            <p:nvPr/>
          </p:nvSpPr>
          <p:spPr>
            <a:xfrm rot="2700000">
              <a:off x="-320760" y="-111960"/>
              <a:ext cx="144432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rot="2700000">
              <a:off x="-321120" y="-119160"/>
              <a:ext cx="144288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2700000">
              <a:off x="-312480" y="-11160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700000">
              <a:off x="-308520" y="-113760"/>
              <a:ext cx="144468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2700000">
              <a:off x="52920" y="25812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700000">
              <a:off x="-320040" y="112968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700000">
              <a:off x="-321480" y="112176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2700000">
              <a:off x="-312480" y="1129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700000">
              <a:off x="-308520" y="112752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rot="2700000">
              <a:off x="52920" y="15044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rot="2700000">
              <a:off x="-320040" y="238068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rot="2700000">
              <a:off x="-320040" y="363636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rot="2700000">
              <a:off x="-321480" y="362844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rot="2700000">
              <a:off x="-312480" y="363600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rot="2700000">
              <a:off x="-308520" y="363420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2700000">
              <a:off x="52920" y="400608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2700000">
              <a:off x="-320760" y="4881960"/>
              <a:ext cx="144432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8900000">
              <a:off x="290520" y="516600"/>
              <a:ext cx="144468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8900000">
              <a:off x="281520" y="515880"/>
              <a:ext cx="1444320" cy="14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8900000">
              <a:off x="285840" y="51588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8900000">
              <a:off x="281160" y="51696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8900000">
              <a:off x="688680" y="8960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8900000">
              <a:off x="300240" y="175824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8900000">
              <a:off x="291240" y="1757520"/>
              <a:ext cx="144360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8900000">
              <a:off x="295200" y="175716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18900000">
              <a:off x="285840" y="1758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18900000">
              <a:off x="687960" y="213768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rot="2700000">
              <a:off x="-321480" y="237276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rot="2700000">
              <a:off x="-312480" y="2380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rot="2700000">
              <a:off x="-303840" y="237852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rot="2700000">
              <a:off x="52920" y="27554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rot="18900000">
              <a:off x="304920" y="3008880"/>
              <a:ext cx="144468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 rot="18900000">
              <a:off x="305280" y="3008880"/>
              <a:ext cx="144432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 rot="18900000">
              <a:off x="300600" y="3008160"/>
              <a:ext cx="144324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 rot="18900000">
              <a:off x="290520" y="3009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8900000">
              <a:off x="693000" y="338868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8900000">
              <a:off x="300240" y="426492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8900000">
              <a:off x="291240" y="4264200"/>
              <a:ext cx="144360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8900000">
              <a:off x="295200" y="426384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8900000">
              <a:off x="290520" y="426492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 rot="18900000">
              <a:off x="687960" y="464436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rot="2700000">
              <a:off x="-321120" y="4874760"/>
              <a:ext cx="144288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rot="2700000">
              <a:off x="-312480" y="4882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rot="2700000">
              <a:off x="-308520" y="4880160"/>
              <a:ext cx="144468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700000">
              <a:off x="52920" y="525708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rot="18900000">
              <a:off x="300240" y="551124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8900000">
              <a:off x="291240" y="5510880"/>
              <a:ext cx="1443600" cy="14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rot="18900000">
              <a:off x="295200" y="551016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8900000">
              <a:off x="285840" y="5511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rot="18900000">
              <a:off x="688680" y="589032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1"/>
          </p:nvPr>
        </p:nvSpPr>
        <p:spPr>
          <a:xfrm>
            <a:off x="1252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2"/>
          </p:nvPr>
        </p:nvSpPr>
        <p:spPr>
          <a:xfrm>
            <a:off x="3690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3"/>
          </p:nvPr>
        </p:nvSpPr>
        <p:spPr>
          <a:xfrm>
            <a:off x="7119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CAAFB-0780-4F04-8C78-6E4DD1354E7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-2489760" y="-1479240"/>
            <a:ext cx="14158800" cy="14128560"/>
            <a:chOff x="-2489760" y="-1479240"/>
            <a:chExt cx="14158800" cy="14128560"/>
          </a:xfrm>
        </p:grpSpPr>
        <p:sp>
          <p:nvSpPr>
            <p:cNvPr id="93" name=""/>
            <p:cNvSpPr/>
            <p:nvPr/>
          </p:nvSpPr>
          <p:spPr>
            <a:xfrm rot="18900000">
              <a:off x="-402480" y="635040"/>
              <a:ext cx="9953280" cy="995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7" y="0"/>
                  </a:moveTo>
                  <a:arcTo wR="10800" hR="10800" stAng="-5401097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7" y="0"/>
                  </a:moveTo>
                  <a:arcTo wR="10800" hR="10800" stAng="-5401097" swAng="5400000"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8900000">
              <a:off x="-414360" y="610560"/>
              <a:ext cx="9954000" cy="995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5" y="274"/>
                  </a:moveTo>
                  <a:arcTo wR="10800" hR="10800" stAng="-4624598" swAng="37611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5" y="274"/>
                  </a:moveTo>
                  <a:arcTo wR="10800" hR="10800" stAng="-4624598" swAng="3761142"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18900000">
              <a:off x="-428400" y="608760"/>
              <a:ext cx="9950400" cy="9951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0" y="1180"/>
                  </a:moveTo>
                  <a:arcTo wR="10800" hR="10800" stAng="-3777650" swAng="20620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0" y="1180"/>
                  </a:moveTo>
                  <a:arcTo wR="10800" hR="10800" stAng="-3777650" swAng="2062072"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rot="18900000">
              <a:off x="-345600" y="582480"/>
              <a:ext cx="9954000" cy="9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69821" swAng="8216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69821" swAng="821637"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18900000">
              <a:off x="-6120" y="1043280"/>
              <a:ext cx="920736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rot="18900000">
              <a:off x="-17280" y="1020240"/>
              <a:ext cx="9205560" cy="920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7" y="274"/>
                  </a:moveTo>
                  <a:arcTo wR="10800" hR="10800" stAng="-4624232" swAng="376164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7" y="274"/>
                  </a:moveTo>
                  <a:arcTo wR="10800" hR="10800" stAng="-4624232" swAng="3761643"/>
                </a:path>
              </a:pathLst>
            </a:custGeom>
            <a:gradFill rotWithShape="0">
              <a:gsLst>
                <a:gs pos="0">
                  <a:srgbClr val="ffcc66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8900000">
              <a:off x="-8640" y="1002960"/>
              <a:ext cx="920700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2" y="1181"/>
                  </a:moveTo>
                  <a:arcTo wR="10800" hR="10800" stAng="-3776942" swAng="2062679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2" y="1181"/>
                  </a:moveTo>
                  <a:arcTo wR="10800" hR="10800" stAng="-3776942" swAng="2062679"/>
                </a:path>
              </a:pathLst>
            </a:custGeom>
            <a:gradFill rotWithShape="0">
              <a:gsLst>
                <a:gs pos="0">
                  <a:srgbClr val="ff663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8900000">
              <a:off x="47520" y="978840"/>
              <a:ext cx="9204840" cy="920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70024" swAng="8219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70024" swAng="821920"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8900000">
              <a:off x="2535120" y="3738240"/>
              <a:ext cx="4075920" cy="407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76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4"/>
          </p:nvPr>
        </p:nvSpPr>
        <p:spPr>
          <a:xfrm>
            <a:off x="498240" y="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5"/>
          </p:nvPr>
        </p:nvSpPr>
        <p:spPr>
          <a:xfrm>
            <a:off x="3124080" y="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6"/>
          </p:nvPr>
        </p:nvSpPr>
        <p:spPr>
          <a:xfrm>
            <a:off x="6727680" y="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B18F6-1E40-4F96-A907-2A907A386013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480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0000"/>
                </a:solidFill>
                <a:latin typeface="Verdana"/>
              </a:rPr>
              <a:t>Sunčana Škrinjarić</a:t>
            </a:r>
            <a:r>
              <a:rPr b="0" lang="hr-HR" sz="3200" spc="-1" strike="noStrike">
                <a:solidFill>
                  <a:srgbClr val="cc0000"/>
                </a:solidFill>
                <a:latin typeface="Verdana"/>
              </a:rPr>
              <a:t> </a:t>
            </a:r>
            <a:br>
              <a:rPr sz="3200"/>
            </a:br>
            <a:r>
              <a:rPr b="0" lang="hr-HR" sz="3200" spc="-1" strike="noStrike">
                <a:solidFill>
                  <a:srgbClr val="cc0000"/>
                </a:solidFill>
                <a:latin typeface="Verdana"/>
              </a:rPr>
              <a:t>PLESNA HALJINA ŽUTOG MASLAČKA</a:t>
            </a:r>
            <a:endParaRPr b="0" lang="en-US" sz="32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49064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Verdana"/>
              </a:rPr>
              <a:t>Izbor fotografija: S. I. Unger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Verdana"/>
              </a:rPr>
              <a:t>04/2008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523880" y="609480"/>
            <a:ext cx="36576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I došli su uvijek zaposleni mravi, krijesnice umorne od noćnog rada, leptiri, bumbari i pčele, cvrčci i uholaže, pa ćak i jedan smrdljivi martin. Ali nitko nije znao pomoći malom maslačku koji je isplakao svoje suze i na kraju zaspao od tuge. Sanjao je o plesnoj svečanosti, o najljepšoj haljini i sjetnoj slavujevoj pjesmi, pa je makar u snu bio zadovoljan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524560" y="838080"/>
            <a:ext cx="2857320" cy="489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523880" y="609480"/>
            <a:ext cx="3810240" cy="44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No, u jarku na povišenom mjestu medu šibljem i otpacima stanovao je neki stari, vrlo ružni pauk koji nikada u životu nije bio dobar. Bio je krvnik jadnih mušica, koje su se zalijetale u njegovu golemu mrežu, bio je zloban i pakostan, a živio je kao pustinjak. Zato ga nitko nije pozivao na sastanke i svečanost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815080" y="2514600"/>
            <a:ext cx="2414520" cy="352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523880" y="609480"/>
            <a:ext cx="6553440" cy="38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Ali te noći, koja je bila lijepa i jasna jer je mjesec pokazao čitavo svoje okruglo debelo lice, stari pauk osjetio se nesretnim i osamljenim. Osjetio je da mu se približava smrt, a on nikada nije nikoga volio, nikada nije nikome donio radosti i darovao srece, nego samo tugu i suze. On pogleda maslačkov cvijet i reče samome sebi:-Izatkat ću mu haljinu nježnu i prozračnu poput najfinije paučine, providnu i laganu od najdivnije prede, kakvu nema niti jedan cvijetak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Učinit ću nekome radost i bit će mi lakše umrijeti, jer teško je ostaviti svijet kad saznaš da te nitko nije voli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648320" y="4724280"/>
            <a:ext cx="2286000" cy="16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523880" y="609480"/>
            <a:ext cx="6553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I stari se pauk dade na posao. Radio je neumorno čitavu noć, a ujutro je haljina bila gotova. I on je pokloni malo maslačku koji je od čuda i prevelike sreće rasklopio svoje žute cvjetove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438280" y="2544840"/>
            <a:ext cx="4648320" cy="315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523880" y="3730680"/>
            <a:ext cx="6934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I maslačak odjene haljinu nježnu poput daha izatkanu tajnom vještinom starog pauka koji umre od sreće i ponosa, jer cvijetak je bio prekrasan i svatko mu se morao diviti. I u svojoj prozračnoj, paučinastoj haljinici maslačak ode na ples. Svi su se divili njegovoj haljini, najljepšoj i najčudesnijoj u koju je stari pauk utkao svu ljubav svog oporog srca koja je bila skrivena na dnu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514600" y="685800"/>
            <a:ext cx="4419720" cy="294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95280" y="990720"/>
            <a:ext cx="4114800" cy="4489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Maslačak je plesao sa svima i bio je sretan. Glazba je te noći bila krasna, životinje su se umirile slušajući slavujevu pjesmu, pa i posve mala djeca u kolijevkama prestala su plakati. Maslačak je bio sretan i radosta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Dozivao je leptire i razgovarao s bumbarima. On je kao i jasmin i perunika hvatao blijede mjesečeve zrake koje su se prosipale na prostranu poljanu i na cvijeće prekrasno u ovoj nezaboravnoj noć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6095880" y="1447920"/>
            <a:ext cx="2422800" cy="403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523880" y="609480"/>
            <a:ext cx="6553440" cy="26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Sutradan bilo je sve isto kao i obično, a maslačak je još sanjao o velikoj sreći protekle noći. Neki nestašni dječak puhnuo je u njegovu prozračnu plesnu haljinicu i ona se raspršila daleko po putovima. Ali od onda svake godine uoči cvjetnog plesa maslačci oblače svoje divne paučinaste haljinice i odlaze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819520" y="3200400"/>
            <a:ext cx="3828960" cy="287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523880" y="609480"/>
            <a:ext cx="6553440" cy="21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Idućeg proljeća na toj poljani niklo je desetak novih malih maslaćaka i svi su oni također otišli na veliki cvjetni ples. Tako se ova priča ponavlja iz godine u godinu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133720" y="2590920"/>
            <a:ext cx="5029200" cy="377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523880" y="609480"/>
            <a:ext cx="6553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Svake godine cvijeće priređuje svoj veliki, raskošni ples do zore. Tada zvijezde sjaju jače nego obično, a mali lampioni - krijesnice pale svoje svjetiljke po grmovima. S dalekih samotnih proplanaka dopire do plesne dvorane slavujeva pjesma, miševi su članovi zabavnog orkestra, a vjeverica - veliki bubnjar. To se događa svake godine u isto vrijeme samo mi ljudi teško saznajemo točnu noć i mjesto plesa, jer cvijeće je tajanstveno…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>
            <a:lum contrast="8000"/>
          </a:blip>
          <a:stretch/>
        </p:blipFill>
        <p:spPr>
          <a:xfrm>
            <a:off x="2666880" y="3940200"/>
            <a:ext cx="4191120" cy="238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523880" y="609480"/>
            <a:ext cx="6553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Znate i sami, da nikada ne govori… Ipak, štošta se može saznati od leptira i brbljavih bubamara, tih velikih prijatelja cvijeća. I oni odlaze na te godišnje plesove i svojim krilima kao lepezama rashlađuju umorne plesač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577880" y="3276720"/>
            <a:ext cx="1590840" cy="24573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352680" y="3048120"/>
            <a:ext cx="4800600" cy="30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Ova je priča ispričana malenom, svjetlokosom dječaku koji je volio cvijeće i životinje. Nije trgao cvjetne latice po nasadima parkova i nije vukao za rep svoju sirotu, ostarjelu mačku. Bio je dobar, a životinje i cviječe vole djecu i povjeravaju im o svome životu više nego ostalim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523880" y="609480"/>
            <a:ext cx="6934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Čitavu godinu cvijeće se priprema za taj ples. Kroje se šarene haljine, nježni ukrasi i čudnovate kape, leptiri donose na svojim ledima uzorke iz dalekih krajeva. Ruža - taj divan cvijet - odijeva nježno, šareno ruho i posipava latice opojnim mirisom. Plavooke potočnice odijevaju modre haljinice sa zelenim kišnim kabanicama. Ljubičica skromno nosi svoju jednostavnu, ali otmjenu odjeću, visibaba dolazi odjevena u bijelo kao vila ili mlade nevjest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600200" y="384804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721560" y="3848040"/>
            <a:ext cx="1584360" cy="21337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4038480" y="3884760"/>
            <a:ext cx="2362320" cy="209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523880" y="609480"/>
            <a:ext cx="6553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Vitki zumbuli plešu sa stidljivim orhidejama, mirisni jorgovan sa žarkim tulipanima, blijedi lopoč sa sredine jezera doziva svoju ljubimicu - hladnu i čudesnu peruniku. Vi poznajete, sve to cvijeće; visibabe i ljubičice brali ste u šumama, ruže se kupuju kao dar za rodenđan, jorgovani su možda mirisali u vašim staklenim vazama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943600" y="3505320"/>
            <a:ext cx="1303200" cy="17431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944720" y="3505320"/>
            <a:ext cx="1332000" cy="17524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3733920" y="3495600"/>
            <a:ext cx="1752480" cy="175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523880" y="609480"/>
            <a:ext cx="3810240" cy="52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Ali postoji cvijet koji se ne prodaje po trgovinama, ne bere na proljetnim šumskim šetnjama, on ne miriše lijepo, a vrtlari ga ne vole. Ljudi gaze po njemu: - To je maslačak, obični dosadni drač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Pa ipak, na velikom godišnjem plesu imao je maslačak najljepšu haljinu, nitko pa ni ruža nije bila tako lijepa, kao skromni cvijet iz seoskog jarka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943600" y="2590920"/>
            <a:ext cx="2448000" cy="296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523880" y="3807000"/>
            <a:ext cx="6553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To se dogodilo jedne godine, ne znam koje, jer u životu cvijeta sve se ponavlja. Ono ne broji svoje godine kao mi ljudi, u njih prolazi vrijeme brže nego u našim kalendarima. Krojile su se haljine za veliku plesnu svečanost, svaki cvijetak je bio radostan, sunce je sjalo, nebo je bilo modro i ravno kao velika staklena ploč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819520" y="855720"/>
            <a:ext cx="4038480" cy="280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523880" y="609480"/>
            <a:ext cx="6553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A u seoskom jarku plakao je bijelim suzama maslačak u svojoj ružnoj izgaženoj suknji u kojoj nikako nije mogao poći na ples. Ali nikoga nije bilo tko bi mu mogao pomoći samo je jedna bubamara čula njegovo jecanje i upitala ga: - Zašto plačeš? Svi se raduju, a ti si tužan. Reci, možda te mogu savjetovat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048120" y="312408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523880" y="758880"/>
            <a:ext cx="3429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Maslačak je odgovorio: - Haljina mi je izgažena, ne mirišem kao ruža ili jorgovan, nemam plavu boju potočnice ni ponosno držanje zumbula. A sutra je ples. Neću da budem najružniji. Bubamara se zamislila. Ona je mudra i stara, svuda putuje i svakoga poznaje, ali nije znala pomoći malom maslačku. Samo je rekla: - Sazvat će sve kukce i pitati ih za savjet. Sigurno će ti netko od njih pomoć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299200" y="1371600"/>
            <a:ext cx="3387600" cy="456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5T10:20:22Z</dcterms:created>
  <dc:creator>KONCAR-EASN</dc:creator>
  <dc:description/>
  <dc:language>en-US</dc:language>
  <cp:lastModifiedBy>Krešo</cp:lastModifiedBy>
  <dcterms:modified xsi:type="dcterms:W3CDTF">2008-05-23T15:13:58Z</dcterms:modified>
  <cp:revision>12</cp:revision>
  <dc:subject/>
  <dc:title>PLESNA HALJINA ŽUTOG MASLAČKA</dc:title>
</cp:coreProperties>
</file>