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44.jpeg" ContentType="image/jpeg"/>
  <Override PartName="/ppt/media/image38.jpeg" ContentType="image/jpeg"/>
  <Override PartName="/ppt/media/image31.jpeg" ContentType="image/jpeg"/>
  <Override PartName="/ppt/media/image3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205-B9C1-4C68-9667-1D2B4DF9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4D6-F58F-486F-BA8A-1F8209D7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27F-B549-4F42-8773-3EA9069F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3D8-9CFD-4524-9A51-BE6B2DE0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188-E3EE-4E0A-8F6E-D8B611C8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356-93D2-447D-A3BC-FABEC0B6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39B-FDD1-42CA-BBB6-172AF837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26C-7BE8-42E0-873F-02FAC4B2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25B-ACF5-44B5-BBD3-A47D25C9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1B1-6EBB-4468-B2C9-9BCD58A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704-546E-42EA-9850-AE6B7FD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189-C323-48D9-BFDD-813E03EB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7EDE-28D0-4F01-B5EF-A6D662EB3A8A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predavanja\Sablone i kic\crte2.jpg"/>
          <p:cNvPicPr/>
          <p:nvPr/>
        </p:nvPicPr>
        <p:blipFill>
          <a:blip r:embed="rId1"/>
          <a:stretch/>
        </p:blipFill>
        <p:spPr>
          <a:xfrm>
            <a:off x="2209680" y="533520"/>
            <a:ext cx="2017800" cy="6019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D:\predavanja\Sablone i kic\crte.jpg"/>
          <p:cNvPicPr/>
          <p:nvPr/>
        </p:nvPicPr>
        <p:blipFill>
          <a:blip r:embed="rId2"/>
          <a:stretch/>
        </p:blipFill>
        <p:spPr>
          <a:xfrm>
            <a:off x="4316400" y="457200"/>
            <a:ext cx="2160720" cy="6095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8600" y="278748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OVUCI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D:\predavanja\Pismo mali\kinesko pismo1.jpg"/>
          <p:cNvPicPr/>
          <p:nvPr/>
        </p:nvPicPr>
        <p:blipFill>
          <a:blip r:embed="rId3"/>
          <a:stretch/>
        </p:blipFill>
        <p:spPr>
          <a:xfrm>
            <a:off x="6553080" y="1600200"/>
            <a:ext cx="2351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:\predavanja\Pismo mali\pribor.jpg"/>
          <p:cNvPicPr/>
          <p:nvPr/>
        </p:nvPicPr>
        <p:blipFill>
          <a:blip r:embed="rId1"/>
          <a:stretch/>
        </p:blipFill>
        <p:spPr>
          <a:xfrm>
            <a:off x="990720" y="852480"/>
            <a:ext cx="70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D:\predavanja\Pismo mali\pribor2.jpg"/>
          <p:cNvPicPr/>
          <p:nvPr/>
        </p:nvPicPr>
        <p:blipFill>
          <a:blip r:embed="rId1"/>
          <a:stretch/>
        </p:blipFill>
        <p:spPr>
          <a:xfrm>
            <a:off x="1066680" y="909720"/>
            <a:ext cx="701064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predavanja\Pismo mali\natpis2.jpg"/>
          <p:cNvPicPr/>
          <p:nvPr/>
        </p:nvPicPr>
        <p:blipFill>
          <a:blip r:embed="rId1"/>
          <a:stretch/>
        </p:blipFill>
        <p:spPr>
          <a:xfrm>
            <a:off x="188604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D:\predavanja\Pismo mali\natpis1.jpg"/>
          <p:cNvPicPr/>
          <p:nvPr/>
        </p:nvPicPr>
        <p:blipFill>
          <a:blip r:embed="rId1"/>
          <a:stretch/>
        </p:blipFill>
        <p:spPr>
          <a:xfrm>
            <a:off x="990720" y="1069920"/>
            <a:ext cx="70866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D:\predavanja\Pismo mali\pera.jpg"/>
          <p:cNvPicPr/>
          <p:nvPr/>
        </p:nvPicPr>
        <p:blipFill>
          <a:blip r:embed="rId1"/>
          <a:stretch/>
        </p:blipFill>
        <p:spPr>
          <a:xfrm>
            <a:off x="2016000" y="0"/>
            <a:ext cx="51469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D:\predavanja\Pismo mali\pera2.jpg"/>
          <p:cNvPicPr/>
          <p:nvPr/>
        </p:nvPicPr>
        <p:blipFill>
          <a:blip r:embed="rId1"/>
          <a:stretch/>
        </p:blipFill>
        <p:spPr>
          <a:xfrm>
            <a:off x="990720" y="852480"/>
            <a:ext cx="70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55400" y="4952880"/>
            <a:ext cx="142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The Book of Kell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8. st., Ir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:\predavanja\Pismo mali\The Book of Kells.jpg"/>
          <p:cNvPicPr/>
          <p:nvPr/>
        </p:nvPicPr>
        <p:blipFill>
          <a:blip r:embed="rId1"/>
          <a:stretch/>
        </p:blipFill>
        <p:spPr>
          <a:xfrm>
            <a:off x="2127240" y="0"/>
            <a:ext cx="4807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-6120" y="533412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ubrovačka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eneve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D:\predavanja\Pismo mali\beneventana.jpg"/>
          <p:cNvPicPr/>
          <p:nvPr/>
        </p:nvPicPr>
        <p:blipFill>
          <a:blip r:embed="rId1"/>
          <a:stretch/>
        </p:blipFill>
        <p:spPr>
          <a:xfrm>
            <a:off x="0" y="1359000"/>
            <a:ext cx="4419720" cy="389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D:\predavanja\Pismo mali\note2.jpg"/>
          <p:cNvPicPr/>
          <p:nvPr/>
        </p:nvPicPr>
        <p:blipFill>
          <a:blip r:embed="rId2"/>
          <a:stretch/>
        </p:blipFill>
        <p:spPr>
          <a:xfrm>
            <a:off x="4648320" y="0"/>
            <a:ext cx="4516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027040" y="4952880"/>
            <a:ext cx="135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 Guttenbergove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iblije, 15. 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7886520" y="4038480"/>
            <a:ext cx="12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etropolitanska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iblija, 14. 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D:\predavanja\Pismo mali\Gutenberg1.jpg"/>
          <p:cNvPicPr/>
          <p:nvPr/>
        </p:nvPicPr>
        <p:blipFill>
          <a:blip r:embed="rId1"/>
          <a:stretch/>
        </p:blipFill>
        <p:spPr>
          <a:xfrm>
            <a:off x="0" y="0"/>
            <a:ext cx="49705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:\predavanja\Pismo mali\Metropolitana Biblia 14 st.jpg"/>
          <p:cNvPicPr/>
          <p:nvPr/>
        </p:nvPicPr>
        <p:blipFill>
          <a:blip r:embed="rId2"/>
          <a:stretch/>
        </p:blipFill>
        <p:spPr>
          <a:xfrm>
            <a:off x="5853240" y="0"/>
            <a:ext cx="3290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D:\predavanja\Pismo mali\1. razred.slovo1.jpg"/>
          <p:cNvPicPr/>
          <p:nvPr/>
        </p:nvPicPr>
        <p:blipFill>
          <a:blip r:embed="rId1"/>
          <a:stretch/>
        </p:blipFill>
        <p:spPr>
          <a:xfrm>
            <a:off x="838080" y="457200"/>
            <a:ext cx="3257640" cy="4800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D:\predavanja\Pismo mali\1. razred.slovo2.jpg"/>
          <p:cNvPicPr/>
          <p:nvPr/>
        </p:nvPicPr>
        <p:blipFill>
          <a:blip r:embed="rId2"/>
          <a:stretch/>
        </p:blipFill>
        <p:spPr>
          <a:xfrm>
            <a:off x="5486400" y="533520"/>
            <a:ext cx="2341440" cy="4800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917640" y="624852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razred: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ukrašeno slo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800" y="1522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57200" y="685800"/>
            <a:ext cx="4495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Vrste i povijest pis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Slikovno pism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pikt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Pojmovno pism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sumerski ide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klinopis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egipatski hijeroglifi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kinesk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Slogovno ili silabičk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kretsko linearn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hebrejsko kvadratičn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indijski devangari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arapsk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Alfabe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fenički alfabet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grčki alfabet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latinica – Rimska kapital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karolinška miniskul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gotička miniskul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humanistička miniskul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glagoljic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ćirilic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Tipografi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 1450.g. Johann Gutenberg stvara tiskarski st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D:\predavanja\Pismo\pismo1.jpg"/>
          <p:cNvPicPr/>
          <p:nvPr/>
        </p:nvPicPr>
        <p:blipFill>
          <a:blip r:embed="rId1"/>
          <a:stretch/>
        </p:blipFill>
        <p:spPr>
          <a:xfrm>
            <a:off x="5956200" y="304920"/>
            <a:ext cx="2882880" cy="135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D:\predavanja\Pismo\pismo4.gif"/>
          <p:cNvPicPr/>
          <p:nvPr/>
        </p:nvPicPr>
        <p:blipFill>
          <a:blip r:embed="rId2"/>
          <a:stretch/>
        </p:blipFill>
        <p:spPr>
          <a:xfrm>
            <a:off x="6035760" y="1828800"/>
            <a:ext cx="2879640" cy="80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D:\predavanja\Pismo\pismo6.gif"/>
          <p:cNvPicPr/>
          <p:nvPr/>
        </p:nvPicPr>
        <p:blipFill>
          <a:blip r:embed="rId3"/>
          <a:stretch/>
        </p:blipFill>
        <p:spPr>
          <a:xfrm>
            <a:off x="6019920" y="2895480"/>
            <a:ext cx="301788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:\predavanja\Pismo\pismo7.gif"/>
          <p:cNvPicPr/>
          <p:nvPr/>
        </p:nvPicPr>
        <p:blipFill>
          <a:blip r:embed="rId4"/>
          <a:stretch/>
        </p:blipFill>
        <p:spPr>
          <a:xfrm>
            <a:off x="5867280" y="3960720"/>
            <a:ext cx="3200400" cy="91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D:\predavanja\Pismo\pismo8.gif"/>
          <p:cNvPicPr/>
          <p:nvPr/>
        </p:nvPicPr>
        <p:blipFill>
          <a:blip r:embed="rId5"/>
          <a:stretch/>
        </p:blipFill>
        <p:spPr>
          <a:xfrm>
            <a:off x="6019920" y="5059440"/>
            <a:ext cx="2628720" cy="960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059080" y="5410080"/>
            <a:ext cx="7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rapsko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59080" y="13716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ktogr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057280" y="2057400"/>
            <a:ext cx="94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umerski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deogrami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400 p.n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058360" y="3124080"/>
            <a:ext cx="96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brejsko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vadratično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057640" y="4159080"/>
            <a:ext cx="8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dijski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evang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49" descr="D:\predavanja\Pismo mali\pismo kolaz.jpg"/>
          <p:cNvPicPr/>
          <p:nvPr/>
        </p:nvPicPr>
        <p:blipFill>
          <a:blip r:embed="rId1"/>
          <a:stretch/>
        </p:blipFill>
        <p:spPr>
          <a:xfrm>
            <a:off x="838080" y="855720"/>
            <a:ext cx="73152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6245280" y="3429000"/>
            <a:ext cx="13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obert Indiana: 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ove rising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predavanja\Pismo mali\Robert Indiana. Love rising.1968.jpg"/>
          <p:cNvPicPr/>
          <p:nvPr/>
        </p:nvPicPr>
        <p:blipFill>
          <a:blip r:embed="rId1"/>
          <a:stretch/>
        </p:blipFill>
        <p:spPr>
          <a:xfrm>
            <a:off x="2438280" y="266760"/>
            <a:ext cx="3594240" cy="35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D:\predavanja\Pismo mali\djeca pisu7.jpg"/>
          <p:cNvPicPr/>
          <p:nvPr/>
        </p:nvPicPr>
        <p:blipFill>
          <a:blip r:embed="rId2"/>
          <a:stretch/>
        </p:blipFill>
        <p:spPr>
          <a:xfrm>
            <a:off x="990720" y="4419720"/>
            <a:ext cx="6121440" cy="1955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7251840" y="5943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ječji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ad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3120" y="4952880"/>
            <a:ext cx="195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ul Klee: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Izranjajući iz sivila noći...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:\predavanja\Pismo mali\Paul Klee. Izranjajuci. 1918.jpg"/>
          <p:cNvPicPr/>
          <p:nvPr/>
        </p:nvPicPr>
        <p:blipFill>
          <a:blip r:embed="rId1"/>
          <a:stretch/>
        </p:blipFill>
        <p:spPr>
          <a:xfrm>
            <a:off x="228600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D:\predavanja\Pismo mali\djeca pisu4.jpg"/>
          <p:cNvPicPr/>
          <p:nvPr/>
        </p:nvPicPr>
        <p:blipFill>
          <a:blip r:embed="rId1"/>
          <a:stretch/>
        </p:blipFill>
        <p:spPr>
          <a:xfrm>
            <a:off x="419040" y="393840"/>
            <a:ext cx="2400480" cy="288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D:\predavanja\Pismo mali\djeca pisu5.jpg"/>
          <p:cNvPicPr/>
          <p:nvPr/>
        </p:nvPicPr>
        <p:blipFill>
          <a:blip r:embed="rId2"/>
          <a:stretch/>
        </p:blipFill>
        <p:spPr>
          <a:xfrm>
            <a:off x="3378240" y="393840"/>
            <a:ext cx="2413080" cy="288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D:\predavanja\Pismo mali\djeca pisu6.jpg"/>
          <p:cNvPicPr/>
          <p:nvPr/>
        </p:nvPicPr>
        <p:blipFill>
          <a:blip r:embed="rId3"/>
          <a:stretch/>
        </p:blipFill>
        <p:spPr>
          <a:xfrm>
            <a:off x="6388200" y="393840"/>
            <a:ext cx="214632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D:\predavanja\Pismo mali\2. razred.pismo 1.jpg"/>
          <p:cNvPicPr/>
          <p:nvPr/>
        </p:nvPicPr>
        <p:blipFill>
          <a:blip r:embed="rId4"/>
          <a:stretch/>
        </p:blipFill>
        <p:spPr>
          <a:xfrm>
            <a:off x="630360" y="3581280"/>
            <a:ext cx="218916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D:\predavanja\Pismo mali\djeca pisu11.jpg"/>
          <p:cNvPicPr/>
          <p:nvPr/>
        </p:nvPicPr>
        <p:blipFill>
          <a:blip r:embed="rId5"/>
          <a:stretch/>
        </p:blipFill>
        <p:spPr>
          <a:xfrm>
            <a:off x="3657600" y="3581280"/>
            <a:ext cx="1905120" cy="2882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D:\predavanja\Pismo mali\djeca pisu9.jpg"/>
          <p:cNvPicPr/>
          <p:nvPr/>
        </p:nvPicPr>
        <p:blipFill>
          <a:blip r:embed="rId6"/>
          <a:stretch/>
        </p:blipFill>
        <p:spPr>
          <a:xfrm>
            <a:off x="6350040" y="3581280"/>
            <a:ext cx="22604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D:\predavanja\Pismo mali\djeca pisu2.jpg"/>
          <p:cNvPicPr/>
          <p:nvPr/>
        </p:nvPicPr>
        <p:blipFill>
          <a:blip r:embed="rId1"/>
          <a:stretch/>
        </p:blipFill>
        <p:spPr>
          <a:xfrm>
            <a:off x="380880" y="3429000"/>
            <a:ext cx="3810240" cy="2854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:\predavanja\Pismo mali\djeca pisu1.jpg"/>
          <p:cNvPicPr/>
          <p:nvPr/>
        </p:nvPicPr>
        <p:blipFill>
          <a:blip r:embed="rId2"/>
          <a:stretch/>
        </p:blipFill>
        <p:spPr>
          <a:xfrm>
            <a:off x="380880" y="331920"/>
            <a:ext cx="3810240" cy="286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D:\predavanja\Pismo mali\djeca pisu8.jpg"/>
          <p:cNvPicPr/>
          <p:nvPr/>
        </p:nvPicPr>
        <p:blipFill>
          <a:blip r:embed="rId3"/>
          <a:stretch/>
        </p:blipFill>
        <p:spPr>
          <a:xfrm>
            <a:off x="5105520" y="380880"/>
            <a:ext cx="3593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34320" y="151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lakat, glagolj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D:\predavanja\Pismo mali\4. razred. plakat 1.jpg"/>
          <p:cNvPicPr/>
          <p:nvPr/>
        </p:nvPicPr>
        <p:blipFill>
          <a:blip r:embed="rId1"/>
          <a:stretch/>
        </p:blipFill>
        <p:spPr>
          <a:xfrm>
            <a:off x="304920" y="190440"/>
            <a:ext cx="2311200" cy="331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:\predavanja\Pismo mali\4. razred. plakat 3.jpg"/>
          <p:cNvPicPr/>
          <p:nvPr/>
        </p:nvPicPr>
        <p:blipFill>
          <a:blip r:embed="rId2"/>
          <a:stretch/>
        </p:blipFill>
        <p:spPr>
          <a:xfrm>
            <a:off x="2743200" y="114480"/>
            <a:ext cx="2336760" cy="33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D:\predavanja\Pismo mali\4. razred. plakat 2.jpg"/>
          <p:cNvPicPr/>
          <p:nvPr/>
        </p:nvPicPr>
        <p:blipFill>
          <a:blip r:embed="rId3"/>
          <a:stretch/>
        </p:blipFill>
        <p:spPr>
          <a:xfrm>
            <a:off x="5257800" y="762120"/>
            <a:ext cx="3757680" cy="5333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D:\predavanja\Pismo mali\Glagoljica.jpg"/>
          <p:cNvPicPr/>
          <p:nvPr/>
        </p:nvPicPr>
        <p:blipFill>
          <a:blip r:embed="rId4"/>
          <a:stretch/>
        </p:blipFill>
        <p:spPr>
          <a:xfrm>
            <a:off x="304920" y="3851280"/>
            <a:ext cx="40384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389000" y="594360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jo Kanižaj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Žira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1360" y="594360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U ime lava Božjeg,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ica Božjeg, pobjedničkog Al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ī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j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D:\predavanja\Pismo mali\Arapi2.GIF"/>
          <p:cNvPicPr/>
          <p:nvPr/>
        </p:nvPicPr>
        <p:blipFill>
          <a:blip r:embed="rId1"/>
          <a:stretch/>
        </p:blipFill>
        <p:spPr>
          <a:xfrm>
            <a:off x="304920" y="3637080"/>
            <a:ext cx="3581280" cy="230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:\predavanja\Pismo mali\Arapi1.jpg"/>
          <p:cNvPicPr/>
          <p:nvPr/>
        </p:nvPicPr>
        <p:blipFill>
          <a:blip r:embed="rId2"/>
          <a:stretch/>
        </p:blipFill>
        <p:spPr>
          <a:xfrm>
            <a:off x="304920" y="157320"/>
            <a:ext cx="3504960" cy="281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D:\predavanja\Pismo mali\Pajo Kanizaj. Zirafa.jpg"/>
          <p:cNvPicPr/>
          <p:nvPr/>
        </p:nvPicPr>
        <p:blipFill>
          <a:blip r:embed="rId3"/>
          <a:stretch/>
        </p:blipFill>
        <p:spPr>
          <a:xfrm>
            <a:off x="4800600" y="533520"/>
            <a:ext cx="3911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:\predavanja\Pismo\minotaur slova.jpg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481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voj slo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044000" y="5261040"/>
            <a:ext cx="6202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Razvoj slova iz mitološke priče: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Bio jednom kalj-bog bik – Alef (bik); rotacijom kroz vrijeme nastaje alfa pa A;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živio je u golemoj kući-labirintu (palači) – Beth; kasnije beta, B;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znaka mu je bila opasna “labris” sjekira – Gimmel; kasnije gamma, C;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druga oznaka je trokut, instrument graditelja – Daleth; kasnije delta, D;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24120" y="380520"/>
            <a:ext cx="175284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ligra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D:\predavanja\Pismo mali\tecaj pisma1.jpg"/>
          <p:cNvPicPr/>
          <p:nvPr/>
        </p:nvPicPr>
        <p:blipFill>
          <a:blip r:embed="rId1"/>
          <a:stretch/>
        </p:blipFill>
        <p:spPr>
          <a:xfrm>
            <a:off x="415800" y="0"/>
            <a:ext cx="51469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D:\predavanja\Pismo mali\tecaj pisma2.jpg"/>
          <p:cNvPicPr/>
          <p:nvPr/>
        </p:nvPicPr>
        <p:blipFill>
          <a:blip r:embed="rId1"/>
          <a:stretch/>
        </p:blipFill>
        <p:spPr>
          <a:xfrm>
            <a:off x="990720" y="719280"/>
            <a:ext cx="71625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:\predavanja\Pismo mali\tecaj pisma4.jpg"/>
          <p:cNvPicPr/>
          <p:nvPr/>
        </p:nvPicPr>
        <p:blipFill>
          <a:blip r:embed="rId1"/>
          <a:stretch/>
        </p:blipFill>
        <p:spPr>
          <a:xfrm>
            <a:off x="201456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:\predavanja\Pismo mali\tecaj pisma3.jpg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685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D:\predavanja\Pismo mali\tecaj pisma5.jpg"/>
          <p:cNvPicPr/>
          <p:nvPr/>
        </p:nvPicPr>
        <p:blipFill>
          <a:blip r:embed="rId2"/>
          <a:stretch/>
        </p:blipFill>
        <p:spPr>
          <a:xfrm>
            <a:off x="0" y="1066680"/>
            <a:ext cx="3594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:\predavanja\Pismo mali\kinesko pismo.jpg"/>
          <p:cNvPicPr/>
          <p:nvPr/>
        </p:nvPicPr>
        <p:blipFill>
          <a:blip r:embed="rId1"/>
          <a:stretch/>
        </p:blipFill>
        <p:spPr>
          <a:xfrm>
            <a:off x="4724280" y="380880"/>
            <a:ext cx="4268880" cy="579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predavanja\Pismo mali\kinesko pismo3.jpg"/>
          <p:cNvPicPr/>
          <p:nvPr/>
        </p:nvPicPr>
        <p:blipFill>
          <a:blip r:embed="rId2"/>
          <a:stretch/>
        </p:blipFill>
        <p:spPr>
          <a:xfrm>
            <a:off x="149400" y="380880"/>
            <a:ext cx="4346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D:\predavanja\Pismo mali\pribor3.jpg"/>
          <p:cNvPicPr/>
          <p:nvPr/>
        </p:nvPicPr>
        <p:blipFill>
          <a:blip r:embed="rId1"/>
          <a:stretch/>
        </p:blipFill>
        <p:spPr>
          <a:xfrm>
            <a:off x="927000" y="804960"/>
            <a:ext cx="71503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19:48:52Z</dcterms:created>
  <dc:creator>Miro</dc:creator>
  <dc:description/>
  <dc:language>en-US</dc:language>
  <cp:lastModifiedBy>Kreso Stojic</cp:lastModifiedBy>
  <dcterms:modified xsi:type="dcterms:W3CDTF">2009-05-15T20:28:24Z</dcterms:modified>
  <cp:revision>61</cp:revision>
  <dc:subject/>
  <dc:title>PowerPoint Presentation</dc:title>
</cp:coreProperties>
</file>