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6785-40A2-4831-83F3-1A3ABE273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E4AA-72C5-4766-A498-C1ACF8F5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390B-9230-4E4F-957A-EBD620E35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8ED9-6F1D-45A8-969F-AA5A5304D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F91D-6229-4A91-9C96-7EB2176E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DED5-7202-4C71-92A2-70A8EEA0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7A0A-787E-45E3-9279-CC4A241C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B92F-78E3-4ACE-A36F-2635FE6A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3617-79E0-414A-AB80-BA2442B4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9B3F-5D1D-480C-8AA5-C012020D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EA88-00D2-47DC-BA2D-350CE28D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A09C-CCC2-487E-898A-1EE7F78D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D270-337B-439A-A502-E3771AD778D7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hyperlink" Target="http://www.korakpokorak.hr/roditelji1.htm" TargetMode="Externa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Znak 542"/>
          <p:cNvPicPr/>
          <p:nvPr/>
        </p:nvPicPr>
        <p:blipFill>
          <a:blip r:embed="rId1"/>
          <a:stretch/>
        </p:blipFill>
        <p:spPr>
          <a:xfrm>
            <a:off x="2556000" y="907920"/>
            <a:ext cx="3841560" cy="45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8000" y="692280"/>
            <a:ext cx="8218440" cy="5473440"/>
          </a:xfrm>
          <a:prstGeom prst="rect">
            <a:avLst/>
          </a:prstGeom>
          <a:noFill/>
          <a:ln w="76320">
            <a:solidFill>
              <a:srgbClr val="3b80a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Opseg (koliko stvari možemo zahvatiti pažnjom) i zadržavanje pažnje (koliko dugo se može biti koncentriran na neki sadržaj) se povećava s dobi, te su mlađa djeca “rastresenija” od starij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Sposobnost zadržavanja pažnje na nekom cilju dijelom je urođena, a dijelom se na njezin razvoj može utjecati. Neka djeca se moraju stalno naprezati da bi ostala koncentrirana, drugoj je to zamjetno lakš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91520" cy="4525920"/>
          </a:xfrm>
          <a:prstGeom prst="rect">
            <a:avLst/>
          </a:prstGeom>
          <a:solidFill>
            <a:srgbClr val="3b80ae">
              <a:alpha val="6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Djeca različite dobi mogu se fokusirati različitu količinu vremena. Istraživanja pokazuju da se većina djece može fokusirati za broj minuta koji je jednak broju njihovih godina plus 2 (Jensen, 1995). Tako se 6-godišnjak fokusira oko 8 minuta.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To se ne odnosi na takve aktivnosti kao što je gledanje televizije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Georgia"/>
              </a:rPr>
              <a:t>Kako djelovati na razvoj pažnj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Znak Orange 021"/>
          <p:cNvPicPr/>
          <p:nvPr/>
        </p:nvPicPr>
        <p:blipFill>
          <a:blip r:embed="rId1"/>
          <a:stretch/>
        </p:blipFill>
        <p:spPr>
          <a:xfrm>
            <a:off x="2411280" y="2276640"/>
            <a:ext cx="3529080" cy="31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000" y="620640"/>
            <a:ext cx="8218440" cy="5688000"/>
          </a:xfrm>
          <a:prstGeom prst="rect">
            <a:avLst/>
          </a:prstGeom>
          <a:solidFill>
            <a:srgbClr val="3b80ae">
              <a:alpha val="68000"/>
            </a:srgbClr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eorgia"/>
              </a:rPr>
              <a:t>Na koncentraciju se može izravno utjecati okolinom. Dijete koje treba punu koncentraciju – npr. za učenje – treba biti dobro ispavano i ne treba imati u blizini ništa što odvlači pažnju. Koncentraciju uništavaju buka, glasna glazba ili buka televizora u pozadini, ali i loši odnosi u obitelji, svađe i loš emocionalni odnos prema djetet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eorgia"/>
              </a:rPr>
              <a:t>Koncentracija se može i postupno povećavati – u domu punom ljubavi sa sigurnom vezom između djeteta i roditelja. Takvi uvjeti omogućuju da se djeca već od rane dobi mogu intenzivno i ustrajno igrati. Neka se djeca već i s godinu dana mogu posvetiti 10 minuta samo jednoj stvari, dok drugoj to uspijeva tek s 4 ili 5 godin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5977080"/>
          </a:xfrm>
          <a:prstGeom prst="rect">
            <a:avLst/>
          </a:prstGeom>
          <a:solidFill>
            <a:srgbClr val="3b80ae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Djeca trebaju od roditelja vrijeme i posvećivanje – što im roditelji više pružaju, to će bolje protjecati njihov cjelokupni razvoj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Za razvoj pažnje bitna je i uloga odraslih u dječjim aktivnostima – oni trebaju upućivati dijete u ono što je bitno i jačati dijete odobravanjem i radošću kad nešto uspije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Velika je važnost igre -  kroz nju dijete uči slijeđenje pravila. Roditelji trebaju na svaki način poticati koncentriranu igru – ako je moguće, pustiti dijete da se igra do kraja kada je zadubljeno u igru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Djeca vole predvidivu okolinu. Tako sutra ne bi smjela vrijediti druga pravila nego što su to danas! Informacije i poticaji koje roditelji daju djeci, trebaju biti u što većoj mjeri jasni i jednoznačni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Svakako je važno i navikavanje na urednost: pravovremeno lijeganje i ustajanje, redovito pranje zuba, spremanje obuće, pospremanje igračaka i školskog pribora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vrecice3"/>
          <p:cNvPicPr/>
          <p:nvPr/>
        </p:nvPicPr>
        <p:blipFill>
          <a:blip r:embed="rId1">
            <a:grayscl/>
            <a:lum bright="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472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Georgia"/>
              </a:rPr>
              <a:t>Neke igre i aktivnosti koje mogu pomoći u razvoju pažnje kod dje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Brojne su aktivnosti kojima možete od najranije dobi poticati koncentraciju djeteta – na primjer: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solidFill>
            <a:srgbClr val="3b80ae">
              <a:alpha val="63000"/>
            </a:srgbClr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ecrtavanje različitih predložaka - prvo jednostavnijih, a kasnije i  složenijih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Bojanje u bojankam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onalaženje skrivenih likova i traženje razlika na sličnim slikama, vježba usporedi dvije (ili više slika) - što je promijenjeno, izostavljeno ili dodan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lagalice - domino s brojevima ili slikama, loto, puzzle, prema predlošku izrezati i sastaviti slik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Vježbe razvrstavanja: kocke, lego kockice i drugo razvrstati, pomaganje u razvrstavanju posuđa kod kuće, razvrstavanje novčića po vrijednosti,  kuglica po boji i veličini, pravljenje ogrlica po određenom redoslijedu, skupljanje kamenčić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ličica, markica itd., igre kartama - kvartet, “Crni Petar”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b80ae">
              <a:alpha val="65000"/>
            </a:srgbClr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Misaoni zadaci - “Kod dolaska podsjeti me na …”, “Što sve moraš pripremiti ako želiš napisati pismo?”, “Postavi stol za … osoba. Što ti je sve za to potrebno?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Vježbe kombinacije - umetanje riječi, rješavanje križaljki, dopunjavanje riječi, pogađanje životinja, cvijeća, i dr. prema djelomičnim opisima  npr. “Što je to - ima četiri noge, krzno, spretno se penje po drveću?”… Igre : šah, mli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Igre razvrstavanja po nekim kriterijima - “Napiši sve životinje koje imaju krila”, “Poznaješ li životinje koje imaju više od četiri noge” itd. Igre: država - grad - rijeka i s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Zadaci opažanja - promatrati tijek neke radnje ili događaja - dovršavanje rečenice usmeno ili pismeno (promatrati policajca na raskrižju i sl., dati djetetu da jednu minutu promatra sliku i poslije pitati npr.” Koliko je na slici bilo osoba, prozora, životinja...”) i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Georgia"/>
              </a:rPr>
              <a:t>Kako djelovati na razvoj pažnje od početka školovanj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3b80ae">
              <a:alpha val="63000"/>
            </a:srgbClr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Stvaranjem dobrih navika - navikavanjem djece da pripremaju i spremaju svoj školski pribor i radno mje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Navikavanjem da uče i pišu zadaće uvijek na istom mjestu - već samo sjedanje na mjesto na kojem je dijete naviklo učiti pridonosi stvaranju psihološke spremnosti za r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Stvaranjem dnevne rutine - dijete treba učiti uvijek u otprilike isto doba dana (nakon ručka, nakon odmora, i sl.) - time se olakšava koncentracija na učen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Ako je potrebno, pomozite djetetu da napravi plan za učenje i pisanje domaće zadać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Upućujte djeteta u dobre navike i metode učenja – podcrtavanje bitnoga, ponavljanje, samostalno prepričavan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Potičite ga da uči pomalo i češć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Pohvalite djetetov trud i</a:t>
            </a:r>
            <a:r>
              <a:rPr b="0" lang="hr-HR" sz="2400" spc="-1" strike="noStrike">
                <a:solidFill>
                  <a:srgbClr val="00cc00"/>
                </a:solidFill>
                <a:latin typeface="Georgi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napreda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Georgia"/>
              </a:rPr>
              <a:t>Pažnja u ško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0" y="1413000"/>
            <a:ext cx="3859200" cy="5445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3995640" y="1406520"/>
            <a:ext cx="51483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eorgia"/>
              </a:rPr>
              <a:t>Pažnja je potrebna da bi se uspjelo u školi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hr-HR" sz="2200" spc="-1" strike="noStrike">
                <a:solidFill>
                  <a:srgbClr val="000000"/>
                </a:solidFill>
                <a:latin typeface="Georgia"/>
              </a:rPr>
              <a:t>Svaki učenik može ponekad imati manjak pažnje (slabu koncentraciju), </a:t>
            </a:r>
            <a:r>
              <a:rPr b="0" i="1" lang="hr-HR" sz="2200" spc="-1" strike="noStrike">
                <a:solidFill>
                  <a:srgbClr val="000000"/>
                </a:solidFill>
                <a:latin typeface="Georgia"/>
              </a:rPr>
              <a:t>npr. uslijed obiteljskih problema, neprospavane noći, emocionalnih problema, </a:t>
            </a:r>
            <a:r>
              <a:rPr b="0" i="1" lang="hr-HR" sz="2200" spc="-1" strike="noStrike">
                <a:solidFill>
                  <a:srgbClr val="000000"/>
                </a:solidFill>
                <a:latin typeface="Georgia"/>
              </a:rPr>
              <a:t>neprimjerenih odgojnih postupaka, zlostavljanja, školskog neuspjeha, straha od ispitivanja, umora, dosade </a:t>
            </a:r>
            <a:r>
              <a:rPr b="0" i="1" lang="hr-HR" sz="2200" spc="-1" strike="noStrike">
                <a:solidFill>
                  <a:srgbClr val="000000"/>
                </a:solidFill>
                <a:latin typeface="Georgia"/>
              </a:rPr>
              <a:t>itd.</a:t>
            </a:r>
            <a:r>
              <a:rPr b="0" lang="hr-HR" sz="2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eorgia"/>
              </a:rPr>
              <a:t>Manjak pažnje je dosta čest i najčešći je razlog zbog kojeg djeca normalnih intelektualnih sposobnosti imaju poteškoće u učenj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476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000000"/>
                </a:solidFill>
                <a:latin typeface="Georgia"/>
              </a:rPr>
              <a:t>pažnja i učenj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Kako u</a:t>
            </a:r>
            <a:r>
              <a:rPr b="1" lang="hr-HR" sz="3200" spc="-1" strike="noStrike">
                <a:solidFill>
                  <a:srgbClr val="000000"/>
                </a:solidFill>
                <a:latin typeface="Georgia"/>
              </a:rPr>
              <a:t>č</a:t>
            </a:r>
            <a:r>
              <a:rPr b="1" lang="hr-HR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itelj mo</a:t>
            </a:r>
            <a:r>
              <a:rPr b="1" lang="hr-HR" sz="3200" spc="-1" strike="noStrike">
                <a:solidFill>
                  <a:srgbClr val="000000"/>
                </a:solidFill>
                <a:latin typeface="Georgia"/>
              </a:rPr>
              <a:t>ž</a:t>
            </a:r>
            <a:r>
              <a:rPr b="1" lang="hr-HR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e privla</a:t>
            </a:r>
            <a:r>
              <a:rPr b="1" lang="hr-HR" sz="3200" spc="-1" strike="noStrike">
                <a:solidFill>
                  <a:srgbClr val="000000"/>
                </a:solidFill>
                <a:latin typeface="Georgia"/>
              </a:rPr>
              <a:t>č</a:t>
            </a:r>
            <a:r>
              <a:rPr b="1" lang="hr-HR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iti i usmjeravati</a:t>
            </a:r>
            <a:r>
              <a:rPr b="1" lang="hr-HR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pa</a:t>
            </a:r>
            <a:r>
              <a:rPr b="1" lang="hr-HR" sz="3200" spc="-1" strike="noStrike">
                <a:solidFill>
                  <a:srgbClr val="000000"/>
                </a:solidFill>
                <a:latin typeface="Georgia"/>
              </a:rPr>
              <a:t>ž</a:t>
            </a:r>
            <a:r>
              <a:rPr b="1" lang="hr-HR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nju</a:t>
            </a:r>
            <a:r>
              <a:rPr b="1" lang="hr-HR" sz="32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solidFill>
            <a:srgbClr val="3b80ae">
              <a:alpha val="63000"/>
            </a:srgbClr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gl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vanjem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je v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 i pozivanjem da se obrati p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ja na n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ijenjanjem j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e glas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stikulacijom, kretanjem, mim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im izr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je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or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njem slika, predmet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or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njem uvodne pr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za neki sadr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j,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dvl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jem napisanog ili uporabom kreda u boji.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-360" y="0"/>
            <a:ext cx="4932360" cy="6858000"/>
          </a:xfrm>
          <a:prstGeom prst="rect">
            <a:avLst/>
          </a:prstGeom>
          <a:solidFill>
            <a:srgbClr val="3b80ae">
              <a:alpha val="63000"/>
            </a:srgbClr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Neobi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č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nim i neo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č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ekivanim sadr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ž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ajima - npr. u nastavi zemljopisa uvesti glazbu, ispri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č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ati anegdotu i sl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objašnjavanjem svrhe i koristi od u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č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enja gradiva,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uporabom i mijenjanjem razli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č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itih aktivnosti - crtanja, pisanja, tra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ž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enja podataka, podvla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č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enja itd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uvo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đ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enjem tjelesnih aktivnosti, razgibavanja, kra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ć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ih vje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ž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bi kada pa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ž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nja po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č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inje popušta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zadaca1"/>
          <p:cNvPicPr/>
          <p:nvPr/>
        </p:nvPicPr>
        <p:blipFill>
          <a:blip r:embed="rId1">
            <a:grayscl/>
          </a:blip>
          <a:stretch/>
        </p:blipFill>
        <p:spPr>
          <a:xfrm rot="1097400">
            <a:off x="5579640" y="1557360"/>
            <a:ext cx="300672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solidFill>
            <a:srgbClr val="3b80a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hr-HR" sz="2600" spc="-1" strike="noStrike">
                <a:solidFill>
                  <a:srgbClr val="000000"/>
                </a:solidFill>
                <a:latin typeface="Georgia"/>
              </a:rPr>
              <a:t>Kako se u školi može smanjiti školski neuspjeh djece s manjkom pažnje?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146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6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Komentare treba ograničiti na postupke, a ne osobnost (ne: </a:t>
            </a:r>
            <a:r>
              <a:rPr b="0" i="1" lang="hr-HR" sz="2400" spc="-1" strike="noStrike">
                <a:solidFill>
                  <a:srgbClr val="000000"/>
                </a:solidFill>
                <a:latin typeface="Georgia"/>
              </a:rPr>
              <a:t>ti si neodgojen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, već: </a:t>
            </a:r>
            <a:r>
              <a:rPr b="0" i="1" lang="hr-HR" sz="2400" spc="-1" strike="noStrike">
                <a:solidFill>
                  <a:srgbClr val="000000"/>
                </a:solidFill>
                <a:latin typeface="Georgia"/>
              </a:rPr>
              <a:t>ne smiješ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 ...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6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dati djetetu zaduženja koja će mu omogućiti kretanj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6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smjestiti dijete u prvu klupu, po mogućnosti uz mirnu djec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6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preferirati usmeno ispitivanje, manji broj pitanja ili produljiti vrijeme rješavanja zadataka (bolje manji broj pitanja zbog problema u održavanju pažnje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6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provjeriti je li dijete razumjelo pitanj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6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ne insistirati na pisanju, dati neki drugi zadata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solidFill>
            <a:srgbClr val="3b80a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hr-HR" sz="2600" spc="-1" strike="noStrike">
                <a:solidFill>
                  <a:srgbClr val="000000"/>
                </a:solidFill>
                <a:latin typeface="Georgia"/>
              </a:rPr>
              <a:t>Kako se u školi može smanjiti školski neuspjeh djece s manjkom pažnje?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893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6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Učitelj treba upu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ć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ivati dijete u dobre navike i metode u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č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enj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6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poticati djecu da u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č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e pomalo i 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č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eš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ć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e, te tako organizirati i ponavljanja gradiv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6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omogu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ć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avati djeci s poteško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ć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ama manje i spontane odmo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6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hvaliti povremeno i kad to dijete doista zasluž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6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individualizirati ocjenjivanje u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č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enik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6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uložiti svjestan napor da se uoče i djetetove pozitivne osobine (primjećujemo ono što je loše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6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roditeljima davati informacije na neoptužujući nač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03280"/>
          </a:xfrm>
          <a:prstGeom prst="rect">
            <a:avLst/>
          </a:prstGeom>
          <a:solidFill>
            <a:srgbClr val="3b80a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animleser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811080" cy="13413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7"/>
          <p:cNvSpPr/>
          <p:nvPr/>
        </p:nvSpPr>
        <p:spPr>
          <a:xfrm>
            <a:off x="250920" y="1700280"/>
            <a:ext cx="864216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 u="sng">
                <a:solidFill>
                  <a:srgbClr val="009999"/>
                </a:solidFill>
                <a:uFillTx/>
                <a:latin typeface="Georgia"/>
                <a:hlinkClick r:id="rId2"/>
              </a:rPr>
              <a:t>http://www.korakpokorak.hr/roditelji1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Georgia"/>
              </a:rPr>
              <a:t>http://public.srce.hr/hud/Tekstovi/hiperaktivnost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Georgia"/>
              </a:rPr>
              <a:t>http://www.adhd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Georgia"/>
              </a:rPr>
              <a:t>http://www.zappelphilipp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Georgia"/>
              </a:rPr>
              <a:t>http://www.eltern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Georgia"/>
              </a:rPr>
              <a:t>http://www.ads-hyperaktivitaet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Georgia"/>
              </a:rPr>
              <a:t>Kocijan Hercigonja, D., Buljan Flander, G, Vučković, D(1999). </a:t>
            </a:r>
            <a:r>
              <a:rPr b="0" i="1" lang="hr-HR" sz="1600" spc="-1" strike="noStrike">
                <a:solidFill>
                  <a:srgbClr val="000000"/>
                </a:solidFill>
                <a:latin typeface="Georgia"/>
              </a:rPr>
              <a:t>Hiperaktivno dijete, uznemireni roditelji i odgajatelji. </a:t>
            </a:r>
            <a:r>
              <a:rPr b="0" lang="hr-HR" sz="1600" spc="-1" strike="noStrike">
                <a:solidFill>
                  <a:srgbClr val="000000"/>
                </a:solidFill>
                <a:latin typeface="Georgia"/>
              </a:rPr>
              <a:t>Jastrebarsko: Naklada Sl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ediatric Advisor 2003_2 Dealing with Attention-Deficit-Hyperactivity Disorder (ADHD</a:t>
            </a:r>
            <a:r>
              <a:rPr b="0" lang="hr-HR" sz="1600" spc="-1" strike="noStrike">
                <a:solidFill>
                  <a:srgbClr val="000000"/>
                </a:solidFill>
                <a:latin typeface="Georgia"/>
              </a:rPr>
              <a:t>) http://www.med.umich.edu/1libr/pa/pa_battentn_hhg.htm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Georgia"/>
              </a:rPr>
              <a:t>Pospiš, M. (1997). </a:t>
            </a:r>
            <a:r>
              <a:rPr b="0" i="1" lang="hr-HR" sz="1600" spc="-1" strike="noStrike">
                <a:solidFill>
                  <a:srgbClr val="000000"/>
                </a:solidFill>
                <a:latin typeface="Georgia"/>
              </a:rPr>
              <a:t>Neurološki pristup školskom neuspjehu. </a:t>
            </a:r>
            <a:r>
              <a:rPr b="0" lang="hr-HR" sz="1600" spc="-1" strike="noStrike">
                <a:solidFill>
                  <a:srgbClr val="000000"/>
                </a:solidFill>
                <a:latin typeface="Georgia"/>
              </a:rPr>
              <a:t>Varaždinske Toplice: Tonim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Georgia"/>
              </a:rPr>
              <a:t>Pregrad, J. (1994). </a:t>
            </a:r>
            <a:r>
              <a:rPr b="0" i="1" lang="hr-HR" sz="1600" spc="-1" strike="noStrike">
                <a:solidFill>
                  <a:srgbClr val="000000"/>
                </a:solidFill>
                <a:latin typeface="Georgia"/>
              </a:rPr>
              <a:t>Smanjena koncentracija</a:t>
            </a:r>
            <a:r>
              <a:rPr b="0" lang="hr-HR" sz="1600" spc="-1" strike="noStrike">
                <a:solidFill>
                  <a:srgbClr val="000000"/>
                </a:solidFill>
                <a:latin typeface="Georgia"/>
              </a:rPr>
              <a:t>. Miharija, Ž.; Leko Kolbah, A. </a:t>
            </a:r>
            <a:r>
              <a:rPr b="0" i="1" lang="hr-HR" sz="1600" spc="-1" strike="noStrike">
                <a:solidFill>
                  <a:srgbClr val="000000"/>
                </a:solidFill>
                <a:latin typeface="Georgia"/>
              </a:rPr>
              <a:t>Pomozimo djeci stradaloj u ratu. </a:t>
            </a:r>
            <a:r>
              <a:rPr b="0" lang="hr-HR" sz="1600" spc="-1" strike="noStrike">
                <a:solidFill>
                  <a:srgbClr val="000000"/>
                </a:solidFill>
                <a:latin typeface="Georgia"/>
              </a:rPr>
              <a:t>Zagreb: Ministarstvo kulture i prosvjete, Zavod za školstvo, Ured UNICEF-a u Zagreb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Georgia"/>
              </a:rPr>
              <a:t>Prvčić, I, Rister, M.</a:t>
            </a:r>
            <a:r>
              <a:rPr b="0" i="1" lang="hr-HR" sz="1600" spc="-1" strike="noStrike">
                <a:solidFill>
                  <a:srgbClr val="000000"/>
                </a:solidFill>
                <a:latin typeface="Georgia"/>
              </a:rPr>
              <a:t>Deficit pažnje / hiperaktivni poremećaj. </a:t>
            </a:r>
            <a:r>
              <a:rPr b="0" lang="hr-HR" sz="1600" spc="-1" strike="noStrike">
                <a:solidFill>
                  <a:srgbClr val="000000"/>
                </a:solidFill>
                <a:latin typeface="Georgia"/>
              </a:rPr>
              <a:t>www.public.srce.h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Georgia"/>
              </a:rPr>
              <a:t>Vasta, R.; Haith, M. M.; Miller, S. A. (1998). </a:t>
            </a:r>
            <a:r>
              <a:rPr b="0" i="1" lang="hr-HR" sz="1600" spc="-1" strike="noStrike">
                <a:solidFill>
                  <a:srgbClr val="000000"/>
                </a:solidFill>
                <a:latin typeface="Georgia"/>
              </a:rPr>
              <a:t>Dječja psihologija</a:t>
            </a:r>
            <a:r>
              <a:rPr b="0" lang="hr-HR" sz="1600" spc="-1" strike="noStrike">
                <a:solidFill>
                  <a:srgbClr val="000000"/>
                </a:solidFill>
                <a:latin typeface="Georgia"/>
              </a:rPr>
              <a:t>, Zagreb: Naklada Sl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Georgia"/>
              </a:rPr>
              <a:t>Vlašić – Cicvarić, I. </a:t>
            </a:r>
            <a:r>
              <a:rPr b="0" i="1" lang="hr-HR" sz="1600" spc="-1" strike="noStrike">
                <a:solidFill>
                  <a:srgbClr val="000000"/>
                </a:solidFill>
                <a:latin typeface="Georgia"/>
              </a:rPr>
              <a:t>“Juri poput motora</a:t>
            </a:r>
            <a:r>
              <a:rPr b="0" lang="hr-HR" sz="1600" spc="-1" strike="noStrike">
                <a:solidFill>
                  <a:srgbClr val="000000"/>
                </a:solidFill>
                <a:latin typeface="Georgia"/>
              </a:rPr>
              <a:t>”. Narodni list. 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Georgia"/>
              </a:rPr>
              <a:t>Živković, Ž. i Brajković, S.(2000). </a:t>
            </a:r>
            <a:r>
              <a:rPr b="0" i="1" lang="hr-HR" sz="1600" spc="-1" strike="noStrike">
                <a:solidFill>
                  <a:srgbClr val="000000"/>
                </a:solidFill>
                <a:latin typeface="Georgia"/>
              </a:rPr>
              <a:t>Spajalica. </a:t>
            </a:r>
            <a:r>
              <a:rPr b="0" lang="hr-HR" sz="1600" spc="-1" strike="noStrike">
                <a:solidFill>
                  <a:srgbClr val="000000"/>
                </a:solidFill>
                <a:latin typeface="Georgia"/>
              </a:rPr>
              <a:t>Đakovo: Temp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03280"/>
          </a:xfrm>
          <a:prstGeom prst="rect">
            <a:avLst/>
          </a:prstGeom>
          <a:solidFill>
            <a:srgbClr val="3b80a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Georgia"/>
              </a:rPr>
              <a:t>Preporučujem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animleser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811080" cy="13413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250920" y="1700280"/>
            <a:ext cx="864216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http://public.srce.hr/hud/Tekstovi/hiperaktivnost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http://www.korakpokorak.hr/roditelji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Kocijan Hercigonja, D., Buljan Flander, G, Vučković, D(1999). </a:t>
            </a:r>
            <a:r>
              <a:rPr b="0" i="1" lang="hr-HR" sz="1800" spc="-1" strike="noStrike">
                <a:solidFill>
                  <a:srgbClr val="000000"/>
                </a:solidFill>
                <a:latin typeface="Georgia"/>
              </a:rPr>
              <a:t>Hiperaktivno dijete, uznemireni roditelji i odgajatelji. </a:t>
            </a: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Jastrebarsko: Naklada Sl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Prvčić, I, Rister, M. </a:t>
            </a:r>
            <a:r>
              <a:rPr b="0" i="1" lang="hr-HR" sz="1800" spc="-1" strike="noStrike">
                <a:solidFill>
                  <a:srgbClr val="000000"/>
                </a:solidFill>
                <a:latin typeface="Georgia"/>
              </a:rPr>
              <a:t>Deficit pažnje / hiperaktivni poremećaj. </a:t>
            </a: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www.public.srce.h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2050920" y="189000"/>
            <a:ext cx="5220000" cy="5184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5418000"/>
            <a:ext cx="9144000" cy="1440000"/>
          </a:xfrm>
          <a:prstGeom prst="rect">
            <a:avLst/>
          </a:prstGeom>
          <a:solidFill>
            <a:srgbClr val="3b80a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000000"/>
                </a:solidFill>
                <a:latin typeface="Georgia"/>
              </a:rPr>
              <a:t>Što je pažnja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24000" y="980640"/>
            <a:ext cx="8229600" cy="5040360"/>
          </a:xfrm>
          <a:prstGeom prst="rect">
            <a:avLst/>
          </a:prstGeom>
          <a:noFill/>
          <a:ln w="76320">
            <a:solidFill>
              <a:srgbClr val="3b80ae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Georgia"/>
              </a:rPr>
              <a:t>Pažnja je usmjerenost mentalne aktivnosti na određene podraža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Georgia"/>
              </a:rPr>
              <a:t>Često se koristi i izraz “koncentracija” – koncentriranje naše svijesti jest srž pažn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76320">
            <a:solidFill>
              <a:srgbClr val="3b80a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azlikujemo usmjeravanje i zadržavanje pažnje. Da bismo pratili neki događaj, trebamo se moći usmjeriti na njega, na ono što je bitno povezano s njim (a ne izgubiti se u mnogim nebitnim istovremenim događajima) i zadržati pažnju na njemu. Tako školsko dijete treba biti u stanju izdvojiti npr. ono što učiteljica govori i usmjeriti se na to, a ne na npr. drugu djecu, ono što mu je netko prije toga rekao, na zvukove izvan učionice... Također tu pažnju treba održati usmjerenu, a ne uskoro početi misliti na igračku koju je ponijelo, na sjećanja na film koje je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ije gledalo it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stoje znatne razlike u mogućnosti upravljanja pažnj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76320">
            <a:solidFill>
              <a:srgbClr val="3b80ae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vi imamo iskustvo sa skretanjem pažnje – događa nam se na primjer da na poslu mislimo o obvezama kod kuće, da «odsutni» vozimo auto ili da pročitamo nekoliko stranica knjige i utvrdimo da ne znamo što smo čitali jer smo razmišljali o nečemu drugome. Pažnja ima središnju ulogu u tome koje će podatke naš um dobiti, a koje neće. Tako je i kod djece – pažnja i budnost utječu na njihovo opažanje svije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Georgia"/>
              </a:rPr>
              <a:t>Pažnja u najranijem djetinjstv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solidFill>
            <a:srgbClr val="3b80ae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Čak i novorođenčad obraća pažnju na lagane zvukove i umjereno jake svjetlosne podražaje – prestanu raditi ono što su do tada radila, tijelo se umiri, a otkucaji srca se uspore. Ako su promjene u okolini jake ili nagle, događa se suprotno – novorođenče se uznemiri, zatvori oči, otkucaji srca se ubrzavaju. To su najraniji oblici djetetove pozitivne i negativne pažn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d oko 3. mjeseca pa do oko godinu dana starosti pažnju djece privlače stvari koje su nove i iznenađujuće. Na primjer, ako im se pokaže pravilno i iskrivljeno ljudsko lice izrađeno od gline, duže će promatrati iskrivljeno. Nakon toga pažnju djeteta privlače događaji koji ih potiču na stvaranje pretpostavki o svijetu koji ih okružuje. Na primjer, ako majka ima povez na licu, to će privući pažnju i dijete će pokušati procijeniti što se dogodi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b80a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Georgia"/>
              </a:rPr>
              <a:t>Razvoj paž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0" y="1197000"/>
            <a:ext cx="4100400" cy="5661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3995640" y="1557360"/>
            <a:ext cx="482436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eorgia"/>
              </a:rPr>
              <a:t>I sasvim mala djeca se međusobno razlikuju po pažnji i te razlike mogu biti stabilne tijekom vremena. Tako je u jednom istraživanju utvrđeno da djeca koja u dobi od pet mjeseci duže održavaju pažnju na vidnim podražajima, i u uzrastu od tri i pol godine duže zadržavaju pažnju kad se igraju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76320">
            <a:solidFill>
              <a:srgbClr val="3b80a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 odrastanjem dolazi do promjena u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upravljanju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pažnjom. Kod male djece pažnju privlače promjene u okolini, a što su djeca starija, to je već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i samoregulacija pažnje. To znači da se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pažnja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upravlja prema ciljevima i namjerama djete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oboljšava se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kontrola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pažnje – povećava se trajanje, a smanjuje lakoća odvraćanja – na primjer događaji u kući sve manje odvraćaju pažnju kod gledanja televizij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ovećava se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rilagodljivost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ažnje – mlađa djeca se usredotočuju na više nevažnih aspekata zadatka koji trebaju napravit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Mijenja se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laniranost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ažnje – ako dijete koje je mlađe treba usporediti dvije slike, promatrat će ih bez plana – starije dijete će uspoređivati jednu po jednu pojedinost na slic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jeca postaju sve uspješnija u prilagođavanju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trategija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ažnje – tako mlađi čitači imaju istu brzinu čitanja bez obzira na težinu teksta, a uvježbani čitači mijenjaju brzinu čitanja prema težini teks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21:07:43Z</dcterms:created>
  <dc:creator>sanja</dc:creator>
  <dc:description/>
  <dc:language>en-US</dc:language>
  <cp:lastModifiedBy>Kreso Stojic</cp:lastModifiedBy>
  <dcterms:modified xsi:type="dcterms:W3CDTF">2009-05-15T19:53:04Z</dcterms:modified>
  <cp:revision>27</cp:revision>
  <dc:subject/>
  <dc:title>Slide 1</dc:title>
</cp:coreProperties>
</file>