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icochet.wav" ContentType="audio/x-wav"/>
  <Override PartName="/ppt/media/image1.wmf" ContentType="image/x-wmf"/>
  <Override PartName="/ppt/media/carbrak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EAD-4857-4DF1-83E9-E50591F3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113-31F2-442D-B2E8-9D811B53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584-0221-4BD4-9185-A5B2F58B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E69-F14C-4085-9B1D-B599FFE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EAD-ED0D-4804-A6DA-605444C1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9B6F-CE8F-4073-95BB-4B0FB94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D622-181F-4CA0-8DE8-94DD6A0F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B2B7-6DDF-40EA-BA50-265DF26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8E38-0541-445A-9CC3-7DD934DD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E0E-23FE-4ED5-A3E5-52C71EB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E242-CDDC-4237-8D00-5525BC73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0AA-80BA-4B8F-A5BB-4F4E0CD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32E1-921E-49AA-868F-C71B87C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EFF1-595F-4BF8-802A-DD457D7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6255-14FE-4D45-966F-C180DF6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0AA-2E05-4957-87D8-7A4F7612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4ADB-F2D8-48FA-97DC-B098D679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7E9-1DBC-497E-B113-B1888A0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20D-69F6-49E3-B7C3-42DD302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52D-0B11-4703-BA9B-9AB1EA6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18F-A6CF-4502-9BA0-362EE58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2F5-E81C-4512-9840-2B00178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029-39F2-4E72-9A34-93B55675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E13-9511-4297-B733-9C39C2B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76A8-61A5-4975-8489-D0C11DEA2B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40ED-986C-43B1-BE97-902FEE353E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Izrada Power Point prezentacij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c98"/>
                </a:solidFill>
                <a:latin typeface="Arial"/>
              </a:rPr>
              <a:t>Smjernice za izbjegavanje učestalih pogrešaka pri izradi slajdo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Boje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 boju fonta koja je kontrastna s pozadin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: plavi font na bijeloj pozad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boju koja prati logiku struk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: svjetlo plavi naslov i tamnoplavi tek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boju da biste nešto naglasi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Ali samo </a:t>
            </a:r>
            <a:r>
              <a:rPr b="0" lang="hr-HR" sz="2400" spc="-1" strike="noStrike">
                <a:solidFill>
                  <a:srgbClr val="009999"/>
                </a:solidFill>
                <a:latin typeface="Arial"/>
              </a:rPr>
              <a:t>povreme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Boje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orištenje boje fonta koja nije u kontrastu s pozadinom je teško za čitanj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štenje boje za dekoracij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dvraća pažnju</a:t>
            </a:r>
            <a:r>
              <a:rPr b="0" lang="hr-HR" sz="2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sme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99"/>
                </a:solidFill>
                <a:latin typeface="Arial"/>
              </a:rPr>
              <a:t>Korištenje različite boje za različite točke je nepotreb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rištenje različite boje za sporednu točku je također nepotreb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ozadina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jednostavne pozad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svijetle pozad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istu pozadinu kroz cijelu prezentacij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ozadina –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Ne koristite pozadine na kojima je teško čitati tek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Ne mijenjajte pozadine tijekom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pe07677_"/>
          <p:cNvPicPr/>
          <p:nvPr/>
        </p:nvPicPr>
        <p:blipFill>
          <a:blip r:embed="rId1"/>
          <a:stretch/>
        </p:blipFill>
        <p:spPr>
          <a:xfrm>
            <a:off x="3124080" y="3886200"/>
            <a:ext cx="24735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grafove, ne samo tablice i riječ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datci u grafovima su jednostavniji za shvatiti nego brojčani pod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akše je vizualizirati trendove u formi graf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vijek stavljajte naslove na graf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1763640" y="3141720"/>
          <a:ext cx="4724640" cy="76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47246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914400" y="2362320"/>
          <a:ext cx="39243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9243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826920" y="2349360"/>
          <a:ext cx="8066160" cy="439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349360"/>
                    <a:ext cx="80661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762120" y="2492280"/>
          <a:ext cx="8076960" cy="41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92280"/>
                    <a:ext cx="80769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ravopis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565000"/>
            <a:ext cx="80010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ovjerite prezentaciju tražeć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opisne pogreš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navljanje riječ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ramatičke grešk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amolite nekoga da vam pregleda prezentaciju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Zaključak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glasite zaključ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ublika će vjerojatno zapamtiti vaše zadnje riječ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stakn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amo glavne točke prezent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dložite buduća istraži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regled smjernic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3924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truktura slajdo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onto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B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zad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rafo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op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ključ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0680" y="2666520"/>
            <a:ext cx="3924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itanja?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nekad prezentaciju možete završiti i s jednostavnim pitanjem ili slajdom za pit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e može započeti rasprav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maže da se izbjegne oštri prekid izlag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aje “nešto za gledanje” tijekom perioda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Kratki sadržaj</a:t>
            </a: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 početku prezentacije napravite kratki pregled sadržaja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. prethodni slaj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atite predstavljen poredak do kraja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amo glavne točke na pregled sadrža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. koristi naslove slajdova kao glavne toč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– dobr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1-2 slajdova po minuti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išite u formi natuknica, ne u čitavim rečenic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ključi 4-5 točke po slaj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bjegavajte “rječitost”: koristite samo ključne riječi i fra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- loš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vaj slajd sadrži previše riječi za slajd. Nije napisan u formi natuknica, što ga čini teškim za čitanje i prezentiranje svake točke. Iako ovaj slajd nema složeniji sadržaj od prethodnog, ovdje sve izgleda previše komplicirano. Ukratko, vaša publika će potrošiti više vremena u čitanju ovog odlomka nego slušajući v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– dobr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prikazujte previše informacija istovremen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moći će publici da se koncentriraju na ono što govo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riječiti će publiku da čita unaprij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ublika će ostati fokusirana na ono o čemu govo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- loš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koristiti animacije koje previše odvraćaju pozor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pretjerujte s animacij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Budite konzistentni s animacijom koju korist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25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25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Font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najmanje font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različite veličine fontova za glavne i sporedne natuk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vo je font 24, glavna natuknica je u veličini 28, a naslov u 3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standardne fontove kao što su</a:t>
            </a: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imes New Roman ili A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Font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Ako koristite premali font vaša publika neće moći čitati što ste napisal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BJEGAVAJTE VELIKA SLOVA, TEŠKO SE ČITAJ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Impact"/>
              </a:rPr>
              <a:t>Ne koristite komplicirani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3:34:17Z</dcterms:created>
  <dc:creator>Marko</dc:creator>
  <dc:description/>
  <dc:language>en-US</dc:language>
  <cp:lastModifiedBy>Stojic</cp:lastModifiedBy>
  <dcterms:modified xsi:type="dcterms:W3CDTF">2008-10-27T15:23:13Z</dcterms:modified>
  <cp:revision>41</cp:revision>
  <dc:subject/>
  <dc:title>Prezentacije</dc:title>
</cp:coreProperties>
</file>