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101-9FBE-4B0C-9D53-90B96A09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91A-0F73-422D-914C-4E1BADE1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E46-0EE1-48A5-86AD-3C933EE1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CB0-2673-4DF3-AA41-3169D825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0D0-FA7B-454D-8ED4-D5204D9C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3CA-E113-4FE3-8649-E385F8E5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611-FDA7-4B14-8E3E-D03482FC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D00-FC13-40AE-BC40-8D72AB4F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E99-F008-4F34-883B-C2D36F97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EAF-58AA-4A09-B0C2-8EF527CF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309-580C-41FD-BB22-DCD15E47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FD2-13CC-4A59-9743-2366D30D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6D5E-69D8-4932-A3C3-58050A91851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edicina.hr/" TargetMode="External"/><Relationship Id="rId2" Type="http://schemas.openxmlformats.org/officeDocument/2006/relationships/hyperlink" Target="http://www.udruga-hinkofreund.hr/" TargetMode="External"/><Relationship Id="rId3" Type="http://schemas.openxmlformats.org/officeDocument/2006/relationships/hyperlink" Target="http://www.idw.de/" TargetMode="External"/><Relationship Id="rId4" Type="http://schemas.openxmlformats.org/officeDocument/2006/relationships/hyperlink" Target="http://www.stottern.info/" TargetMode="External"/><Relationship Id="rId5" Type="http://schemas.openxmlformats.org/officeDocument/2006/relationships/hyperlink" Target="http://www.stottern-und-schule.de/" TargetMode="External"/><Relationship Id="rId6" Type="http://schemas.openxmlformats.org/officeDocument/2006/relationships/hyperlink" Target="http://www.sprachheilpaedagogik.de/" TargetMode="External"/><Relationship Id="rId7" Type="http://schemas.openxmlformats.org/officeDocument/2006/relationships/hyperlink" Target="http://www.erf.hr/" TargetMode="External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Znak 506"/>
          <p:cNvPicPr/>
          <p:nvPr/>
        </p:nvPicPr>
        <p:blipFill>
          <a:blip r:embed="rId1"/>
          <a:stretch/>
        </p:blipFill>
        <p:spPr>
          <a:xfrm>
            <a:off x="2556000" y="549360"/>
            <a:ext cx="40827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653160" y="3870360"/>
            <a:ext cx="2490840" cy="298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Stav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soba koja muca može razviti negativne stavove prema samome seb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pr.: Nisam sposoban govoriti kao drugi, stoga ni ne vrijedim kao dru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Drukčiji s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Svijet je neprijateljsko mj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i drugi ne vrijede, jer nemaju razumijevanja za takve kao 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8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Mucanje se može javiti u svim životnim dobama, ali se najčešće javlja između druge i pete godine u doba razvoja govora. Javlja se kod oko 2,4 % djece. Triput je češće kod dječaka nego kod djevojčica, učestalije je kod blizanaca i kod ljevorukih oso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ećina djece (oko 70%) uz pomoć male ili čak nikakve terapije prevlada muca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Manje od 1% odraslih mu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Raz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Puno djece ima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razdoblje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u razvoju kada govor nije teč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n,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o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to je je normalan dio sazrijevanja. Smatra se da je do oko 5% (5 od 100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riječi koje se ne izgovaraju tečno uobičajena pojava u ovom razdoblju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Govor djeteta može biti još otežaniji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kod uzbuđenja, stresa i kod dugačkih rečen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U govoru se u ovom razdoblju pojavljuju mnogi dodaci (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am, ahm, eee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i sl.), ponavljaju se riječi ili dijelovi rečen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Logopedska pomoć može spriječiti da razvojno mucanje ne prijeđe u doživot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Zbog toga je preporučljivo napraviti procjenu govora kod djece koja imaju teškoće </a:t>
            </a:r>
            <a:r>
              <a:rPr b="0" lang="hr-HR" sz="3200" spc="-1" strike="noStrike">
                <a:solidFill>
                  <a:srgbClr val="68101f"/>
                </a:solidFill>
                <a:latin typeface="Georgia"/>
              </a:rPr>
              <a:t>duže od šest mjeseci</a:t>
            </a: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te kod onih koja mucaju, a to je praćeno različitim oblicima </a:t>
            </a:r>
            <a:r>
              <a:rPr b="0" lang="hr-HR" sz="3200" spc="-1" strike="noStrike">
                <a:solidFill>
                  <a:srgbClr val="68101f"/>
                </a:solidFill>
                <a:latin typeface="Georgia"/>
              </a:rPr>
              <a:t>neobičnog ponašanja ili tik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95280" y="200988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adalje, preporučuje se savjetovati se s logopedom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se pojavljuje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veći udio ponavljan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se javlja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ponavljanje pojedinih glasova ili slogov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mmmmmammmmma, mamamam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se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pojedini glasovi jako produžuju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maaaaaaam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se javlja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veći broj ponavljanj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dododododobiti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rayawn"/>
          <p:cNvPicPr/>
          <p:nvPr/>
        </p:nvPicPr>
        <p:blipFill>
          <a:blip r:embed="rId1"/>
          <a:stretch/>
        </p:blipFill>
        <p:spPr>
          <a:xfrm>
            <a:off x="7885080" y="1773360"/>
            <a:ext cx="858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Logopeda treba svakako potražiti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se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poteškoće pojačavaju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je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disanje očito nekontrolirano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te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ako dijete postane </a:t>
            </a:r>
            <a:r>
              <a:rPr b="1" lang="de-DE" sz="2800" spc="-1" strike="noStrike">
                <a:solidFill>
                  <a:srgbClr val="68101f"/>
                </a:solidFill>
                <a:latin typeface="Georgia"/>
              </a:rPr>
              <a:t>svjesno da ima probleme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s govorom.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eporučuje se s tretmanom početi što </a:t>
            </a:r>
            <a:r>
              <a:rPr b="1" lang="hr-HR" sz="2800" spc="-1" strike="noStrike">
                <a:solidFill>
                  <a:srgbClr val="68101f"/>
                </a:solidFill>
                <a:latin typeface="Georgia"/>
              </a:rPr>
              <a:t>ranije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jer se kod mlađe djece brže prevlad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920" y="2284560"/>
            <a:ext cx="828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ocjenjuje se da postoji oko 250 različitih metoda za tretman muc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Zbog mnogostrukosti uzroka mucanja i poteškoća koje ga prate, primjenjuju se često programi koji su mnogostruki – npr. vježba se ritmičnost govora, disanje, uvode se psihoterapijski postupci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84360" y="2009880"/>
            <a:ext cx="72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ajčešće se koriste sljedeći postup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ježbe disan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Tehnike  govor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ježbe govornog  ritm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Metode «non avoidence»  - kod ovog pristupa nastoji se popraviti situacija osobe koja muca na taj način da ona prihvaća svoje mucan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Različite tehnike opuštanja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shell"/>
          <p:cNvPicPr/>
          <p:nvPr/>
        </p:nvPicPr>
        <p:blipFill>
          <a:blip r:embed="rId1"/>
          <a:stretch/>
        </p:blipFill>
        <p:spPr>
          <a:xfrm>
            <a:off x="6958080" y="2565360"/>
            <a:ext cx="1474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Tretman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79280" y="1592280"/>
            <a:ext cx="89647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OLIKLINIKE SUV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VJETOVALIŠTE REHABILITACIJSKOG CENTR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KACIJSKO-REHABILITACIJSKOG FAKULTET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, Kušlanova 59a,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DRUGA HINKO FREUND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laićeva 16,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Fonijatrijski centar Klinike za bolesti uha, nosa i grla, Referentni centar za fonijatriju Ministarstva zdravstva RH,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Opća bolnica Varaždin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Skup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95280" y="184464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U svijetu, a sada i kod nas osobe koje mucaju nastoje prevladati različite poteškoće te postići dobru informiranost o ovom problemu tako da se priključuju skupinama za samopomo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crayawn"/>
          <p:cNvPicPr/>
          <p:nvPr/>
        </p:nvPicPr>
        <p:blipFill>
          <a:blip r:embed="rId1"/>
          <a:stretch/>
        </p:blipFill>
        <p:spPr>
          <a:xfrm rot="1474800">
            <a:off x="3708000" y="4221000"/>
            <a:ext cx="16239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53733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00"/>
                </a:solidFill>
                <a:latin typeface="Georgia"/>
              </a:rPr>
              <a:t>mucanj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95280" y="1989000"/>
            <a:ext cx="87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Da biste pomogli svom djetetu koje muca, trebate mu, kao prvo, osigurati opuštenu kućnu atmosfe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ihvatite djetetovo mucanje kao njegov način govora i ne stavljajte djetetu do znanja kako mislite da je mucanje pogrešno ili da je loša nav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mojte kritizirati djetetov go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9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11280" y="1484280"/>
            <a:ext cx="853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Dobre govorne navike roditelja mogu pomoći djetetu koje muca. Govorite što polaganije, mirnije, jednostavnije i ritmičn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Ako nemate puno vremena, odredite termin kada dijete može s vama neometano razgovar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U razgovoru s djetetom postavljajte š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jednostavnija i preciznija pitanja, ne postavljajte odjednom niz pi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19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68360" y="191628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 tražite od djeteta da uloži veći trud kako bi izbjeglo mucanje ili da ponavlja riječ dok je tečno ne izgov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 govorite mu da uspori s govorom, ili da razmisli što će reći prije no što počne govor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 predlažite mu drugi način govora za koji mislite da će mu olakšati govore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19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84360" y="1989000"/>
            <a:ext cx="77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Gledajte dijete u oči dok govori, pokažite interes za sadržaj, a ne za način gov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ozorno slušajte dok dijete govor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ičekajte da izgovori riječ do kra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 dopunjavajte djetetove riječi ili misli, ne govorite umjesto njega kad nastupi poteškoća u gov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9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84360" y="2060640"/>
            <a:ext cx="763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 nagrađujte dijete za tečan govor i ne kažnjavajte ga zbog muc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ema djetetu njegujte strpljiv, prijateljski i obazriv od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Ako dijete započne tu temu, potrebno je otvoreno razgovarati s njim o muc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crayawn"/>
          <p:cNvPicPr/>
          <p:nvPr/>
        </p:nvPicPr>
        <p:blipFill>
          <a:blip r:embed="rId1"/>
          <a:stretch/>
        </p:blipFill>
        <p:spPr>
          <a:xfrm>
            <a:off x="7236000" y="2781360"/>
            <a:ext cx="15015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1989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8360" y="155736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ijete može postići tečan govor vježb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810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8101f"/>
                </a:solidFill>
                <a:latin typeface="Georgia"/>
              </a:rPr>
              <a:t>Neka priča priče, recitira stihove i čita naglas u situacijama kad nema napetosti. Ne prekidajte ga i ne ispravljajte g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810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8101f"/>
                </a:solidFill>
                <a:latin typeface="Georgia"/>
              </a:rPr>
              <a:t>Ohrabrite dijete da govori u obiteljskom okruženju kad nema napetosti, za stolom, za vrijeme ručka ili tijekom razgovora o njegovim dnevnim aktivnost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810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8101f"/>
                </a:solidFill>
                <a:latin typeface="Georgia"/>
              </a:rPr>
              <a:t>Polaganim i ritmičnim govorom mu pričajte ili čitajte priče, dodajući im malo dramatičnos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810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8101f"/>
                </a:solidFill>
                <a:latin typeface="Georgia"/>
              </a:rPr>
              <a:t>Onih dana kada nema puno govornih blokada, dijete treba stimulirati da govori što je više moguć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8101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8101f"/>
                </a:solidFill>
                <a:latin typeface="Georgia"/>
              </a:rPr>
              <a:t>Onih dana kada dijete ima velikih poteškoća u govoru, ne zahtijevajte od njega da puno gov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ke za roditel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50920" y="1989000"/>
            <a:ext cx="87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Ako dijete zadirkuju zbog mucanja, poučite ga da to primi mirno govoreći: “</a:t>
            </a:r>
            <a:r>
              <a:rPr b="1" lang="hr-HR" sz="2800" spc="-1" strike="noStrike">
                <a:solidFill>
                  <a:srgbClr val="68101f"/>
                </a:solidFill>
                <a:latin typeface="Georgia"/>
              </a:rPr>
              <a:t>Dobro, i ja ponekad imam problema s izgovorom neke riječi. Svatko to ima. Ali ja se neću brinuti oko tog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” Većina zadirkivanja prestaje kada se suoče s takvim stav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10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191628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Georgia"/>
              </a:rPr>
              <a:t>Uzroci mucanja do sada nisu u potpunosti poznati, ali je sigurno da se radi o inače potpuno normalnim ljudima sa svim pozitivnim i negativnim osobinama koje imaju i drugi lj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84360" y="1916280"/>
            <a:ext cx="755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ka školska djeca koja mucaju, nastoje prevladati mucanje, što može ovu teškoću još više učvrstiti. Druga se povlače te pretežno šute u školi. Pri tome postaju bolno svjesna razlike između znanja koje posjeduju i mogućnosti da ga pokaž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Izrugivanje i strah od izrugivanja pridonose povlačenju i izolaciji ove dje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crayawn"/>
          <p:cNvPicPr/>
          <p:nvPr/>
        </p:nvPicPr>
        <p:blipFill>
          <a:blip r:embed="rId1"/>
          <a:stretch/>
        </p:blipFill>
        <p:spPr>
          <a:xfrm>
            <a:off x="7524720" y="2997360"/>
            <a:ext cx="1440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39640" y="2276640"/>
            <a:ext cx="813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Problem za učitelje može biti donijeti pravu odluku kako pristupiti učeniku koji muca – kako mu dati priliku da pokaže znanje, kako ga ne preopteretiti, je li bolje obraćati mu se ili pustiti ga na miru… Svakako je dobro otvoreno razgovarati o tome s roditeljima i učenik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crayawn"/>
          <p:cNvPicPr/>
          <p:nvPr/>
        </p:nvPicPr>
        <p:blipFill>
          <a:blip r:embed="rId1"/>
          <a:stretch/>
        </p:blipFill>
        <p:spPr>
          <a:xfrm rot="19715400">
            <a:off x="4498920" y="5121360"/>
            <a:ext cx="17668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10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539640" y="465120"/>
            <a:ext cx="8136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eorgia"/>
              </a:rPr>
              <a:t>Mucanje je poremećaj govora u kojem je govor prekinut čestim ponavljanjem ili produljivanjem govornih zvukova, slogova ili riječi, ili osoba ne može početi govoriti rije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Georgia"/>
              </a:rPr>
              <a:t>Prekid u govoru može pratiti učestalo treptanje očiju, drhtanje usana i/ili čeljusti ili drugi neobični oblici ponašanja koje osoba koja muca radi dok pokušava govori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Georgia"/>
              </a:rPr>
              <a:t>Mucanje također često prate ubrzan puls, crvenilo, znojenje, širenje zjenica, povećana napetost mišića usana, jezika ili 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1557360"/>
            <a:ext cx="835344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Učitelj treba nastojati da njegovo govorno ponašanje u razredu bude korektno – na neverbalnom planu to je mirno i ujednačeno držanje, kontakt očima sa sugovornikom, ne govoriti brzo, paziti na artikul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jegovati aktivno slušanje – puštati sugovornika da govori do kraja bez prekidanja, znakovima očima, kimanjem glave i verbalno davati znak da slušamo (</a:t>
            </a:r>
            <a:r>
              <a:rPr b="0" i="1" lang="hr-HR" sz="2400" spc="-1" strike="noStrike">
                <a:solidFill>
                  <a:srgbClr val="000000"/>
                </a:solidFill>
                <a:latin typeface="Georgia"/>
              </a:rPr>
              <a:t>da, ah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), ponoviti ukratko ono što je rečeno te tako provjeriti jesmo li smo dobro razumje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od vježbi čitanja u razrednoj nastavi može se vježbati i čitanjem u skupinama ili u paru (unisono)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11280" y="148428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Dobro je upitati dijete što mu više odgovara – prozivanje kod odgovaranja ili samostalno javljanje, odgovaranje s mjesta ili drugdje u učionici, stojeći ili sjedeći. Ako to i ne pomaže kod mucanja, može smanjiti strahove djeteta jer ono u određenoj mjeri kontrolira situaci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Uvođenje neverbalnog izražavanja – likovnog, pantomimom, plesom, igrom, ritmičkim vježbama, itd. dovodi do opuštanja i smanjuje značaj stalnog verbalnog izražavanja u nasta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5280" y="1773360"/>
            <a:ext cx="820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zbjegavajte dobrohotne savjete kao što su : «Promisli prije nego što nešto kažeš.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«Udahni prije nego što počneš govoriti.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«Malo se opusti,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«Počni mirno još jednom.» i s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ad bi takvi savjeti pomagali, mucanje ne bi bilo takav problem. Time samo pojačavate pozornost koju drugi obraćaju na osobu koja mu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zbjegavajte iznenadna proziv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zbjegavajte igre riječima kod kojih treba brzo smisliti ili reći odgov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755640" y="142884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Ne pokušavajte pomoći tako da dovršavate riječi ili rečenice. To pomaže u danom trenutku, ali ne dugoroč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okušajte se normalno ponašati i ne budite nestrpljiv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Ne okrećite se na drugu stranu, zadržite kontakt očima i ne radite još neke stvari us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Ne govorite pred drugima o problemu mucanja. Ako želite o tome razgovarati, učinite to nasa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Ljudi koji mucaju imaju bolje i teže dane – uzmite to u obz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39640" y="162864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Razgovarajte s djetetom i roditeljima i pokažite da prihvaćate dijete sa svim poteškoćama i darovitostima kao i druge učen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ružajte u razredu prilike svima da pokažu različite darovitosti i znanja – likovne, društvene, glazbene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Ako se javi izrugivanje – ono se kod djece često javlja kod svega što je drukčije – može se u razredu razgovarati ili u različitim radionicama obraditi tema “Različitosti među ljudima” ili slične u kojima se može vidjeti i da se druga djeca u razredu razlikuju u mnogim osobinama. Svakako reagirajte odmah i pokažite da taj postupak ne smatrate ispravn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U šk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684360" y="1916280"/>
            <a:ext cx="755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39640" y="2147760"/>
            <a:ext cx="770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Ako  je dijete uključeno u tretman govora, pohvalite nasamo njegov novi način gov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U to vrijeme dogovorite s djetetom njegovo nastupanje pred razredom prema tome kako ostvaruje napredak u govo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nformirajte roditelje o mogućim poteškoćama i poboljšanjima kod upotrebe novog načina gov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Georgia"/>
              </a:rPr>
              <a:t>Poznate osobe koje su mu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 rot="621600">
            <a:off x="468360" y="1700280"/>
            <a:ext cx="1928880" cy="21859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 rot="21199800">
            <a:off x="394920" y="4292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2843280" y="1989000"/>
            <a:ext cx="583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ajčešće spominjani primjer je slavni antički govornik Demosten – njegovi biografi tvrde da je svoje govorne poteškoće otklanjao tako da je govore vježbao vičući ili držeći šljunak u u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I među suvremenicima ima puno onih koji su postali uspješni u javnom životu nakon što su prevladali mucanje -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inston Churchill,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Charles Darwin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rilyn Monroe, James Earl Jones, Bruce Willis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Jimmy Stewart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i mnogi drug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24000" y="105264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alić-Jušić, I. (2001), ŠTO UČINITI S MUCANJEM - Cjelovit pristup govoru i psihi, Ostvarenje, Leke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icrosoft Encarta Encyclopedia Standard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ottern oder unflüssige Sprache? - Unterscheidung ist bei Kindern leicht, Ärztezeitung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edicina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udruga-hinkofreund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dw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stottern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tottern-und-schule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sprachheilpaedagogik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erf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udruga-hinkofreund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mzt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medicina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orl.mef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casafuturate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stottern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stottern-und-schule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sprachheilpaedagogik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8101f"/>
                </a:solidFill>
                <a:latin typeface="Arial"/>
              </a:rPr>
              <a:t>www.news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animleser"/>
          <p:cNvPicPr/>
          <p:nvPr/>
        </p:nvPicPr>
        <p:blipFill>
          <a:blip r:embed="rId8">
            <a:grayscl/>
          </a:blip>
          <a:stretch/>
        </p:blipFill>
        <p:spPr>
          <a:xfrm>
            <a:off x="0" y="0"/>
            <a:ext cx="593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eporučuj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79280" y="159228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4360" y="2009880"/>
            <a:ext cx="7488000" cy="3751560"/>
          </a:xfrm>
          <a:prstGeom prst="rect">
            <a:avLst/>
          </a:prstGeom>
          <a:solidFill>
            <a:srgbClr val="68101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Čimbur, P. (2001.), 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Zbogom mucanje: kako sam svladao govornu manu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, Naklada Pavičić,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Galić-Jušić, I. (2001), 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ŠTO UČINITI S MUCANJEM - Cjelovit pristup govoru i psihi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, Ostvarenje, Leke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Mucanje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www.medicina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I maheri mucaju, pa što ...”,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www.vecernji-list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O mucanju…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www.udruga-hinkofreund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539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 rot="20683200">
            <a:off x="5866920" y="2492280"/>
            <a:ext cx="2724120" cy="3419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468360" y="333360"/>
            <a:ext cx="81360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ucanje se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pogoršav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kod govora ispred više ljudi ili razgova na telefo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U nekim situacijama se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smanjuje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mucanje, npr. kada oso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je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govori na sam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šapć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govori zajedno s drug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ada ne može čuti vlastiti gl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ada govori sama sebi ili kućnim ljubimc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oli 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govori i piše istodobn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govori spo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govori dubljim tonom glas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oponaša nečiji glas i go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942320" cy="1641600"/>
          </a:xfrm>
          <a:prstGeom prst="rect">
            <a:avLst/>
          </a:prstGeom>
          <a:solidFill>
            <a:srgbClr val="68101f">
              <a:alpha val="5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Dugo se smatralo da su glavni uzročnici       problema pri izgovoru emocionalne prirode, kao što je npr. str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3284280"/>
            <a:ext cx="7858080" cy="2841480"/>
          </a:xfrm>
          <a:prstGeom prst="rect">
            <a:avLst/>
          </a:prstGeom>
          <a:solidFill>
            <a:srgbClr val="68101f">
              <a:alpha val="5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sobe koje mucaju mogu imati emocionalne probleme kao što je strah od upoznavanja nepoznatih ljudi ili od razgovora na telefon. Ovi problemi obično nastaju 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zbog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mucanja, a 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ne uzrokuju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muca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10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Georgia"/>
              </a:rPr>
              <a:t>Stručnjaci danas misle da se kod mucanja radi o drukčijoj građi nekih dijelova mozga ili njihovoj slabijoj povezanosti. To su dijelovi mozga koji su povezani s jezikom i govo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hr-HR" sz="3200" spc="-1" strike="noStrike">
                <a:solidFill>
                  <a:srgbClr val="ffffff"/>
                </a:solidFill>
                <a:latin typeface="Georgia"/>
              </a:rPr>
              <a:t>Zbog takvih razlika u radu mozga kod osoba koje mucaju dolazi do povremenog nesklada u radu mišića koji se koriste kod gov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10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tručnjaci 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se nadaju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 da će se dalj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nj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im istraživanjem utvrditi je li mucanje genetski uvjetovano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. Primijećeno je, naime, da se mucanje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 češće pojavlj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u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je u nekim obiteljima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U obitelji osobe koja muca također se često nalaze osobe s govornim i jezičkim teškoćama sasvim druge prirode. Znanstvenici govore o tzv. obiteljskom tipu jezičnih nedostata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Moguće je također da mucanje nastaje zbog problema u učenju govora. Mnoga djeca privremeno mucaju </a:t>
            </a:r>
            <a:r>
              <a:rPr b="1" lang="de-DE" sz="2800" spc="-1" strike="noStrike">
                <a:solidFill>
                  <a:srgbClr val="ffffff"/>
                </a:solidFill>
                <a:latin typeface="Georgia"/>
              </a:rPr>
              <a:t>u vrijeme ranog učenja govor</a:t>
            </a:r>
            <a:r>
              <a:rPr b="1" lang="hr-HR" sz="2800" spc="-1" strike="noStrike">
                <a:solidFill>
                  <a:srgbClr val="ffffff"/>
                </a:solidFill>
                <a:latin typeface="Georgia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Problemi kod muc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ucanje se javlja u mnogim različitim situacijam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, može dugo trajati i postati nav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kolina smatra mucanje nenormalnim oblikom ponašanj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, a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neke osobe iz okoline sklone su ruganju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uganje dovodi do negativne slike o samom sebi kod osobe koja muc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soba koja muca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sjeća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 strah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jer misli da neće uspjeti. S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trahovi uzrokuju tjelesnu napetost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 Z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bog strahova osoba pokušava izbjeći situacije koje ih uzrokuju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Tako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mucanje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sve više </a:t>
            </a:r>
            <a:r>
              <a:rPr b="1" lang="de-DE" sz="2800" spc="-1" strike="noStrike">
                <a:solidFill>
                  <a:srgbClr val="000000"/>
                </a:solidFill>
                <a:latin typeface="Georgia"/>
              </a:rPr>
              <a:t>utječe na način život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68101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Emo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soba koja muca osjeća nelagodu i strah prije govo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Često osjeća sram poslije govora. Može se javiti i potisnuta ljutnja na sugovornika koji pokazuje nestrpljenje i nerazumijeva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eugodni su i sugovornici koji imaju pretjerano zaštitnički stav u razgovoru – pomažu u izgovoru, dovršavaju rečenice i 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21:11:47Z</dcterms:created>
  <dc:creator>sanja</dc:creator>
  <dc:description/>
  <dc:language>en-US</dc:language>
  <cp:lastModifiedBy>Stojic</cp:lastModifiedBy>
  <dcterms:modified xsi:type="dcterms:W3CDTF">2009-05-20T06:46:34Z</dcterms:modified>
  <cp:revision>28</cp:revision>
  <dc:subject/>
  <dc:title>Slide 1</dc:title>
</cp:coreProperties>
</file>