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7229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7229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9076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90760" y="413064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0400" y="198108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5160" y="198108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30400" y="413064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5160" y="4130640"/>
            <a:ext cx="23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722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7229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52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90760" y="1981080"/>
            <a:ext cx="352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304560"/>
            <a:ext cx="722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90760" y="1981080"/>
            <a:ext cx="352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52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9076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90760" y="413064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90760" y="1981080"/>
            <a:ext cx="3528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7229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0"/>
            <a:ext cx="2035080" cy="6861240"/>
          </a:xfrm>
          <a:custGeom>
            <a:avLst/>
            <a:gdLst/>
            <a:ahLst/>
            <a:rect l="l" t="t" r="r" b="b"/>
            <a:pathLst>
              <a:path w="1282" h="4322">
                <a:moveTo>
                  <a:pt x="1115" y="0"/>
                </a:moveTo>
                <a:lnTo>
                  <a:pt x="0" y="0"/>
                </a:lnTo>
                <a:lnTo>
                  <a:pt x="0" y="4321"/>
                </a:lnTo>
                <a:lnTo>
                  <a:pt x="1208" y="4321"/>
                </a:lnTo>
                <a:lnTo>
                  <a:pt x="1225" y="4238"/>
                </a:lnTo>
                <a:lnTo>
                  <a:pt x="1244" y="4162"/>
                </a:lnTo>
                <a:lnTo>
                  <a:pt x="1262" y="4086"/>
                </a:lnTo>
                <a:lnTo>
                  <a:pt x="1281" y="4003"/>
                </a:lnTo>
                <a:lnTo>
                  <a:pt x="1269" y="3865"/>
                </a:lnTo>
                <a:lnTo>
                  <a:pt x="1265" y="3796"/>
                </a:lnTo>
                <a:lnTo>
                  <a:pt x="1260" y="3733"/>
                </a:lnTo>
                <a:lnTo>
                  <a:pt x="1258" y="3664"/>
                </a:lnTo>
                <a:lnTo>
                  <a:pt x="1262" y="3602"/>
                </a:lnTo>
                <a:lnTo>
                  <a:pt x="1269" y="3533"/>
                </a:lnTo>
                <a:lnTo>
                  <a:pt x="1281" y="3457"/>
                </a:lnTo>
                <a:lnTo>
                  <a:pt x="1279" y="3388"/>
                </a:lnTo>
                <a:lnTo>
                  <a:pt x="1279" y="3319"/>
                </a:lnTo>
                <a:lnTo>
                  <a:pt x="1275" y="3249"/>
                </a:lnTo>
                <a:lnTo>
                  <a:pt x="1273" y="3222"/>
                </a:lnTo>
                <a:lnTo>
                  <a:pt x="1267" y="3187"/>
                </a:lnTo>
                <a:lnTo>
                  <a:pt x="1260" y="3166"/>
                </a:lnTo>
                <a:lnTo>
                  <a:pt x="1252" y="3139"/>
                </a:lnTo>
                <a:lnTo>
                  <a:pt x="1229" y="3090"/>
                </a:lnTo>
                <a:lnTo>
                  <a:pt x="1219" y="3070"/>
                </a:lnTo>
                <a:lnTo>
                  <a:pt x="1210" y="3049"/>
                </a:lnTo>
                <a:lnTo>
                  <a:pt x="1204" y="3042"/>
                </a:lnTo>
                <a:lnTo>
                  <a:pt x="1202" y="3035"/>
                </a:lnTo>
                <a:lnTo>
                  <a:pt x="1183" y="2931"/>
                </a:lnTo>
                <a:lnTo>
                  <a:pt x="1169" y="2821"/>
                </a:lnTo>
                <a:lnTo>
                  <a:pt x="1162" y="2703"/>
                </a:lnTo>
                <a:lnTo>
                  <a:pt x="1165" y="2593"/>
                </a:lnTo>
                <a:lnTo>
                  <a:pt x="1167" y="2530"/>
                </a:lnTo>
                <a:lnTo>
                  <a:pt x="1173" y="2475"/>
                </a:lnTo>
                <a:lnTo>
                  <a:pt x="1181" y="2420"/>
                </a:lnTo>
                <a:lnTo>
                  <a:pt x="1190" y="2371"/>
                </a:lnTo>
                <a:lnTo>
                  <a:pt x="1202" y="2316"/>
                </a:lnTo>
                <a:lnTo>
                  <a:pt x="1217" y="2268"/>
                </a:lnTo>
                <a:lnTo>
                  <a:pt x="1233" y="2219"/>
                </a:lnTo>
                <a:lnTo>
                  <a:pt x="1252" y="2171"/>
                </a:lnTo>
                <a:lnTo>
                  <a:pt x="1256" y="2067"/>
                </a:lnTo>
                <a:lnTo>
                  <a:pt x="1260" y="1963"/>
                </a:lnTo>
                <a:lnTo>
                  <a:pt x="1267" y="1860"/>
                </a:lnTo>
                <a:lnTo>
                  <a:pt x="1269" y="1763"/>
                </a:lnTo>
                <a:lnTo>
                  <a:pt x="1267" y="1659"/>
                </a:lnTo>
                <a:lnTo>
                  <a:pt x="1260" y="1562"/>
                </a:lnTo>
                <a:lnTo>
                  <a:pt x="1254" y="1514"/>
                </a:lnTo>
                <a:lnTo>
                  <a:pt x="1244" y="1473"/>
                </a:lnTo>
                <a:lnTo>
                  <a:pt x="1233" y="1424"/>
                </a:lnTo>
                <a:lnTo>
                  <a:pt x="1219" y="1376"/>
                </a:lnTo>
                <a:lnTo>
                  <a:pt x="1212" y="1327"/>
                </a:lnTo>
                <a:lnTo>
                  <a:pt x="1210" y="1293"/>
                </a:lnTo>
                <a:lnTo>
                  <a:pt x="1212" y="1265"/>
                </a:lnTo>
                <a:lnTo>
                  <a:pt x="1217" y="1244"/>
                </a:lnTo>
                <a:lnTo>
                  <a:pt x="1223" y="1224"/>
                </a:lnTo>
                <a:lnTo>
                  <a:pt x="1233" y="1203"/>
                </a:lnTo>
                <a:lnTo>
                  <a:pt x="1242" y="1168"/>
                </a:lnTo>
                <a:lnTo>
                  <a:pt x="1252" y="1127"/>
                </a:lnTo>
                <a:lnTo>
                  <a:pt x="1235" y="933"/>
                </a:lnTo>
                <a:lnTo>
                  <a:pt x="1215" y="740"/>
                </a:lnTo>
                <a:lnTo>
                  <a:pt x="1192" y="553"/>
                </a:lnTo>
                <a:lnTo>
                  <a:pt x="1171" y="360"/>
                </a:lnTo>
                <a:lnTo>
                  <a:pt x="1181" y="332"/>
                </a:lnTo>
                <a:lnTo>
                  <a:pt x="1190" y="304"/>
                </a:lnTo>
                <a:lnTo>
                  <a:pt x="1194" y="277"/>
                </a:lnTo>
                <a:lnTo>
                  <a:pt x="1198" y="256"/>
                </a:lnTo>
                <a:lnTo>
                  <a:pt x="1198" y="228"/>
                </a:lnTo>
                <a:lnTo>
                  <a:pt x="1196" y="207"/>
                </a:lnTo>
                <a:lnTo>
                  <a:pt x="1190" y="166"/>
                </a:lnTo>
                <a:lnTo>
                  <a:pt x="1175" y="124"/>
                </a:lnTo>
                <a:lnTo>
                  <a:pt x="1156" y="90"/>
                </a:lnTo>
                <a:lnTo>
                  <a:pt x="1137" y="41"/>
                </a:lnTo>
                <a:lnTo>
                  <a:pt x="1115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035080" cy="6861240"/>
          </a:xfrm>
          <a:custGeom>
            <a:avLst/>
            <a:gdLst/>
            <a:ahLst/>
            <a:rect l="l" t="t" r="r" b="b"/>
            <a:pathLst>
              <a:path w="1282" h="4322">
                <a:moveTo>
                  <a:pt x="1115" y="0"/>
                </a:moveTo>
                <a:lnTo>
                  <a:pt x="0" y="0"/>
                </a:lnTo>
                <a:lnTo>
                  <a:pt x="0" y="4321"/>
                </a:lnTo>
                <a:lnTo>
                  <a:pt x="1208" y="4321"/>
                </a:lnTo>
                <a:lnTo>
                  <a:pt x="1225" y="4238"/>
                </a:lnTo>
                <a:lnTo>
                  <a:pt x="1244" y="4162"/>
                </a:lnTo>
                <a:lnTo>
                  <a:pt x="1262" y="4086"/>
                </a:lnTo>
                <a:lnTo>
                  <a:pt x="1281" y="4003"/>
                </a:lnTo>
                <a:lnTo>
                  <a:pt x="1269" y="3865"/>
                </a:lnTo>
                <a:lnTo>
                  <a:pt x="1265" y="3796"/>
                </a:lnTo>
                <a:lnTo>
                  <a:pt x="1260" y="3733"/>
                </a:lnTo>
                <a:lnTo>
                  <a:pt x="1258" y="3664"/>
                </a:lnTo>
                <a:lnTo>
                  <a:pt x="1262" y="3602"/>
                </a:lnTo>
                <a:lnTo>
                  <a:pt x="1269" y="3533"/>
                </a:lnTo>
                <a:lnTo>
                  <a:pt x="1281" y="3457"/>
                </a:lnTo>
                <a:lnTo>
                  <a:pt x="1279" y="3388"/>
                </a:lnTo>
                <a:lnTo>
                  <a:pt x="1279" y="3319"/>
                </a:lnTo>
                <a:lnTo>
                  <a:pt x="1275" y="3249"/>
                </a:lnTo>
                <a:lnTo>
                  <a:pt x="1273" y="3222"/>
                </a:lnTo>
                <a:lnTo>
                  <a:pt x="1267" y="3187"/>
                </a:lnTo>
                <a:lnTo>
                  <a:pt x="1260" y="3166"/>
                </a:lnTo>
                <a:lnTo>
                  <a:pt x="1252" y="3139"/>
                </a:lnTo>
                <a:lnTo>
                  <a:pt x="1229" y="3090"/>
                </a:lnTo>
                <a:lnTo>
                  <a:pt x="1219" y="3070"/>
                </a:lnTo>
                <a:lnTo>
                  <a:pt x="1210" y="3049"/>
                </a:lnTo>
                <a:lnTo>
                  <a:pt x="1204" y="3042"/>
                </a:lnTo>
                <a:lnTo>
                  <a:pt x="1202" y="3035"/>
                </a:lnTo>
                <a:lnTo>
                  <a:pt x="1183" y="2931"/>
                </a:lnTo>
                <a:lnTo>
                  <a:pt x="1169" y="2821"/>
                </a:lnTo>
                <a:lnTo>
                  <a:pt x="1162" y="2703"/>
                </a:lnTo>
                <a:lnTo>
                  <a:pt x="1165" y="2593"/>
                </a:lnTo>
                <a:lnTo>
                  <a:pt x="1167" y="2530"/>
                </a:lnTo>
                <a:lnTo>
                  <a:pt x="1173" y="2475"/>
                </a:lnTo>
                <a:lnTo>
                  <a:pt x="1181" y="2420"/>
                </a:lnTo>
                <a:lnTo>
                  <a:pt x="1190" y="2371"/>
                </a:lnTo>
                <a:lnTo>
                  <a:pt x="1202" y="2316"/>
                </a:lnTo>
                <a:lnTo>
                  <a:pt x="1217" y="2268"/>
                </a:lnTo>
                <a:lnTo>
                  <a:pt x="1233" y="2219"/>
                </a:lnTo>
                <a:lnTo>
                  <a:pt x="1252" y="2171"/>
                </a:lnTo>
                <a:lnTo>
                  <a:pt x="1256" y="2067"/>
                </a:lnTo>
                <a:lnTo>
                  <a:pt x="1260" y="1963"/>
                </a:lnTo>
                <a:lnTo>
                  <a:pt x="1267" y="1860"/>
                </a:lnTo>
                <a:lnTo>
                  <a:pt x="1269" y="1763"/>
                </a:lnTo>
                <a:lnTo>
                  <a:pt x="1267" y="1659"/>
                </a:lnTo>
                <a:lnTo>
                  <a:pt x="1260" y="1562"/>
                </a:lnTo>
                <a:lnTo>
                  <a:pt x="1254" y="1514"/>
                </a:lnTo>
                <a:lnTo>
                  <a:pt x="1244" y="1473"/>
                </a:lnTo>
                <a:lnTo>
                  <a:pt x="1233" y="1424"/>
                </a:lnTo>
                <a:lnTo>
                  <a:pt x="1219" y="1376"/>
                </a:lnTo>
                <a:lnTo>
                  <a:pt x="1212" y="1327"/>
                </a:lnTo>
                <a:lnTo>
                  <a:pt x="1210" y="1293"/>
                </a:lnTo>
                <a:lnTo>
                  <a:pt x="1212" y="1265"/>
                </a:lnTo>
                <a:lnTo>
                  <a:pt x="1217" y="1244"/>
                </a:lnTo>
                <a:lnTo>
                  <a:pt x="1223" y="1224"/>
                </a:lnTo>
                <a:lnTo>
                  <a:pt x="1233" y="1203"/>
                </a:lnTo>
                <a:lnTo>
                  <a:pt x="1242" y="1168"/>
                </a:lnTo>
                <a:lnTo>
                  <a:pt x="1252" y="1127"/>
                </a:lnTo>
                <a:lnTo>
                  <a:pt x="1235" y="933"/>
                </a:lnTo>
                <a:lnTo>
                  <a:pt x="1215" y="740"/>
                </a:lnTo>
                <a:lnTo>
                  <a:pt x="1192" y="553"/>
                </a:lnTo>
                <a:lnTo>
                  <a:pt x="1171" y="360"/>
                </a:lnTo>
                <a:lnTo>
                  <a:pt x="1181" y="332"/>
                </a:lnTo>
                <a:lnTo>
                  <a:pt x="1190" y="304"/>
                </a:lnTo>
                <a:lnTo>
                  <a:pt x="1194" y="277"/>
                </a:lnTo>
                <a:lnTo>
                  <a:pt x="1198" y="256"/>
                </a:lnTo>
                <a:lnTo>
                  <a:pt x="1198" y="228"/>
                </a:lnTo>
                <a:lnTo>
                  <a:pt x="1196" y="207"/>
                </a:lnTo>
                <a:lnTo>
                  <a:pt x="1190" y="166"/>
                </a:lnTo>
                <a:lnTo>
                  <a:pt x="1175" y="124"/>
                </a:lnTo>
                <a:lnTo>
                  <a:pt x="1156" y="90"/>
                </a:lnTo>
                <a:lnTo>
                  <a:pt x="1137" y="41"/>
                </a:lnTo>
                <a:lnTo>
                  <a:pt x="1115" y="0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e65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7229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17680" y="1600200"/>
            <a:ext cx="7178760" cy="0"/>
          </a:xfrm>
          <a:prstGeom prst="line">
            <a:avLst/>
          </a:prstGeom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Mačak u čizmama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17299" r="0" b="0"/>
          <a:stretch/>
        </p:blipFill>
        <p:spPr>
          <a:xfrm>
            <a:off x="3848040" y="1989000"/>
            <a:ext cx="405288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3532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63320" y="1844640"/>
            <a:ext cx="77058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Times New Roman"/>
              </a:rPr>
              <a:t>Još nismo čuli za priču prij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Times New Roman"/>
              </a:rPr>
              <a:t>u kojoj ništa dogodilo se nij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Times New Roman"/>
              </a:rPr>
              <a:t>te nema onog junaka glavnog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Times New Roman"/>
              </a:rPr>
              <a:t>mudrog i spretnog, a na kraju slavnog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14960" y="0"/>
            <a:ext cx="1550880" cy="152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9031320" y="5808600"/>
            <a:ext cx="1069920" cy="10494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2600" y="2060280"/>
            <a:ext cx="7200720" cy="379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Zato u ovoj napetoj priči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lavni je mačak što na ljude sliči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udi se jako sav u svom žaru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moći puno svom gospodaru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288040" y="189000"/>
            <a:ext cx="161928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03132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50600" y="2133360"/>
            <a:ext cx="720108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čak u čizmama lukav je, 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vom gospodaru pomaž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 svakom trenutku snađe se, 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mati njega, super je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14960" y="189000"/>
            <a:ext cx="1809720" cy="13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959680" y="5589720"/>
            <a:ext cx="933480" cy="94284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80040" y="2708280"/>
            <a:ext cx="3647880" cy="269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Times New Roman"/>
              </a:rPr>
              <a:t>Miauuu!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2263320" y="1844640"/>
            <a:ext cx="77058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Još nismo čuli za priču prij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 kojoj ništa dogodilo se nij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 nema onog junaka glavnog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udrog i spretnog a na kraju slavnog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14960" y="0"/>
            <a:ext cx="1550880" cy="152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9031320" y="5808600"/>
            <a:ext cx="1069920" cy="10494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622600" y="2060280"/>
            <a:ext cx="7200720" cy="379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Zato u ovoj napetoj priči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lavni je mačak što na ljude sliči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rudi se jako sav u svom žaru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moći puno svom gospodaru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288040" y="189000"/>
            <a:ext cx="161928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903132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550600" y="2133360"/>
            <a:ext cx="720108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čak u čizmama lukav je, 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vom gospodaru pomaže,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 svakom trenutku snađe se, 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mati njega, super je!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214960" y="189000"/>
            <a:ext cx="1809720" cy="139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959680" y="5589720"/>
            <a:ext cx="933480" cy="94284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48040" y="333360"/>
            <a:ext cx="4572000" cy="628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3320" cy="164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3680" y="4905360"/>
            <a:ext cx="809640" cy="1952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104400" y="6453360"/>
            <a:ext cx="1028520" cy="404640"/>
          </a:xfrm>
          <a:prstGeom prst="horizontalScrol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. Grg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4:41:09Z</dcterms:created>
  <dc:creator>grga</dc:creator>
  <dc:description/>
  <dc:language>en-US</dc:language>
  <cp:lastModifiedBy>Krešo</cp:lastModifiedBy>
  <dcterms:modified xsi:type="dcterms:W3CDTF">2008-04-24T17:46:23Z</dcterms:modified>
  <cp:revision>9</cp:revision>
  <dc:subject/>
  <dc:title>Mačak u čizmama</dc:title>
</cp:coreProperties>
</file>