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5.gif" ContentType="image/gif"/>
  <Override PartName="/ppt/media/image9.gif" ContentType="image/gif"/>
  <Override PartName="/ppt/media/image7.gif" ContentType="image/gif"/>
  <Override PartName="/ppt/media/image5.gif" ContentType="image/gif"/>
  <Override PartName="/ppt/media/image14.jpeg" ContentType="image/jpeg"/>
  <Override PartName="/ppt/media/image6.jpeg" ContentType="image/jpeg"/>
  <Override PartName="/ppt/media/image24.jpeg" ContentType="image/jpeg"/>
  <Override PartName="/ppt/media/image1.gif" ContentType="image/gif"/>
  <Override PartName="/ppt/media/image23.gif" ContentType="image/gif"/>
  <Override PartName="/ppt/media/image20.jpeg" ContentType="image/jpeg"/>
  <Override PartName="/ppt/media/image19.gif" ContentType="image/gif"/>
  <Override PartName="/ppt/media/image21.gif" ContentType="image/gif"/>
  <Override PartName="/ppt/media/image18.jpeg" ContentType="image/jpeg"/>
  <Override PartName="/ppt/media/image26.gif" ContentType="image/gif"/>
  <Override PartName="/ppt/media/image3.gif" ContentType="image/gif"/>
  <Override PartName="/ppt/media/image17.gif" ContentType="image/gif"/>
  <Override PartName="/ppt/media/image15.gif" ContentType="image/gif"/>
  <Override PartName="/ppt/media/image2.png" ContentType="image/png"/>
  <Override PartName="/ppt/media/image4.gif" ContentType="image/gif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910-4E42-44C7-9958-5C96D77A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DC9-A34F-4B89-A53E-5244BBD1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E3A-F44C-4297-A77A-CCB1E97D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AC2-AF5C-4ADB-8115-16E6BA84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6D8-C52D-4BC1-8774-640242B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487-7E08-4B59-B229-C033A813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88C-52EC-407A-9166-2216C265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74C-39CD-410A-B341-9D1895A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1F3-1DFD-4A9E-A2A9-84E89AE8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D3F-DAF6-426D-8471-6F99E5C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44D-A643-4005-8F15-C519289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AB2-22CD-4405-A916-E851C3FA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CB5B-8ED5-4461-97AF-1F367572A04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2205000"/>
            <a:ext cx="331164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 Kozari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 4.r.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./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20720" y="1773360"/>
            <a:ext cx="2500560" cy="352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3280" y="450864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ica: Mileva Grg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878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539880" cy="2657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5640" y="3865680"/>
            <a:ext cx="2664000" cy="257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067640" y="69228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1484280"/>
            <a:ext cx="495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jubav je… kad si se   u nekog zaljubio a stidiš mu se to reć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 sam se u nekog zaljubio i… malo me je sram reći, a u tu sam osobu jako zaljublj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dan S., 2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51640" y="476280"/>
            <a:ext cx="50508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40240" cy="26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2070360" cy="244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9080" y="1125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060640"/>
            <a:ext cx="5400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m jednog dečka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jeg ne smijem izdat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´  ga volim,  al´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ne zna da ga vol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kolina M., 2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87640" y="620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324240" cy="249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795760" cy="297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8360" y="1557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637000"/>
            <a:ext cx="333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jubav je kada nekog voliš      i kada ti netko vjeru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anesa Š., 2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093080" y="692280"/>
            <a:ext cx="50472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21080" y="1628640"/>
            <a:ext cx="316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35280" y="2692440"/>
            <a:ext cx="3024360" cy="2706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93080" y="5516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524720" y="3645000"/>
            <a:ext cx="504720" cy="51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835280" y="47628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948360" y="148428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979640" y="357336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042920" y="5589720"/>
            <a:ext cx="504720" cy="51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356000" y="573408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4572000" y="33336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0"/>
          <a:stretch/>
        </p:blipFill>
        <p:spPr>
          <a:xfrm>
            <a:off x="395280" y="2276640"/>
            <a:ext cx="50472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84360" y="414972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1733400" cy="188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2381400" cy="209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596360" y="4292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319640" y="3171960"/>
            <a:ext cx="504720" cy="51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900000" y="549360"/>
            <a:ext cx="50508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504720" cy="51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995640" y="6093000"/>
            <a:ext cx="50508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360" y="333360"/>
            <a:ext cx="3540240" cy="2657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2247840" cy="2343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42920" y="198900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jubav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kad ti netk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daruje ruž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li nešto slič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eonardo S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6360" y="98100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484360" y="5661000"/>
            <a:ext cx="50508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3960720"/>
            <a:ext cx="3311640" cy="2486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238140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2360" y="76500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184464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1700280"/>
            <a:ext cx="52927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 netko nekom pokloni dušu svu, ili ljuba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 se neki prijatelji svaki dan viđaju i piju kav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 nekom oči svjetlucaju kao zvijezde sjajne, za drug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J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596360" y="54936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190512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6360" y="141300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2492280"/>
            <a:ext cx="432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d ti netko čestita Valentinov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kad voliš svoju obitel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ica S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51280" y="692280"/>
            <a:ext cx="504720" cy="51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385272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1905120" cy="234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85440" y="1125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2421000"/>
            <a:ext cx="410364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jubav je kad nekog voliš najviše na svijetu,            … ili kad tebe netko vo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ndrea K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380360" y="836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3789360"/>
            <a:ext cx="3179880" cy="2387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1476360" cy="18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96000" y="69228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413000"/>
            <a:ext cx="5256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nešto predivno u živ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te netko toliko voli da bi se odrekao sve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nekog stvarno voliš, kakav god b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te netko voli cijeli život i kad se nikad ne rastaj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ja M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140360" y="404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3168720" cy="2379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640" y="1627200"/>
            <a:ext cx="2087640" cy="2028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9080" y="333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765000"/>
            <a:ext cx="532908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sve u živ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prijateljska i ljubavn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nekog jako voliš i pustiš ga svojoj prijateljici, jer mu želiš sreću i jer te on ne v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nekog voli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oprosti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jubav je kad razgovaraš s Bog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na G., 4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56000" y="119700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19640" y="476280"/>
            <a:ext cx="3540240" cy="2657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2293920" cy="275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720" y="112536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jubav 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060640"/>
            <a:ext cx="448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jubav je kad nekog voliš i oči ti svijetle u srcu, …i kad pjevaš iz sr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jubav je kad se sprijateljiš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io B., 2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76720" y="620640"/>
            <a:ext cx="50472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3:24:43Z</dcterms:created>
  <dc:creator>GRGA</dc:creator>
  <dc:description/>
  <dc:language>en-US</dc:language>
  <cp:lastModifiedBy>Krešo</cp:lastModifiedBy>
  <dcterms:modified xsi:type="dcterms:W3CDTF">2008-04-09T17:26:39Z</dcterms:modified>
  <cp:revision>19</cp:revision>
  <dc:subject/>
  <dc:title>Slajd 1</dc:title>
</cp:coreProperties>
</file>