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76D-4B7E-4FD1-8D99-F60F499A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A6A5-D893-404F-8BC2-1FBA2D6EB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5C09-55BB-482C-9E17-9D9B7F76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DDF-93B5-4C04-8080-10EE339C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3B9D-ED78-4461-AFA5-8748F5CD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74B-23CB-4DDF-B75C-88CDFA56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B67-4D9A-4AEA-9A20-D9C44346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50A-F0BD-4AA8-A2A6-8514EFD1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553-669A-4B8D-A656-4CDCA973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CC08-F133-4F78-AA38-9AA9C3E6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0855-F020-4B63-BDE1-A30363A6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5E6-0BEA-4114-826F-833246D0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4A5B-522E-489B-97D3-4749B4BB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4C33-16BD-46B8-AD33-748A5667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58C-4E65-4051-929D-64421472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67C-628A-4491-99A4-2E97D372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2D9-5C8C-486A-A25B-3E69B899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A0A-B782-445B-BF48-FE217B9B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C72-3895-43EF-A002-4AD3598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CB0-0883-4E8C-B530-E899044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58E-1944-4512-8DC6-15C127B5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779-8E90-473A-9E58-7C3A6C5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96E-C21F-4692-9016-6520D3E0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325-BAAD-4075-9E99-BC3967B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E62-E922-4278-B996-30DB8B9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6F7-F51E-4285-8219-9D33401F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D47F-AF29-456B-BE12-490E9966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uggenheim.org/artscurriculum/lessons/collections_kandinsky.php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Wassily Kandinsk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6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Wassily Kandinsky aka Vasily Vasilyevich Kandinsky in Moscow in 1917"/>
          <p:cNvPicPr/>
          <p:nvPr/>
        </p:nvPicPr>
        <p:blipFill>
          <a:blip r:embed="rId2"/>
          <a:stretch/>
        </p:blipFill>
        <p:spPr>
          <a:xfrm>
            <a:off x="228600" y="2362320"/>
            <a:ext cx="252252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" name="Rectangle 26"/>
          <p:cNvSpPr/>
          <p:nvPr/>
        </p:nvSpPr>
        <p:spPr>
          <a:xfrm>
            <a:off x="3063960" y="611028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SILY VASILYEVICH KAND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kandinsky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1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667320" y="6082200"/>
            <a:ext cx="205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Wassily Kandinsky. In Grey."/>
          <p:cNvPicPr/>
          <p:nvPr/>
        </p:nvPicPr>
        <p:blipFill>
          <a:blip r:embed="rId1"/>
          <a:stretch/>
        </p:blipFill>
        <p:spPr>
          <a:xfrm>
            <a:off x="609480" y="27144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044240" y="603612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 si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Wassily Kandinsky. Red Oval."/>
          <p:cNvPicPr/>
          <p:nvPr/>
        </p:nvPicPr>
        <p:blipFill>
          <a:blip r:embed="rId1"/>
          <a:stretch/>
        </p:blipFill>
        <p:spPr>
          <a:xfrm>
            <a:off x="304920" y="228600"/>
            <a:ext cx="626724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7246080" y="288180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Crveni 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kandinsky"/>
          <p:cNvPicPr/>
          <p:nvPr/>
        </p:nvPicPr>
        <p:blipFill>
          <a:blip r:embed="rId1"/>
          <a:stretch/>
        </p:blipFill>
        <p:spPr>
          <a:xfrm>
            <a:off x="380880" y="266760"/>
            <a:ext cx="8305920" cy="5753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3428280" y="609804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477120" y="6216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ggenheim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613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57000" y="600588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Žuta, crvena i pla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Wassily Kandinsky. Several Circles."/>
          <p:cNvPicPr/>
          <p:nvPr/>
        </p:nvPicPr>
        <p:blipFill>
          <a:blip r:embed="rId1"/>
          <a:stretch/>
        </p:blipFill>
        <p:spPr>
          <a:xfrm>
            <a:off x="1600200" y="228600"/>
            <a:ext cx="5859360" cy="5867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575160" y="608220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noštvo krugo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Wassily Kandinsky. On Points."/>
          <p:cNvPicPr/>
          <p:nvPr/>
        </p:nvPicPr>
        <p:blipFill>
          <a:blip r:embed="rId1"/>
          <a:stretch/>
        </p:blipFill>
        <p:spPr>
          <a:xfrm>
            <a:off x="228600" y="228600"/>
            <a:ext cx="637056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7239600" y="274536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 metu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Wassily Kandinsky. Storeys."/>
          <p:cNvPicPr/>
          <p:nvPr/>
        </p:nvPicPr>
        <p:blipFill>
          <a:blip r:embed="rId1"/>
          <a:stretch/>
        </p:blipFill>
        <p:spPr>
          <a:xfrm>
            <a:off x="4335480" y="147600"/>
            <a:ext cx="4656240" cy="6558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409760" y="2729520"/>
            <a:ext cx="8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ič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Wassily Kandinsky. Decisive Pink.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634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598560" y="600588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dlučn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ružičast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Wassily Kandinsky. Gentle Ascent."/>
          <p:cNvPicPr/>
          <p:nvPr/>
        </p:nvPicPr>
        <p:blipFill>
          <a:blip r:embed="rId1"/>
          <a:stretch/>
        </p:blipFill>
        <p:spPr>
          <a:xfrm>
            <a:off x="152280" y="152280"/>
            <a:ext cx="6180120" cy="6477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3"/>
          <p:cNvSpPr/>
          <p:nvPr/>
        </p:nvSpPr>
        <p:spPr>
          <a:xfrm>
            <a:off x="6811560" y="2881800"/>
            <a:ext cx="21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itoma uzbrdic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671760"/>
            <a:ext cx="8153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Kandinsky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je znao reći za sebe da je kompozitor boja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boje su tipke, oči stvaraju harmoniju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duša je pijano s mnogo neodsviranih nota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Umjetnik ima ruku kojom se igra, dodiruje ključeve svakog od nas, dodiruje našu vibraciju i našu dušu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Osjetite boju.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14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3515040" y="556452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Wassily Kandinsky. Coloful Ensemble."/>
          <p:cNvPicPr/>
          <p:nvPr/>
        </p:nvPicPr>
        <p:blipFill>
          <a:blip r:embed="rId1"/>
          <a:stretch/>
        </p:blipFill>
        <p:spPr>
          <a:xfrm>
            <a:off x="71280" y="142920"/>
            <a:ext cx="5110200" cy="6638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971320" y="28054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bojani  ansamb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8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789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3441240" y="6005880"/>
            <a:ext cx="19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Wassily Kandinsky. Untitled."/>
          <p:cNvPicPr/>
          <p:nvPr/>
        </p:nvPicPr>
        <p:blipFill>
          <a:blip r:embed="rId1"/>
          <a:stretch/>
        </p:blipFill>
        <p:spPr>
          <a:xfrm>
            <a:off x="237960" y="152280"/>
            <a:ext cx="4257720" cy="6477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6275880" y="272952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Bez naslo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insky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m oblicima koji dovode do asocijacija, tonove (skale) boja, koje podsjećaju na zvuk i trajanje zvu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olio je papir zasititi bojom kao melodiju prepunu zvuk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Znao je reć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   …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kad vidim boje, čujem glazbu sa slik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Wassily Kandinsky. Interior (My Dining Room)."/>
          <p:cNvPicPr/>
          <p:nvPr/>
        </p:nvPicPr>
        <p:blipFill>
          <a:blip r:embed="rId1"/>
          <a:stretch/>
        </p:blipFill>
        <p:spPr>
          <a:xfrm>
            <a:off x="990720" y="309600"/>
            <a:ext cx="7315200" cy="571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900520" y="6158520"/>
            <a:ext cx="30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Interij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nevna sob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Wassily Kandinsky. The Blue Mountain."/>
          <p:cNvPicPr/>
          <p:nvPr/>
        </p:nvPicPr>
        <p:blipFill>
          <a:blip r:embed="rId1"/>
          <a:stretch/>
        </p:blipFill>
        <p:spPr>
          <a:xfrm>
            <a:off x="228600" y="228600"/>
            <a:ext cx="5545080" cy="6167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245640" y="2653200"/>
            <a:ext cx="18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lava planin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8-0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Wassily Kandinsky. Church in Murnau."/>
          <p:cNvPicPr/>
          <p:nvPr/>
        </p:nvPicPr>
        <p:blipFill>
          <a:blip r:embed="rId1"/>
          <a:stretch/>
        </p:blipFill>
        <p:spPr>
          <a:xfrm>
            <a:off x="3978360" y="228600"/>
            <a:ext cx="4937040" cy="635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694800" y="2805480"/>
            <a:ext cx="21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Crkva 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n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kandinsky"/>
          <p:cNvPicPr/>
          <p:nvPr/>
        </p:nvPicPr>
        <p:blipFill>
          <a:blip r:embed="rId1"/>
          <a:stretch/>
        </p:blipFill>
        <p:spPr>
          <a:xfrm>
            <a:off x="304920" y="228600"/>
            <a:ext cx="481968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6180840" y="2729520"/>
            <a:ext cx="20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proviza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Wassily Kandinsky. Improvisation 19.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438000" y="6036120"/>
            <a:ext cx="22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proviza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andinsky"/>
          <p:cNvPicPr/>
          <p:nvPr/>
        </p:nvPicPr>
        <p:blipFill>
          <a:blip r:embed="rId1"/>
          <a:stretch/>
        </p:blipFill>
        <p:spPr>
          <a:xfrm>
            <a:off x="228600" y="257040"/>
            <a:ext cx="8686800" cy="5499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591000" y="592992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42:03Z</dcterms:created>
  <dc:creator>O.Š.SV.ANE</dc:creator>
  <dc:description/>
  <dc:language>en-US</dc:language>
  <cp:lastModifiedBy>Stojic</cp:lastModifiedBy>
  <dcterms:modified xsi:type="dcterms:W3CDTF">2009-02-15T10:44:11Z</dcterms:modified>
  <cp:revision>29</cp:revision>
  <dc:subject/>
  <dc:title>Wassily Kandinsky</dc:title>
</cp:coreProperties>
</file>