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0C9-7DB0-4541-AB60-85605D52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976-1231-482B-9E00-96FD4CE5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09A-2455-4DA6-ABCB-CE0ED798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12F-C184-4083-A1BB-6FE9C24B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5CF1-E3A0-453D-B677-F1897D74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2FC0-3CFB-462D-8CBE-97A86192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DA87-A546-4E78-A20E-4FF5AC15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3640-F803-4C98-98BB-EA73D6CC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547-F715-4B68-9A15-90BA56A2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5F54-DBC9-4097-9D50-B56395FC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A39-C2D6-4EA7-B403-6B92414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C51-0522-4C29-9B3E-B443994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D3FE-FD14-4D50-BC0B-708FA36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F9B1-8037-4846-8CD4-E05AD1A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A59B-DCB9-4A2B-A4C9-06DD3905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617B-D12E-48D7-9618-C8817A69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15A8-1259-43B2-90A3-FFC0F619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A342-A796-4EF9-A734-2B007096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7175-C6DC-43E6-B292-528FA230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861B-EF9F-42B5-A820-89E126B7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8FA7-7040-4BCB-B923-3E9EB6DE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2B41-4D51-4AF3-A2BF-472DC9F3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7DA-4C79-4F42-8F44-6BA8721D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DE73-AB80-4BD8-A2AE-C8D1966D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E6A7-6507-4C4A-AFD0-1A3497A9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9389-7091-4089-A98D-4430C78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63C3-206D-4DE9-9C34-6B16FF4E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EF2A-34E5-425D-90EC-B92D537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1345-F9CA-4E36-B32B-7237CD5A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E679-1C55-4334-A0CC-B8E2BF39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BC5-47F9-4C28-82D4-804BC01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0D6-14DE-4C99-AD27-50A057FF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BE2-1EEB-4EFE-8FA5-C2C8FC80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661-4F2F-48D5-99AE-B57EF92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32E-2C72-42BA-8BAB-63CC401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B97-F82F-4F96-8DAD-5FD88EE0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1D09-DDB5-4580-80DF-A9E86E91035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05F-0CB2-4A80-B830-6BECAA5B8EA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822E-8DCF-44F1-8B5E-290602750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fes.gov.uk/" TargetMode="External"/><Relationship Id="rId2" Type="http://schemas.openxmlformats.org/officeDocument/2006/relationships/hyperlink" Target="http://www.nea.org/parents" TargetMode="External"/><Relationship Id="rId3" Type="http://schemas.openxmlformats.org/officeDocument/2006/relationships/hyperlink" Target="http://www.cyfc.umn.edu/publications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19692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Kako pomoći djetetu u učenju i pisanju domaćih zadaća</a:t>
            </a:r>
            <a:endParaRPr b="0" lang="en-US" sz="48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32000" y="4005360"/>
            <a:ext cx="4176720" cy="28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728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mozite djetetu da nauči kvalitetno organizirati učenje. Svaki dan s njim</a:t>
            </a:r>
            <a:r>
              <a:rPr b="1" lang="hr-HR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gledajte bilježnice kako biste dobili uvid što se radilo u školi. Zatim zajedno napravite plan za rješavanje domaće zadaće. Dijete koje sudjeluje u stvaranju svoga dnevnog rasporeda spremnije ga je i ostvari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Danas ću: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Ručati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Napisati zadać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Učiti priro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Pogledati film iz videotek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Monotype Corsiva"/>
              </a:rPr>
              <a:t>Ponoviti priro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5800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rganiziranju vremena pomažu i tablice u koje dijete svaki dan upisuje “+” kada je obavilo svoje dnevne obaveze. Na taj način, nakon tjedan dana, dijete i roditelj imaju uvid u dnevnu rutinu djeteta te mogu zajedno osmišljavati bolju organizaciju vremena.</a:t>
            </a:r>
            <a:endParaRPr b="0" lang="en-US" sz="26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3000" y="2895480"/>
          <a:ext cx="7345440" cy="3729240"/>
        </p:xfrm>
        <a:graphic>
          <a:graphicData uri="http://schemas.openxmlformats.org/drawingml/2006/table">
            <a:tbl>
              <a:tblPr/>
              <a:tblGrid>
                <a:gridCol w="2314800"/>
                <a:gridCol w="1581120"/>
                <a:gridCol w="1365120"/>
                <a:gridCol w="2084400"/>
              </a:tblGrid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ć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tanje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atik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edjelj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or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ijed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vrt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ak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t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jelja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66584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čite svoje dijete kako učiti. Formula koja se pokazala uspješnom i koju primjenjuju najuspješniji ljudi diljem svijeta glasi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čitaj letimično (starija djeca mogu pročitati samo uvod ili sažetak teksta kako bi stekla uvid u osnovnu ideju gradiva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itaj (dijete postavlja pitanja o riječima ili cijelinama koje mu nisu jasne)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čitaj pažljiv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cijeni što je bitno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pričaj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novi naučen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665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ikad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nemojte umjesto djeteta pročitati lekciju, zapisati ili mu prepričati sažetak i dati mu da to nauči. Najdragocijeniji je dio procesa učenja rad na razumijevanju gradiva i odvajanje bitnoga od nebitnog. Ako dijete uči po sažecima koje ste Vi napravili, učit će mehanički, gradivo će brzo zaboravljati, a kada mu učitelj postavi pitanje na drugačiji način nego Vi, neće znati odgovori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mogućite djetetu da uči i izvan kuće i škole. Uputite ga u knjižnicu, na slobodne aktivnosti, likovne radionice i dr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hvalite svaki djetetov uspjeh, a pogotovo trud i</a:t>
            </a:r>
            <a:r>
              <a:rPr b="1" lang="hr-HR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predak. Važnije je da je dijete spremno uložiti napor da bi riješilo zadatak i da je napredovalo, nego kakvu je ocjenu dobilo. Ocjena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ajviše ovisi o načinu učenj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 ali ovisi malo i o sreći, težini gradiva, kriteriju i raspoloženju učitelja i drugim čimbenicima nad kojima dijete nema kontrolu. Hoće li dijete izvršavati zadatke ili ne, i kako će to činiti, ovisi o njemu, a mi smo tu da ga potaknemo na to i da ga naučimo kako to treba činiti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665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 da djeca uče imitiranjem važnih ljudi, najčešće roditelja. Promatrajući roditelje i učitelje, dijete uči što cijeniti, kako se ponašati i što raditi. Zato, ako roditelji čitaju, igraju edukativne igre, raspravljaju o raznim idejama, dogovaraju se i sl. i vrednuju znanje i djeca će činiti ist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8296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ff0000"/>
                </a:solidFill>
                <a:latin typeface="Arial"/>
              </a:rPr>
              <a:t>Nekoliko tehnika koje pomažu u učenju:</a:t>
            </a:r>
            <a:endParaRPr b="0" lang="en-US" sz="31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Podcrtavanje bitnih činjenica, ideja ili detalja (pomozite djetetu da uči razlikovati bitne od nebitnih činjenica te da one bitne posebno označava kako bi ih lakše pamtilo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Sastavljanje pitanja (kada dijete nauči postavljati pitanja iz sadržaja koji uči i odgovarati na njih, učenje će postati zabavnije i aktivnije, a dijete će razlikovati bitno od nebitnoga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Sažimanje (dijete prepisuje samo bitne dijelove iz teksta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Arial"/>
              </a:rPr>
              <a:t>Vođenje bilježaka (dijete svojim riječima prepričava sadržaj koji uči i na taj način poboljšava njegovo razumijevanje).</a:t>
            </a:r>
            <a:endParaRPr b="0" lang="en-US" sz="27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Pomoć u pisanju domaćih zadaća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43000" y="152280"/>
            <a:ext cx="7772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isanje je domaćih zadaća, </a:t>
            </a:r>
            <a:r>
              <a:rPr b="1" lang="hr-HR" sz="2800" spc="-1" strike="noStrike">
                <a:solidFill>
                  <a:srgbClr val="ff5050"/>
                </a:solidFill>
                <a:latin typeface="Arial"/>
              </a:rPr>
              <a:t>čest uzrok neslaganju između djece i roditelja.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jeca tu aktivnost često ne vole i izbjegavaju je. Jako ih je važno, od početka školovanja, navikavati da je to njihova obveza i da je moraju redovito i kvalitetno izvršavati, pa i onda kada im se ne da. 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jetetu kojemu je to potrebno, svakako treba pomoći u pisanju domaćih zadaća, ali na način da mu se objasni ono što mu nije jasno, ukaže na pogreške i potakne ga  da ih samo ispravi.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ikako nemojte umjesto njega rješavati zadatke, jer mu time šaljete poruku da to ono samo ne može i navikavate ga da netko drugi radi umjesto njeg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98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ije nužno, a ni dobro, neprekidno sjediti uz dijete dok uči ili piše zadaću. Važno je da ono zna da ste mu na raspolaganju i da Vam se može obratiti za pomoć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mojte se nametati u onim zadacima u kojima to nije potrebno. Djetetu je ponekad potrebno samo pregledati zadaću kako biste mu pružili osjećaj sigurnosti da je dobro izvršilo svoje obvez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: kod djeteta treba razvijati stav da je ono odgovorno za izvršavanje svojih obveza, a Vi ste odgovorni da mu po potrebi u tomu i pomognete, ne i da to činite umjesto njeg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98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98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333000"/>
            <a:ext cx="7772400" cy="12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itanja koja roditelji obično postavljaju o učenju i pisanju domaćih zadaća: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2663400">
            <a:off x="4787640" y="3762360"/>
            <a:ext cx="4157640" cy="550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590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m li pomagati djetetu u pisanju zadaće?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m li učiti s djetetom i do kojeg razreda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što moje dijete nema više zadaće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što moje dijete ima tako puno zadaće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ba li moje dijete učiti s prijateljima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228600"/>
            <a:ext cx="77724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Čemu služe domaće zadaće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8789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adaća djetetu omogućava da ponovi i uvježba ono što je učilo u školi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pripremi za sljedeći radni dan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detaljnije prouči sadržaj koji se obrađivao u školi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znanja iz različitih područja objedini u jednoj zadaći (npr. nekom sastavu ili projektu)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nauči koristiti literaturom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e nauči samostalnosti u radu,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a stekne samodisciplinu i osjećaj odgovornosti.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Roditelji se kroz zadaću mogu upoznati sa školskim aktivnostima. Oni su svjesni većine ovih stvari.  Problem je što djeca nisu!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9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98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98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98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98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98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98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98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98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Koja je prava količina zadaće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ličina zadaće treba ovisiti o djetetovoj dobi i sposobnostim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1.-3. razreda: do 20 minu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4.-6. razreda: od 20 do 40 minu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 7.-8. razreda: do 2 sat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mojte mu zadavati dodatne zadaće, dovoljno ih je zadala učiteljica ili učitelj. Ono mora imati vremena i za igru i zabav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98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98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A sada još nekoliko savjeta...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ko biste izbjegli nesporazume s djetetom, i zakašnjele reakcije na loše ocjene na početku školske godine, dobro je dogovoriti se s njim kada će se pisati domaća zadaća (po dolasku iz škole, nakon ručka, nakon odmora, nakon slobodnih aktivnosti i sl.). Budite uporni u provođenju svoga dogovor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trebno je da dijete piše domaću zadaću i uči uvijek u isto vrijeme u danu. Tako troši manje vremena na pripremu za učenje. To mu omogućava da uvijek ima dovoljno vremena za pisanje domaće zadaće, ali i za igru i zabav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98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98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7324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avjetujte svomu djetetu da prvo rješava zadaću koja je najteža i najobimnij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bavite djetetu blokić u kojemu će pisati svoje obveze za sljedeći dan. Tako se može riješiti problem zaboravnos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 je biti u kontaktu s drugom djecom iz djetetova odjela i s njihovim roditeljima. Tako ćete moći povremeno provjeriti s drugima što dijete ima za zadać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gasite televizor i radio dok dijete piše zadać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A odmor?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 ZABORAVITE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a bi dijete uspješno učilo, treba se dobro osjećati. Gladno, umorno, žalosno i ljutito dijete pažnju usmjerava na “signale neugode” iz organizma i ne može se usmjeriti na učenj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ko je dijete žalosno ili ljuto (dobilo je slabu ocjenu, posvađalo se s prijateljem i sl.) najprije popričajte s njim o onomu što ga muči, dopustite mu barem pola sata da “izbaci” negativne emocije, a onda inzistirajte da se prihvati posl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9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98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98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7324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da dođe iz škole, dijete se najprije treba odmoriti. Dok je u školi, ono sjedi nekoliko sati po 45 minuta. To je za njega napor i umara ga. Osim toga, u školi mora učiti i rješavati različite zadatke koji traže psihičko naprezanje. Mozak se umara dok radi, a djetetovo tijelo i onda kad mora duže vremena sjediti. Odmoran mozak brže razumije i pamti, a umorno tijelo ometa mozak u njegovom rad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 nakon određenog vremena koje je provelo u rješavanju zadaće i učenju, svakom je djetetu potreban odmor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98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rijeme maksimalnog rada ovisi o uzrastu i osobinama djeteta. Promatrajte ponašanje djeteta dok piše domaću zadaću ili uči. Kada se počne jače, nego obično, vrpoljiti  na stolici, okretati se na sve strane, zijevati, ljutiti se i griješiti, to je najbolji znak da treba napraviti pauzu, jer će u suprotnom učenje biti mučenj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 slučaju je psihičkog naprezanja, najbolji odmor onaj uz laganu fizičku aktivnost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98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050"/>
                </a:solidFill>
                <a:latin typeface="Times New Roman"/>
              </a:rPr>
              <a:t>Literatura: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rajković, S. i Živković, Ž., (2002.), Ja to mogu, Nansen, Osijek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evere, S., (2000.), How to Behave London, Vermilo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www.dfes.gov.uk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www.nea.org/paren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www.cyfc.umn.edu/publicatio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050"/>
                </a:solidFill>
                <a:latin typeface="Times New Roman"/>
              </a:rPr>
              <a:t>Preporučujemo: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Wood, D.,(1995.), Kako djeca misle i uče, Zagreb, Educ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lač, Hrupelj, Miljković i sur., (2000.), Lijepo je biti roditelj, Zagreb, Creativ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rdar, Rijavac, (1998.), Što učiniti kada dijete dobije lošu ocjenu?, Zagreb. IEP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Arial"/>
              </a:rPr>
              <a:t>Pomoć u učenju</a:t>
            </a:r>
            <a:endParaRPr b="0" lang="en-US" sz="4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rostor za učenje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491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učnjaci preporučuju da djeca uvijek uče i pišu zadaće na istom mjestu. Samo sjedenje na mjestu, na kojem je dijete naviklo učiti, stvara psihološku spremnost za rad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jesto za pisanje domaćih zadaća ne mora biti raskošno niti posebno uređeno. Ipak, postoje općenite preporuke o izgledu prostora za učenje i pisanje zadaća: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00720" y="1981080"/>
            <a:ext cx="24415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1938600" cy="762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ka to bude dovoljno velika radna površina na koju će dopirati dovoljno svjetla. Svjetiljka neka bude smještena s lijeve strane kod dešnjaka odnosno, s desne kod ljevaka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vo mjesto ne treba biti samo prostor za pisanje zadaće, već i prostor na kojemu će Vaše dijete držati svoje knjige, pisaći pribor i druge potrepštine za školu (olovke, bojice, ljepilo, škare, spajalice, papiri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djecu mlađe dobi, prostor za pisanje zadaće i učenje može biti uređen i u prostoriji koju dijele i drugi ukućani, ali u tom slučaju djetetu, dok uči i radi, trebate osigurati mir i tišinu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16000" y="476280"/>
            <a:ext cx="74944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dealno je da se radni stol za nešto starije dijete nalazi u sobi djeteta jer se pisanjem zadaća i učenjem na odvojenom mjestu ono počinje osamostaljivati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 je da se na stolu nalazi kalendar kako bi dijete lakše moglo organizirati vrijeme koje mu stoji na raspolaganju za učenje pojedinih predmet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 zid možete staviti pločicu na koju će dijete lijepiti razne papiriće-podsjetnik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5050"/>
                </a:solidFill>
                <a:latin typeface="Arial"/>
              </a:rPr>
              <a:t>Pomoć  u učenju</a:t>
            </a:r>
            <a:endParaRPr b="0" lang="en-US" sz="48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16080" y="3743280"/>
            <a:ext cx="4086360" cy="5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0000" y="456840"/>
            <a:ext cx="7974000" cy="6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Nekoliko “formula” za uspješno učenje: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jasnite djetetu što točno očekujete od njega što se tiče učenja. Neka Vaša očekivanja budu dovoljno visoka, ali realna s obzirom na djetetove sposobnosti (npr. “Očekujem od tebe da redovito pišeš domaću zadaću.”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jasnite mu i zašto je to važno za njega i zašto je učenje korisno. Djeca, kao i odrasli ljudi, bolje i radije rade kada u tomu vide smisa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ao i kod pisanja domaće zadaće, i u učenju je potrebna dnevna rutina. Dakle, dijete treba učiti uvijek u odprilike isto doba dana (nakon ručka, nakon odmora, i sl.). Time učenje postaje navika koja omogućava i lakše pamćenje materijal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9:32Z</dcterms:created>
  <dc:creator>Sanja&amp;Željka</dc:creator>
  <dc:description/>
  <dc:language>en-US</dc:language>
  <cp:lastModifiedBy>Krešo</cp:lastModifiedBy>
  <dcterms:modified xsi:type="dcterms:W3CDTF">2008-06-06T18:27:44Z</dcterms:modified>
  <cp:revision>132</cp:revision>
  <dc:subject/>
  <dc:title>Pubertet i adolescencija</dc:title>
</cp:coreProperties>
</file>