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93FB-457E-446B-BEBD-920D96848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96B4-455A-4948-A53C-ACF4F0494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873D-3992-46A6-88CC-A21D33D1A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D12E-642D-4D0E-B551-FC121A772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3979-91D7-4FA5-B722-789B1CCFC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AC39-7042-4A8B-95F0-64126E1EC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45F3-3119-4067-9856-B4ECDF383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8A1B-A2A2-4644-8FD4-B2B03B6C4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AD41-5BF5-4BAB-9F28-3651054E4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D458-2271-46FA-A1C6-F78C48DA1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27A9-F81F-4BBA-A15C-16E051B5A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F812-E00A-4ECC-9EAA-D76727A6A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6c75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300A5-09B9-4021-BD1A-81FB628D5713}" type="slidenum">
              <a:rPr b="0" lang="hr-H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6c75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zrada interaktivnog kviza pomoću programa QUIZ.NET 200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Autorica : Draženka Bajan , učiteljica RN, PŠ Hrastovac, OŠ Garešnic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6c75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INSTALACIJA PROGRAMA</a:t>
            </a:r>
            <a:br>
              <a:rPr sz="2400"/>
            </a:b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1.Idi na stranicu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interneta :</a:t>
            </a:r>
            <a:br>
              <a:rPr sz="2000"/>
            </a:b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www.pc-help4u.com/ostali-programi/quiz-.net-2007-izrada-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kviz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a-3.html</a:t>
            </a: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Otvorit će se stranic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539640" y="5734080"/>
            <a:ext cx="822960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Klikni na Downlo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187280" y="1700280"/>
            <a:ext cx="7058160" cy="38178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 flipV="1">
            <a:off x="2195640" y="4723920"/>
            <a:ext cx="1008000" cy="1009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6c75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Otvorit će se prozorčić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11280" y="126828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899640" y="2852640"/>
            <a:ext cx="77058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- klikni na Run i pričekaj da se otvori novi prozorčić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0" y="5764320"/>
            <a:ext cx="91440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 sljedećim koracima klikni na NEXT , te u narednim prozorčićima opet NEXT      NEXT      INSTAL       FIN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2484360" y="836640"/>
            <a:ext cx="3888000" cy="20876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 flipV="1">
            <a:off x="2340000" y="2133720"/>
            <a:ext cx="16556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2124000" y="3357720"/>
            <a:ext cx="4791240" cy="23763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851280" y="638172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148360" y="638172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659640" y="6381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3851280" y="5589360"/>
            <a:ext cx="144144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6c75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1128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Možeš izaći s interneta i na desktopu će se pojaviti traka kviza (inače ćeš tu traku otvoriti tako da ideš u Moje računalo – C:disk – Program files – mapa QUIZ NET 2007)</a:t>
            </a:r>
            <a:br>
              <a:rPr sz="2400"/>
            </a:b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U toj mapi klikni na QUIZ NET.exe i pojavit će se traka kviza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11280" y="4005360"/>
            <a:ext cx="822960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da imate jednostavan i brz program s kojim možete u nekoliko minuta napraviti kvi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viz se isto tako može kopirati na USB memorij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68360" y="4669920"/>
            <a:ext cx="8229600" cy="21877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763640" y="2565360"/>
            <a:ext cx="561672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6c75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KO NAPRAVITI KVI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971640" y="5444640"/>
            <a:ext cx="7345440" cy="8636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>
            <a:off x="971640" y="2852640"/>
            <a:ext cx="45432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7000"/>
          </a:bodyPr>
          <a:p>
            <a:pPr marL="126720" indent="-126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2. Odaberite Novi projek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Otvorit će se prozor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Upišite ime kviza ( npr. Vode u zavičaju ) i kliknite na 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125360"/>
            <a:ext cx="82296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Otvorite QUIZ.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1332000" y="1700280"/>
            <a:ext cx="4533840" cy="7142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 flipH="1" flipV="1">
            <a:off x="1907640" y="2349360"/>
            <a:ext cx="863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1258920" y="3789360"/>
            <a:ext cx="4321080" cy="1305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 flipV="1">
            <a:off x="3924360" y="4292640"/>
            <a:ext cx="863640" cy="165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6c75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vorit će se prozorčić 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539640" y="4437000"/>
            <a:ext cx="8229600" cy="20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Upišite 1. pitanje i pritisnite zeleni plus sa stra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Ponovite taj korak za svako sljedeće pitanj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Kada ste završili s dodavanjem pitanja pritisnite na strelicu u donjem desnom kutu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050920" y="907920"/>
            <a:ext cx="5400720" cy="3672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 flipV="1">
            <a:off x="2124000" y="3500280"/>
            <a:ext cx="1440000" cy="144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4716360" y="3499920"/>
            <a:ext cx="2160720" cy="151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35280" y="6237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7020000" y="4292640"/>
            <a:ext cx="216000" cy="15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6c75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 Sada će se otvoriti prozorčić sa svim vašim pitanjima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68360" y="3933720"/>
            <a:ext cx="822960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Označite klikom miša 1. pitanje slijeve strane i desno upišite ponuđene odgovo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Odaberite točan odgovor povlačeći “ slider” u ravninu točnog odgovor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onovite to za svako sljedeće pitanj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Kada ste završili ponovo pritisnite strelic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124000" y="907920"/>
            <a:ext cx="4321080" cy="2880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 flipV="1">
            <a:off x="1619280" y="1628640"/>
            <a:ext cx="649080" cy="237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 flipV="1">
            <a:off x="6156000" y="2133360"/>
            <a:ext cx="144360" cy="26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4859280" y="3573000"/>
            <a:ext cx="1008000" cy="251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6c75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vorit će se prozorčić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9640" y="436536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Odaberite boje pitanja ,odgovora, pozadine i ostale postavke ako želite. Sada opet pritisnite strelicu i završili ste izradu kviza . Vaš kviz bit će spremljen u glavnoj mapi QUIZ.NET i podmapi Gotovi kvizovi . Da biste kviz kopirali na USB morate iz  mape željenog kviza kopirati exe datoteku i datoteku Resors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195640" y="836640"/>
            <a:ext cx="4781520" cy="33829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 flipH="1" flipV="1">
            <a:off x="4500360" y="3284640"/>
            <a:ext cx="43164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5724360" y="4005360"/>
            <a:ext cx="50508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8T18:35:36Z</dcterms:created>
  <dc:creator>eXPerience</dc:creator>
  <dc:description/>
  <dc:language>en-US</dc:language>
  <cp:lastModifiedBy>Krešo</cp:lastModifiedBy>
  <dcterms:modified xsi:type="dcterms:W3CDTF">2008-05-18T21:04:29Z</dcterms:modified>
  <cp:revision>6</cp:revision>
  <dc:subject/>
  <dc:title>Izrada interaktivnog kviza pomoću programa QUIZ.NET 2007</dc:title>
</cp:coreProperties>
</file>