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755-2966-4E64-962B-46555591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D15-C814-4AA6-8F53-3B09DCCE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37E-457E-47B9-A2EC-AF4CF7BF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DC5-ACF8-4DBD-BCCD-8DFFFC9A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6693-418D-461C-8086-44A60BD7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E47E-5DB2-4912-8906-BF54EDB9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CDD4-93AD-43B3-A6DD-973308E4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9162-9CE4-4C52-958F-664BA770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245F-79ED-4487-B638-A8A0FBBB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1177-6A57-48FA-B554-0EFADE8A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74F9-670B-4505-B81B-B2E8223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D6B-8239-44E7-A93B-F379DF0C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C282-0DE5-426E-941B-1E68E9D7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F413-46E2-4617-8890-ECDD2BD0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93E5-4025-4017-967C-D3AF343F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0FDF-4AD3-4034-A87B-F7208492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D474-E80D-4FAB-8636-3A6B659B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8E8-ECF4-4258-8009-1A4A56A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C29-2B96-4592-BAEC-C050D406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43A-70FD-437C-8141-FAB83488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90C-9FEA-4BFE-80FC-3C758AA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116-9C66-4587-8D9C-49FBDD84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209-1C2F-47E3-8595-18982BC0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4FA-BAB8-4391-96F9-D86AA07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3C78-02BF-4FF3-91E7-824DD8A8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3300"/>
                </a:solidFill>
                <a:latin typeface="Comic Sans MS"/>
              </a:rPr>
              <a:t>Click to edit the title text format</a:t>
            </a:r>
            <a:endParaRPr b="0" lang="en-US" sz="9600" spc="-1" strike="noStrike">
              <a:solidFill>
                <a:srgbClr val="66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1E4B-C58F-4E22-BC99-0DEF9E3FB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alphaModFix amt="26000"/>
          </a:blip>
          <a:srcRect l="0" t="11490" r="0" b="0"/>
          <a:stretch/>
        </p:blipFill>
        <p:spPr>
          <a:xfrm>
            <a:off x="1773360" y="3492360"/>
            <a:ext cx="4238640" cy="5002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15920" y="826920"/>
            <a:ext cx="45370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663300"/>
                </a:solidFill>
                <a:latin typeface="Arial"/>
              </a:rPr>
              <a:t>IVICA I     MARICA</a:t>
            </a:r>
            <a:endParaRPr b="0" lang="en-US" sz="4800" spc="-1" strike="noStrike">
              <a:solidFill>
                <a:srgbClr val="6633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24280" y="3995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Usred guste šumice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sakrila se kolib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slatka poput šećer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kušali je Ivica i Marica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A bila je to kućica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gdje živjela je vještic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vještica opasn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od zlog duha stvore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5000" y="611280"/>
            <a:ext cx="5172120" cy="7972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Usred guste šumice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sakrila se kolib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slatka poput šećer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kušali je Ivica i Marica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A bila je to kućica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gdje živjela je vještic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vještica opasna,</a:t>
            </a:r>
            <a:br>
              <a:rPr sz="4400"/>
            </a:br>
            <a:r>
              <a:rPr b="1" lang="hr-HR" sz="4400" spc="-1" strike="noStrike">
                <a:solidFill>
                  <a:srgbClr val="663300"/>
                </a:solidFill>
                <a:latin typeface="Arial"/>
              </a:rPr>
              <a:t>od zlog duha stvore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4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346" t="0" r="0" b="0"/>
          <a:stretch/>
        </p:blipFill>
        <p:spPr>
          <a:xfrm>
            <a:off x="692280" y="2050920"/>
            <a:ext cx="5545080" cy="5259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3:34:47Z</dcterms:created>
  <dc:creator>grga</dc:creator>
  <dc:description/>
  <dc:language>en-US</dc:language>
  <cp:lastModifiedBy>Krešo</cp:lastModifiedBy>
  <dcterms:modified xsi:type="dcterms:W3CDTF">2008-04-24T17:33:30Z</dcterms:modified>
  <cp:revision>18</cp:revision>
  <dc:subject/>
  <dc:title>IVICA I MARICA</dc:title>
</cp:coreProperties>
</file>