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ACD-4BD8-4191-B8E5-05239834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C56-5F8C-4DC7-B2F3-D72C5B6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463-AA1A-4939-9A67-3548E1F4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064-F1F7-47DC-81A1-CEA0324E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A13B-B962-4483-9691-E71180BE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DAF-C3F5-46C1-B8ED-F03A792D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ED6-0D06-4F01-B812-F74087C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FB43-95BC-4D3C-AC4C-F0CCDD2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6D20-7DD6-4DCF-BAD5-2BF687A1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B4E-904B-41EE-9BDC-9F5EFD27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26E-A621-4970-A16C-625047C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305-B042-48A5-BBBE-74DB7C7C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A4D-7B0A-413A-A488-C2B6DC6E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FC20-44A5-4957-914F-A30B1E67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58A-543B-4549-858A-EB7842E3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9F43-C7DC-40FD-8C02-5B5F4689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49D8-CE54-433C-9BFD-A551DB44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8AF-34C4-453C-894E-124B82CF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C81-0839-4D60-993A-4DB7B1A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00E-8ED5-46B2-A09C-1DB2C67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85C7-39EA-4EF7-82CD-64AAE919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751-9AFE-4DF3-8B06-E52B50B7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70A-E2F3-46B2-A819-5ABB292B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016-EE92-43B1-AE17-0DFBBC83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F89F-4162-4FF9-984A-4E800DDB1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9DB4-9422-41D6-A617-6B2E44711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tno – eko selo Stara Kap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o Stara Kapela nalazi se u Brodsko – posavskoj županiji, u blizini granice s Požeško – slavonskom županijom, na obroncima Požeške go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o ima dvadesetak, uglavnom starijih stanovnika, a entuzijazmom lokalnog liječnika dr. Antuna Tucića koji je krenuo od uređenja obiteljskog gospodarstva selo je poprimilo potpuno novi izgled. Stara Kapela je prvo eko – etno selo u Brodsko – posavskoj županij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o</a:t>
            </a:r>
            <a:br>
              <a:rPr sz="2400"/>
            </a:b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Kroz cijelo selo je postavljena rasvjeta – na struju i fenjeri, a na svakom stupu urezani su stihovi naših pjesn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835280" y="177336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5640" y="206064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1187280" y="3068640"/>
            <a:ext cx="4464360" cy="334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627280" y="234936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780000" y="1700280"/>
            <a:ext cx="35827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771640" y="1628640"/>
            <a:ext cx="339264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biteljska kuća dr. Tucić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835280" y="1484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547640" y="1700280"/>
            <a:ext cx="3703680" cy="494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692360" y="177336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059280" y="2349360"/>
            <a:ext cx="5040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27440" y="-360"/>
            <a:ext cx="63165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92360" y="907920"/>
            <a:ext cx="5184720" cy="38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908000" y="1197000"/>
            <a:ext cx="5904000" cy="4429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124000" y="1413000"/>
            <a:ext cx="6050160" cy="453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042920" y="981000"/>
            <a:ext cx="3729240" cy="496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924360" y="26370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1187280" y="1268280"/>
            <a:ext cx="6337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gledajte u što je pretvoren stari štagalj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6350040" cy="4762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979640" y="1844640"/>
            <a:ext cx="6350040" cy="4318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340000" y="2205000"/>
            <a:ext cx="5113440" cy="3835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843280" y="213372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3419640" y="3284640"/>
            <a:ext cx="4105080" cy="3079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5508720" y="2276640"/>
            <a:ext cx="3182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9:26:24Z</dcterms:created>
  <dc:creator>Prosvjetari</dc:creator>
  <dc:description/>
  <dc:language>en-US</dc:language>
  <cp:lastModifiedBy>Krešo</cp:lastModifiedBy>
  <dcterms:modified xsi:type="dcterms:W3CDTF">2008-06-30T21:20:56Z</dcterms:modified>
  <cp:revision>2</cp:revision>
  <dc:subject/>
  <dc:title>Etno – eko selo Stara Kapela</dc:title>
</cp:coreProperties>
</file>