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436-EE9D-4B67-A4A9-92862302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650-8077-45A7-9E85-197BE498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F7C-EFB8-49D7-A9F5-6A969167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615-0956-47A1-867D-58F34FDB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13E-39D8-4D87-A64B-DCA08A3F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1F5-4D81-411A-A178-9C4D2FFF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C19-3241-4835-8746-37DB189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D95-32D5-4253-8B1A-FF773CFE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AE8-A1A5-47DF-BBA5-91C4342D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D0D-A1AA-4874-93E1-A977F302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440-292F-4CD5-A874-5A6A277F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F17-6A76-43AB-8D09-C26C576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044D-01A5-4AD7-9917-8220E92F683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 bojama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828880" cy="181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10160" y="60213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rg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19640" y="549360"/>
            <a:ext cx="2232000" cy="1728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1484280"/>
            <a:ext cx="2232000" cy="208908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844640"/>
            <a:ext cx="2232360" cy="17287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5800" y="36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V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7440" y="2349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35733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9800" y="4508640"/>
            <a:ext cx="50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SNOVNE BO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5589720"/>
            <a:ext cx="65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novne boje ne možemo dobiti miješanjem drugih bo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 ako ih međusobno miješamo, možemo dobiti izvedene bo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65440" y="333360"/>
            <a:ext cx="50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ZVEDENE BO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2133720"/>
            <a:ext cx="1008000" cy="57600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2133720"/>
            <a:ext cx="863640" cy="576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1557360"/>
            <a:ext cx="1871640" cy="15843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3860640"/>
            <a:ext cx="1008360" cy="6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3789360"/>
            <a:ext cx="1008000" cy="647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3357720"/>
            <a:ext cx="1729080" cy="1295280"/>
          </a:xfrm>
          <a:prstGeom prst="irregularSeal2">
            <a:avLst/>
          </a:prstGeom>
          <a:solidFill>
            <a:srgbClr val="ff92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5157720"/>
            <a:ext cx="1008000" cy="647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5229360"/>
            <a:ext cx="1008000" cy="57456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4653000"/>
            <a:ext cx="1584360" cy="1368360"/>
          </a:xfrm>
          <a:prstGeom prst="irregularSeal2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1440" y="1268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5960" y="29973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ANČ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0880" y="4292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JUBIČ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760" y="609300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rom osnovnih boja nastaju izvedene bo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4360" y="2252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720" y="39337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5373720"/>
            <a:ext cx="3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2720" y="22780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0200" y="39276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7080" y="53737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14520" y="26028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NOVI BO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520" y="1052640"/>
            <a:ext cx="86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da nekoj boji dodajemo bijelu ili crnu, oduzimamo joj jačinu. Ona postaje “slabij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o dobivamo tonove bo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060640"/>
            <a:ext cx="865440" cy="647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2060640"/>
            <a:ext cx="865080" cy="64764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65600" y="2760840"/>
            <a:ext cx="865080" cy="64764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3440" y="1844640"/>
            <a:ext cx="1366920" cy="1079640"/>
          </a:xfrm>
          <a:prstGeom prst="irregularSeal2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16520" y="2689200"/>
            <a:ext cx="865440" cy="64764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84880" y="2184480"/>
            <a:ext cx="1513080" cy="1297080"/>
          </a:xfrm>
          <a:prstGeom prst="irregularSeal2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85280" y="2152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0980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38000" y="222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5240" y="27795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4292640"/>
            <a:ext cx="914400" cy="914400"/>
          </a:xfrm>
          <a:prstGeom prst="irregularSeal2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4508640"/>
            <a:ext cx="914400" cy="914400"/>
          </a:xfrm>
          <a:prstGeom prst="irregularSeal2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724280"/>
            <a:ext cx="914400" cy="9144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4940280"/>
            <a:ext cx="914400" cy="914400"/>
          </a:xfrm>
          <a:prstGeom prst="irregularSeal2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5156280"/>
            <a:ext cx="914400" cy="914400"/>
          </a:xfrm>
          <a:prstGeom prst="irregularSeal2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3645000"/>
            <a:ext cx="914400" cy="91440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860640"/>
            <a:ext cx="914400" cy="914400"/>
          </a:xfrm>
          <a:prstGeom prst="irregularSeal2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4076640"/>
            <a:ext cx="914400" cy="914400"/>
          </a:xfrm>
          <a:prstGeom prst="irregularSeal2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4869000"/>
            <a:ext cx="914400" cy="914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5084640"/>
            <a:ext cx="914400" cy="91440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5300640"/>
            <a:ext cx="914400" cy="91440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4294080"/>
            <a:ext cx="914400" cy="914400"/>
          </a:xfrm>
          <a:prstGeom prst="irregularSeal2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4510080"/>
            <a:ext cx="914400" cy="91440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726080"/>
            <a:ext cx="914400" cy="9144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4943520"/>
            <a:ext cx="914400" cy="9144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5157720"/>
            <a:ext cx="914400" cy="914400"/>
          </a:xfrm>
          <a:prstGeom prst="irregularSeal2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760" y="5640480"/>
            <a:ext cx="87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MPLEMENTATNI K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720" y="404640"/>
            <a:ext cx="751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iječ komplementarno znači nadopunjujuć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o znači da se komplementarne boje međusobno nadopunjuj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komplementarnom paru uvijek je jedna osnovna i jedna izvedena bo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133720"/>
            <a:ext cx="1165320" cy="9874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2133720"/>
            <a:ext cx="1079640" cy="100800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3789360"/>
            <a:ext cx="1057320" cy="1058760"/>
          </a:xfrm>
          <a:prstGeom prst="irregularSeal2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860640"/>
            <a:ext cx="1081080" cy="1152720"/>
          </a:xfrm>
          <a:prstGeom prst="irregularSeal2">
            <a:avLst/>
          </a:prstGeom>
          <a:solidFill>
            <a:srgbClr val="ff92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1989000"/>
            <a:ext cx="1202040" cy="10591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20000" y="1989000"/>
            <a:ext cx="1152360" cy="1081080"/>
          </a:xfrm>
          <a:prstGeom prst="irregularSeal2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256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5:40:07Z</dcterms:created>
  <dc:creator>GRGA</dc:creator>
  <dc:description/>
  <dc:language>en-US</dc:language>
  <cp:lastModifiedBy>Krešo</cp:lastModifiedBy>
  <dcterms:modified xsi:type="dcterms:W3CDTF">2008-03-18T17:48:58Z</dcterms:modified>
  <cp:revision>5</cp:revision>
  <dc:subject/>
  <dc:title>O bojama…</dc:title>
</cp:coreProperties>
</file>