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EDB-14A8-41C5-99E8-4CBE772D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CDE-E465-47E6-94E0-FC83941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BC-34C2-440E-A9F3-508435B1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83E-6784-4590-B000-832037B2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1E27-84B0-4A47-B628-7881A9D3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D4B3D-D954-4663-BD48-C3FCE03C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908A-3D00-49F0-9AEC-FCFA026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DD10-FDFB-4686-A3F0-B05443C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F8C6-600C-4664-8DFE-497A8255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CF15-9BE8-41D0-AC79-B70B0B8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C666F-9E88-4447-9404-7BCEC8F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619-5562-48BB-8CF4-9D41B952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137B-8371-4F66-A9E4-99473B9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E75E-FCFA-4D64-B627-01F3DFA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51355-4810-46BF-9FFB-72B1878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F8FB-D6FC-4C88-91F7-4A45B9CC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721C7-B744-44BC-A19C-9873280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4474-B206-489B-8F4B-DEE29135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9163-5F29-402E-9CC0-E75F45E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836E-2091-4BA6-BB4F-1CBA650D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A71F-E575-4E6B-824C-ADA297D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1FA3-DF01-4FD8-BAB6-4815CBC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2C1-2C41-472D-B01D-145A7BD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BEE2-9292-4B08-8508-4ED0E1F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7272-3471-4EFC-B0C2-47A32289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5534-E80E-4242-BCDB-43BBAE2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818C-6541-4F23-AC8F-0C5B431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3779-B01E-4242-9848-D61CF4C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033E-9522-496B-BAEB-EC7CAF7C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8227-B798-44D7-89E6-0D9078C6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97C21-3708-4E6C-B3F0-8BA95C98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B52E2-206D-4761-BB15-72ECC421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9F722-56F3-496C-9187-2CECE808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FA5-CF76-4977-8747-078AA49B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86752-387E-4723-9323-F553038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F788B-8E41-4B8A-A089-272528E2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F8C10-535B-436A-AD70-343AE0E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5FBF3-206D-42B0-B3C9-1572996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FB2F0-F461-4F37-BD74-24726A8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C2623-337F-42DA-9E24-F8E35FC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D8501-C980-49CB-AF27-3C21663C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E79219-7EF0-4FA5-86ED-74CE3C11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F1B7D-613C-41EA-8C0A-7C095410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908-D9E2-432B-BAF1-6B6EFA0D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869-C659-4FAF-B81E-0CE1FA8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7A9-F7C5-494A-94FB-EF137B9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38F-884B-4FE5-9077-6604773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AF8-8620-4C63-A9C6-7B17F18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59B-8C65-4252-AF1C-FED03F6C9DDA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115-18C3-4546-9401-32C0C7141870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ADF-9000-4B81-8809-6016A6D4508B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08AD-E526-4B92-B20C-4A6F0E6DA8FD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DCD-F9AB-48AA-8D6A-3767EDB6555B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7B1-79A4-4A4D-8237-1223470062BA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D06-3CF8-4A46-92A3-46AF57EA74A9}" type="slidenum">
              <a:rPr b="0" lang="hr-HR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122-D129-4182-A9FC-6590FC10E663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1" descr=""/>
          <p:cNvPicPr/>
          <p:nvPr/>
        </p:nvPicPr>
        <p:blipFill>
          <a:blip r:embed="rId2"/>
          <a:stretch/>
        </p:blipFill>
        <p:spPr>
          <a:xfrm>
            <a:off x="30240" y="1322280"/>
            <a:ext cx="8053200" cy="314640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6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62B-019F-4C90-82F0-54674C3B77E8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693760" y="564372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6600"/>
                </a:solidFill>
                <a:latin typeface="Constantia"/>
              </a:rPr>
              <a:t>Branka Kamenečki Orlić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397-9F2E-4A83-A768-458C62BD5C1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357120" y="1714680"/>
            <a:ext cx="750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stvaranje banke riječi ili osobne liste riječ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lustriranje knjige priča, pjesam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zrada plakata koji reklamira knjig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ređivanje novina koje prate čitanje knjiga djece u razred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pisma autoru knjige – pjes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uređivanje novina koje prate čitanje knjiga djece u razred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20A-07B0-41B1-91DD-06204405345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0" y="500040"/>
            <a:ext cx="59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pisma autoru knjige – pjes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crtanje ili opisivanje određenog dijela knji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omjena završet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isanje radnje koja bi mogl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ethoditi prič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okušaj da se glavna ideja priče sažme u jednu rečenic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3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7CF-E70D-4632-B466-415682050048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2286000" y="500040"/>
            <a:ext cx="6215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glumačka izvedba jednog dijela fabu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proučavanje autora knjige i pisanje izvješća za razre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opisivanje osobnog doživljaja susreta s jednim likom iz prič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stvaranje igre temeljene na pročitanom djel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opisivanje avanture lika koji im se svidio u 1. lic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</a:rPr>
              <a:t>ilustracija naslovnice knji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2E4A-8FE3-45ED-9909-48885FB15F12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581200" y="428760"/>
            <a:ext cx="55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MOGUĆNOSTI ODGOVORA NA PROČITAN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14720" y="1143000"/>
          <a:ext cx="5406840" cy="4479840"/>
        </p:xfrm>
        <a:graphic>
          <a:graphicData uri="http://schemas.openxmlformats.org/drawingml/2006/table">
            <a:tbl>
              <a:tblPr/>
              <a:tblGrid>
                <a:gridCol w="2571480"/>
                <a:gridCol w="283536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MOGUĆI ODGOV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2060"/>
                          </a:solidFill>
                          <a:latin typeface="Comic Sans MS"/>
                          <a:ea typeface="Times New Roman"/>
                        </a:rPr>
                        <a:t>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lan prič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ravi plan tako da slijediš radnju prič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inaka tek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mijeni dio priče tako da nam pokažeš kako bi ti riješio/la probl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pričava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uči sažeto prepričati prič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lustraci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lustriraj značajne scene iz priče i napiši nešto o svakoj ilustracij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Čitanje priče prijatelj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čitaj dio priče prijateljima uz objašnjenje zašto si odabrao/la baš taj 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ramatizacij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ramatiziraj dio priče s prijatelj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lakat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zradi s prijateljima plakat koji će potaknuti drugu djecu da pročitaju knjigu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 ne zaboravi plakat treba biti zanimljiv kako bi zainteresirao i nagovarao na čitanje 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3B8-AD21-476B-9221-CF27E97F1B21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071880" y="500040"/>
          <a:ext cx="5668920" cy="405432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stale knj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daberi i druge knjige istog autora, pročitaj ih i usporedi. Izvijesti ost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eoblačenj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buci se kao lik iz priče i odglumi omiljenu scen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ov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drži uvjerljiv govor koristeći se podacima koje si sakupio/la  iz knj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aspra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aspravljaj s prijateljima o knjizi braneći svoje stavo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is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iši pismo autoru knjige. Usredotoči se na ono što si naučio/la i kako će ti to pomoći u živo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ovinski  član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apiši kritiku – svoje mišljenje o pročitanoj knjiz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g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astavi s prijateljima križaljku s pojmovima vezanim uz pročitanu knjig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4"/>
          <p:cNvSpPr/>
          <p:nvPr/>
        </p:nvSpPr>
        <p:spPr>
          <a:xfrm>
            <a:off x="928800" y="4643280"/>
            <a:ext cx="73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da bi ovakav način lektire bio što uspješniji učenici su podijeljeni u grup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fefac9"/>
                </a:solidFill>
                <a:latin typeface="Comic Sans MS"/>
              </a:rPr>
              <a:t>važno ih je uputiti na posjete knjižnici i traženje pomoć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99A5-0729-4AF8-AAAA-69B7CE20720A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714240" y="125280"/>
            <a:ext cx="7929720" cy="64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</a:t>
            </a:r>
            <a:r>
              <a:rPr b="1" lang="hr-HR" sz="2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LEKTIRA U TREĆEM RAZREDU – primjeri -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ZOPOVE BASNE </a:t>
            </a: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– napiši basnu u kojoj sve riječi počinju istim slov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L. PALJETAK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MIŠEVI I MAČKE NAGLAVAČKE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apiši strip temeljen na pjesmici koja ti se najviše svidjela ( ne zaboravi objašnjenje zašto baš ta pjesmica 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. B. MAŽURAN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ČUDNOVATE ZGODE ŠEGRTA HLAPIĆA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isanje nastavk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plakat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ramatizacija najzanimljivijeg djel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ve o piscu u obliku izvješć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vinski članak – naše mišljenje o pročitan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5BA-6346-4C62-B62F-753F1B79FC0E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428760" y="1877400"/>
            <a:ext cx="85788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lustracija jedne priče – slikovn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poredba crtić – knjig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oblikovati jednu prič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M. LOVRAK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VLAK U SNIJEGU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ramatizacija najzanimljivijeg djela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ismo autor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dio rekla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plakat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sprava o knjiz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. HORVAT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GRIČKI TOP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turističkog plakata temeljenog na prič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klama knjig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žetak prič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va naslovn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86600" y="178596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S. ŠKRINJARIĆ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KAKTUS BAJKE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FE3-4945-4C1C-8A5E-BA7A60411162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75360" y="1663200"/>
            <a:ext cx="711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V.NAZOR</a:t>
            </a: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BIJELI JELEN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pisivanje osobnog doživljaja susreta s glavnom liko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žimanje glavne ideje u jednu rečenic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slikovni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H.LOFTING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DR. DOLITTELEU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poredba knjiga – fil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Čitanje priče prijatelji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nodrama glavnog lik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vrt na knjigu – kritik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W.BONSELES </a:t>
            </a:r>
            <a:r>
              <a:rPr b="1" lang="hr-HR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«  PČELICA MAJA «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rokaz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čemu glavni lik sanja noću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dio reklam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ra – križaljka s pojmovima iz knjig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zrada zidne slik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3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187-A995-4075-A1A8-0BD3FA9AF9EF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diddles_write bock.gif"/>
          <p:cNvPicPr/>
          <p:nvPr/>
        </p:nvPicPr>
        <p:blipFill>
          <a:blip r:embed="rId1"/>
          <a:stretch/>
        </p:blipFill>
        <p:spPr>
          <a:xfrm>
            <a:off x="4572000" y="500040"/>
            <a:ext cx="3895560" cy="290520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3" descr=""/>
          <p:cNvPicPr/>
          <p:nvPr/>
        </p:nvPicPr>
        <p:blipFill>
          <a:blip r:embed="rId2"/>
          <a:stretch/>
        </p:blipFill>
        <p:spPr>
          <a:xfrm>
            <a:off x="927000" y="1316160"/>
            <a:ext cx="7425000" cy="74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7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B1E-60C7-4796-96F0-CFDB8937DAE6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Rectangle 4" descr=""/>
          <p:cNvPicPr/>
          <p:nvPr/>
        </p:nvPicPr>
        <p:blipFill>
          <a:blip r:embed="rId2"/>
          <a:stretch/>
        </p:blipFill>
        <p:spPr>
          <a:xfrm>
            <a:off x="762120" y="2230560"/>
            <a:ext cx="7650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C61-C396-4195-A5D9-4C83501632F4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642960" y="255096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gramatika i pravopis bi se trebali učiti u kasnijim razredima jer do tada bi djetetu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isanje kao izričaj postalo  automatizirana aktivno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reporučljivo je da djeca uče pisati kao što uče govorit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D1C-FFE2-43C4-9833-B59677C35D27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Picture 2" descr="diddle schrijft.gif"/>
          <p:cNvPicPr/>
          <p:nvPr/>
        </p:nvPicPr>
        <p:blipFill>
          <a:blip r:embed="rId1"/>
          <a:stretch/>
        </p:blipFill>
        <p:spPr>
          <a:xfrm>
            <a:off x="311040" y="396720"/>
            <a:ext cx="1955880" cy="1560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571680" y="213660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nedovršene rečenice ohrabruju dijete da se izraze o sebi, da shvati  i prihvati svoje želje, potrebe, razočaranja, misli ideje, osjećaje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Comic Sans MS"/>
              </a:rPr>
              <a:t>PR.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Ljubav je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Pjeva mi se kada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Uplašim se kada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Kod sebe jako volim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Sretan/a sam kada…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hr-HR" sz="2400" spc="-1" strike="noStrike">
                <a:solidFill>
                  <a:srgbClr val="002060"/>
                </a:solidFill>
                <a:latin typeface="Comic Sans MS"/>
              </a:rPr>
              <a:t>Da sam mama /tata ja bi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6AFD-8B71-4ACB-A6A4-47ABBB59F163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071720" y="1947240"/>
            <a:ext cx="60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pišite pismo jednom dijelu svoga tije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piši svoju tajnu ( potpis nije obvezatan ). Spremi pismo u košaricu koja čuva tajne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af2d4"/>
                </a:solidFill>
                <a:latin typeface="Comic Sans MS"/>
                <a:ea typeface="Times New Roman"/>
              </a:rPr>
              <a:t>Na zajedničkim sastancima izvlačimo i čitamo tajne kao da su naše – pričamo ili pišemo o osjećajima koje je ta tajna pobudila u nama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F28-8ED1-4572-8D09-B07AD23963F7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714240" y="2550960"/>
            <a:ext cx="700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isanje, posebno poezija ide iz srca, pomaže nam da budemo slobodni, ponekad malo luckasti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Djeca vole slušati pjesme koje su napisala druga djeca – to u njima pobuđuje želju da i sami nešto napiš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D97-863B-47F9-9B96-DE3418926A2B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571680" y="1857240"/>
            <a:ext cx="742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Grupnom pisanju pjesama djeca pristupaju s posebnim oduševljenjem ( svako dijete govori ili piše jedan stih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Pjesme mogu nastati tako da s djecom razgovaramo o riječima koje opisuju naše osjećaje – proširivanje svjesnosti o riječima potiče djecu na pisanje poezij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</a:rPr>
              <a:t>Odrasli teško mogu pisati tako da dijete osjeti  « ono nešto «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CDC-A962-4AD9-935D-F0DCF98A1E85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000080" y="2232000"/>
            <a:ext cx="635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EKTIRA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– riječ koja jednako teško odzvanja u ušima djece i roditelj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jerujte mi postoji rješenje problema zvanog </a:t>
            </a:r>
            <a:r>
              <a:rPr b="1" lang="hr-HR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EKTIRA.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va neugodna školska obveza može postati jako zanimljiva, zabavna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poručljivo je poštivati individualnost svakog djetet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1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3302-B170-40DD-B88D-414AD10CF6A9}" type="datetime">
              <a:rPr b="0" lang="sr-Latn-CS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2" descr="diddle schrijft.gif"/>
          <p:cNvPicPr/>
          <p:nvPr/>
        </p:nvPicPr>
        <p:blipFill>
          <a:blip r:embed="rId1"/>
          <a:stretch/>
        </p:blipFill>
        <p:spPr>
          <a:xfrm>
            <a:off x="378000" y="396720"/>
            <a:ext cx="1963440" cy="1560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428760" y="-44280"/>
            <a:ext cx="8501040" cy="66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vo su samo neke mogućnosti </a:t>
            </a:r>
            <a:r>
              <a:rPr b="1" lang="hr-HR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KAKO PISATI LEKTIRU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ovisno o uzrastu i interesu djece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nevnik čitanja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– tijekom čitanja djeca zapisuju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</a:t>
            </a:r>
            <a:r>
              <a:rPr b="1" lang="hr-H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obne reakcije na pročitan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sažetka prič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slikovnica ili malih knjig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poezij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449280">
              <a:lnSpc>
                <a:spcPct val="100000"/>
              </a:lnSpc>
              <a:buClr>
                <a:srgbClr val="c00000"/>
              </a:buClr>
              <a:buFont typeface="Comic Sans MS"/>
              <a:buChar char="•"/>
              <a:tabLst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pisanje dra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53:09Z</dcterms:created>
  <dc:creator>Angels</dc:creator>
  <dc:description/>
  <dc:language>en-US</dc:language>
  <cp:lastModifiedBy>Angels</cp:lastModifiedBy>
  <dcterms:modified xsi:type="dcterms:W3CDTF">2008-04-23T20:17:17Z</dcterms:modified>
  <cp:revision>1</cp:revision>
  <dc:subject/>
  <dc:title>Slide 1</dc:title>
</cp:coreProperties>
</file>