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03A-2D94-4967-A048-937458C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E6D-726B-4FC1-904B-78F4D5C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FF6-CB69-4DE2-B020-18AC37DA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9F6-77A4-4E84-9850-0C6A9A22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462-CA99-4DC9-99A3-F8EC7FD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E2C-3E29-498C-B3A9-AF4DE0B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ABB-5C0F-4442-BEA6-43F5F049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11F-F45D-43BC-9E49-63EFE05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454-1467-494D-9C1A-E8F4402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612-09B3-48D4-BC05-27A81CD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6A1-623E-4D2B-BB1B-8EF52D2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7C4-5E06-4037-84A0-4D9EA11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371E-7D66-4ED4-B3B1-36AA49D0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0.jpeg"/><Relationship Id="rId10" Type="http://schemas.openxmlformats.org/officeDocument/2006/relationships/image" Target="../media/image4.jpeg"/><Relationship Id="rId11" Type="http://schemas.openxmlformats.org/officeDocument/2006/relationships/image" Target="../media/image11.jpeg"/><Relationship Id="rId12" Type="http://schemas.openxmlformats.org/officeDocument/2006/relationships/image" Target="../media/image5.jpeg"/><Relationship Id="rId13" Type="http://schemas.openxmlformats.org/officeDocument/2006/relationships/image" Target="../media/image12.jpeg"/><Relationship Id="rId14" Type="http://schemas.openxmlformats.org/officeDocument/2006/relationships/image" Target="../media/image3.jpeg"/><Relationship Id="rId15" Type="http://schemas.openxmlformats.org/officeDocument/2006/relationships/image" Target="../media/image1.jpe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applause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applause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applause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applause.wav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>
            <a:hlinkClick r:id="" action="ppaction://hlinkshowjump?jump=nextslide"/>
          </p:cNvPr>
          <p:cNvSpPr/>
          <p:nvPr/>
        </p:nvSpPr>
        <p:spPr>
          <a:xfrm>
            <a:off x="8001000" y="6553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Kren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800" spc="-1" strike="noStrike">
                <a:solidFill>
                  <a:srgbClr val="ff0000"/>
                </a:solidFill>
                <a:latin typeface="AlphaClouds"/>
              </a:rPr>
              <a:t>UTRKA  KLAUNOV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ka 11" descr="k1661632.jpg"/>
          <p:cNvPicPr/>
          <p:nvPr/>
        </p:nvPicPr>
        <p:blipFill>
          <a:blip r:embed="rId1"/>
          <a:stretch/>
        </p:blipFill>
        <p:spPr>
          <a:xfrm>
            <a:off x="304920" y="380880"/>
            <a:ext cx="1422360" cy="2159280"/>
          </a:xfrm>
          <a:prstGeom prst="rect">
            <a:avLst/>
          </a:prstGeom>
          <a:ln w="0">
            <a:noFill/>
          </a:ln>
        </p:spPr>
      </p:pic>
      <p:pic>
        <p:nvPicPr>
          <p:cNvPr id="44" name="Slika 12" descr="k1673989.jpg"/>
          <p:cNvPicPr/>
          <p:nvPr/>
        </p:nvPicPr>
        <p:blipFill>
          <a:blip r:embed="rId2"/>
          <a:stretch/>
        </p:blipFill>
        <p:spPr>
          <a:xfrm>
            <a:off x="7162920" y="457200"/>
            <a:ext cx="1485720" cy="2158920"/>
          </a:xfrm>
          <a:prstGeom prst="rect">
            <a:avLst/>
          </a:prstGeom>
          <a:ln w="0">
            <a:noFill/>
          </a:ln>
        </p:spPr>
      </p:pic>
      <p:pic>
        <p:nvPicPr>
          <p:cNvPr id="45" name="Slika 13" descr="k2371007.jpg"/>
          <p:cNvPicPr/>
          <p:nvPr/>
        </p:nvPicPr>
        <p:blipFill>
          <a:blip r:embed="rId3"/>
          <a:stretch/>
        </p:blipFill>
        <p:spPr>
          <a:xfrm>
            <a:off x="4692600" y="38088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Slika 14" descr="k2245199.jpg"/>
          <p:cNvPicPr/>
          <p:nvPr/>
        </p:nvPicPr>
        <p:blipFill>
          <a:blip r:embed="rId4"/>
          <a:stretch/>
        </p:blipFill>
        <p:spPr>
          <a:xfrm>
            <a:off x="787320" y="518148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47" name="Slika 15" descr="k2245190.jpg"/>
          <p:cNvPicPr/>
          <p:nvPr/>
        </p:nvPicPr>
        <p:blipFill>
          <a:blip r:embed="rId5"/>
          <a:stretch/>
        </p:blipFill>
        <p:spPr>
          <a:xfrm>
            <a:off x="78487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Slika 16" descr="k1609707.jpg"/>
          <p:cNvPicPr/>
          <p:nvPr/>
        </p:nvPicPr>
        <p:blipFill>
          <a:blip r:embed="rId6"/>
          <a:stretch/>
        </p:blipFill>
        <p:spPr>
          <a:xfrm>
            <a:off x="4419720" y="4699080"/>
            <a:ext cx="1650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49" descr="k1609589.jpg"/>
          <p:cNvPicPr/>
          <p:nvPr/>
        </p:nvPicPr>
        <p:blipFill>
          <a:blip r:embed="rId1"/>
          <a:stretch/>
        </p:blipFill>
        <p:spPr>
          <a:xfrm>
            <a:off x="8400960" y="5715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Slika 48" descr="k1609589.jpg"/>
          <p:cNvPicPr/>
          <p:nvPr/>
        </p:nvPicPr>
        <p:blipFill>
          <a:blip r:embed="rId2"/>
          <a:stretch/>
        </p:blipFill>
        <p:spPr>
          <a:xfrm>
            <a:off x="8456760" y="4572000"/>
            <a:ext cx="68724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Slika 47" descr="k1609589.jpg"/>
          <p:cNvPicPr/>
          <p:nvPr/>
        </p:nvPicPr>
        <p:blipFill>
          <a:blip r:embed="rId3"/>
          <a:stretch/>
        </p:blipFill>
        <p:spPr>
          <a:xfrm>
            <a:off x="8400960" y="3429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2" name="Slika 46" descr="k1609589.jpg"/>
          <p:cNvPicPr/>
          <p:nvPr/>
        </p:nvPicPr>
        <p:blipFill>
          <a:blip r:embed="rId4"/>
          <a:stretch/>
        </p:blipFill>
        <p:spPr>
          <a:xfrm>
            <a:off x="8400960" y="2286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5" descr="k1609589.jpg"/>
          <p:cNvPicPr/>
          <p:nvPr/>
        </p:nvPicPr>
        <p:blipFill>
          <a:blip r:embed="rId5"/>
          <a:stretch/>
        </p:blipFill>
        <p:spPr>
          <a:xfrm>
            <a:off x="8400960" y="1143000"/>
            <a:ext cx="74304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20"/>
          <p:cNvSpPr/>
          <p:nvPr/>
        </p:nvSpPr>
        <p:spPr>
          <a:xfrm>
            <a:off x="0" y="5257800"/>
            <a:ext cx="8458200" cy="4190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0" y="6172200"/>
            <a:ext cx="8305920" cy="41904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3"/>
          <p:cNvSpPr/>
          <p:nvPr/>
        </p:nvSpPr>
        <p:spPr>
          <a:xfrm>
            <a:off x="228600" y="31240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4"/>
          <p:cNvSpPr/>
          <p:nvPr/>
        </p:nvSpPr>
        <p:spPr>
          <a:xfrm>
            <a:off x="228600" y="17524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304920" y="4114800"/>
            <a:ext cx="8229600" cy="4190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pink_car"/>
          <p:cNvPicPr/>
          <p:nvPr/>
        </p:nvPicPr>
        <p:blipFill>
          <a:blip r:embed="rId6"/>
          <a:stretch/>
        </p:blipFill>
        <p:spPr>
          <a:xfrm>
            <a:off x="709560" y="4570560"/>
            <a:ext cx="704880" cy="91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orange_car"/>
          <p:cNvPicPr/>
          <p:nvPr/>
        </p:nvPicPr>
        <p:blipFill>
          <a:blip r:embed="rId7"/>
          <a:stretch/>
        </p:blipFill>
        <p:spPr>
          <a:xfrm>
            <a:off x="839880" y="3505320"/>
            <a:ext cx="749160" cy="91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yellow_car"/>
          <p:cNvPicPr/>
          <p:nvPr/>
        </p:nvPicPr>
        <p:blipFill>
          <a:blip r:embed="rId8"/>
          <a:stretch/>
        </p:blipFill>
        <p:spPr>
          <a:xfrm>
            <a:off x="746280" y="5562720"/>
            <a:ext cx="631800" cy="91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reen_car"/>
          <p:cNvPicPr/>
          <p:nvPr/>
        </p:nvPicPr>
        <p:blipFill>
          <a:blip r:embed="rId9"/>
          <a:stretch/>
        </p:blipFill>
        <p:spPr>
          <a:xfrm>
            <a:off x="762120" y="2286000"/>
            <a:ext cx="880920" cy="114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gray_blimp"/>
          <p:cNvPicPr/>
          <p:nvPr/>
        </p:nvPicPr>
        <p:blipFill>
          <a:blip r:embed="rId10"/>
          <a:stretch/>
        </p:blipFill>
        <p:spPr>
          <a:xfrm>
            <a:off x="461880" y="112680"/>
            <a:ext cx="757440" cy="7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green_blimp"/>
          <p:cNvPicPr/>
          <p:nvPr/>
        </p:nvPicPr>
        <p:blipFill>
          <a:blip r:embed="rId11"/>
          <a:stretch/>
        </p:blipFill>
        <p:spPr>
          <a:xfrm>
            <a:off x="1600200" y="15228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orange_blimp"/>
          <p:cNvPicPr/>
          <p:nvPr/>
        </p:nvPicPr>
        <p:blipFill>
          <a:blip r:embed="rId12"/>
          <a:stretch/>
        </p:blipFill>
        <p:spPr>
          <a:xfrm>
            <a:off x="2514600" y="11268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ink_blimp"/>
          <p:cNvPicPr/>
          <p:nvPr/>
        </p:nvPicPr>
        <p:blipFill>
          <a:blip r:embed="rId13"/>
          <a:stretch/>
        </p:blipFill>
        <p:spPr>
          <a:xfrm>
            <a:off x="3657600" y="228600"/>
            <a:ext cx="765000" cy="73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yellow_blimp"/>
          <p:cNvPicPr/>
          <p:nvPr/>
        </p:nvPicPr>
        <p:blipFill>
          <a:blip r:embed="rId14"/>
          <a:stretch/>
        </p:blipFill>
        <p:spPr>
          <a:xfrm>
            <a:off x="4876920" y="228600"/>
            <a:ext cx="7189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y_car"/>
          <p:cNvPicPr/>
          <p:nvPr/>
        </p:nvPicPr>
        <p:blipFill>
          <a:blip r:embed="rId15"/>
          <a:stretch/>
        </p:blipFill>
        <p:spPr>
          <a:xfrm>
            <a:off x="685800" y="985680"/>
            <a:ext cx="7542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2.5E-006 4.54461E-006 L 0.14219 0.00023 E"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14219 0.00024 L 0.25052 0.00047 E">
                                      <p:cBhvr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25052 0.00046 L 0.40886 0.01132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40886 0.01132 L 0.59219 0.02242 E">
                                      <p:cBhvr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59219 0.02242 L 0.80886 0.02242 E">
                                      <p:cBhvr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0.00052 4.73879E-006 L 0.14271 -0.01087 E">
                                      <p:cBhvr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14219 -0.01087 L 0.25885 -0.01087 E">
                                      <p:cBhvr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25885 -0.01087 L 0.40885 0.00023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40885 0.00024 L 0.59219 0.02266 E">
                                      <p:cBhvr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Motion origin="layout" path="M 0.59219 0.02266 L 0.80885 0.01156 E"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4.16667E-006 4.93296E-006 L 0.15052 -0.01087 E">
                                      <p:cBhvr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15052 -0.01087 L 0.26718 0.00023 E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26718 0.00024 L 0.40885 0.02266 E">
                                      <p:cBhvr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40885 0.02265 L 0.60052 0.04461 E">
                                      <p:cBhvr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0.60052 0.04461 L 0.81718 0.03351 E">
                                      <p:cBhvr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4.16667E-006 -3.32871E-007 L 0.14218 -3.32871E-007 E">
                                      <p:cBhvr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0.14218 -3.32871E-007 L 0.25052 0.0111 E">
                                      <p:cBhvr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25052 0.0111 L 0.40052 0.03329 E">
                                      <p:cBhvr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40052 0.03329 L 0.60885 0.03329 E">
                                      <p:cBhvr>
                                        <p:cTn id="1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pplause.wav"/>
                                        </p:tgtEl>
                                      </p:cMediaNode>
                                    </p:audio>
                                    <p:animMotion origin="layout" path="M 0.60885 0.03329 L 0.82552 0.03329 E">
                                      <p:cBhvr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2.5E-006 -2.96296E-006 L 0.14167 0.01112 E">
                                      <p:cBhvr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14167 0.01112 L 0.26667 0.02223 E">
                                      <p:cBhvr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26667 0.02223 L 0.425 0.04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42501 0.04445 L 0.60001 0.05556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0.60001 0.05556 L 0.80834 0.04445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 sam koristila ove zadatke no za ponavljanje možete koristiti pitanja i zadatke iz bilo kojeg pred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159984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5+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0-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3+2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8+3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72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0+4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5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6+2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2-44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+3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8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5+5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5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9+3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avokutnik 1"/>
          <p:cNvSpPr/>
          <p:nvPr/>
        </p:nvSpPr>
        <p:spPr>
          <a:xfrm>
            <a:off x="838080" y="1832040"/>
            <a:ext cx="73915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5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loptu  na vrhu slajda , kako bi se njihov klaun pomaknuo naprijed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niOkvir 2"/>
          <p:cNvSpPr/>
          <p:nvPr/>
        </p:nvSpPr>
        <p:spPr>
          <a:xfrm>
            <a:off x="2133720" y="5943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vaj  put sama izradila :Dubravka Petković OŠF, 2.veljače 2010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00:11Z</dcterms:created>
  <dc:creator>Jasmina Mehmedovic</dc:creator>
  <dc:description/>
  <dc:language>en-US</dc:language>
  <cp:lastModifiedBy>Your Name Here</cp:lastModifiedBy>
  <dcterms:modified xsi:type="dcterms:W3CDTF">2010-02-02T18:32:46Z</dcterms:modified>
  <cp:revision>49</cp:revision>
  <dc:subject/>
  <dc:title>Slide 1</dc:title>
</cp:coreProperties>
</file>