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jpeg" ContentType="image/jpe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164F-EE4D-4FBF-B0E7-4CFD1E1A650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43B9-39E8-44D8-AF6A-2CBBFAE3C65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C39-F462-499B-BDFA-05021855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7C1-D33C-4BF2-8655-5A563AF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C22-0B2B-48AF-9DAE-9DCED3A1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22B-05D1-45AD-B3FB-D9C9A3C8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56D-1B5A-44D6-81B6-FC96048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E0B-0E36-4F74-9C36-5A6C1F07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4C6-A17E-4144-A1FE-645B964C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FFD-95FB-416B-8111-8E044979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C6F-187C-4E7A-A96E-B4532B1C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6C2-B26E-41FF-A98A-E99C407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E01-D8C2-40AF-B901-7A0101E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D89-5EBF-4466-B2A5-5951169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356-FF11-45D4-974B-F82B6A98C4C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image" Target="../media/image4.jpeg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3.gif"/><Relationship Id="rId7" Type="http://schemas.openxmlformats.org/officeDocument/2006/relationships/image" Target="../media/image4.jpeg"/><Relationship Id="rId8" Type="http://schemas.openxmlformats.org/officeDocument/2006/relationships/image" Target="../media/image3.gif"/><Relationship Id="rId9" Type="http://schemas.openxmlformats.org/officeDocument/2006/relationships/image" Target="../media/image4.jpeg"/><Relationship Id="rId10" Type="http://schemas.openxmlformats.org/officeDocument/2006/relationships/image" Target="../media/image3.gif"/><Relationship Id="rId11" Type="http://schemas.openxmlformats.org/officeDocument/2006/relationships/image" Target="../media/image4.jpe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applause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applause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himes.wav"/><Relationship Id="rId46" Type="http://schemas.openxmlformats.org/officeDocument/2006/relationships/audio" Target="../media/chimes.wav"/><Relationship Id="rId47" Type="http://schemas.openxmlformats.org/officeDocument/2006/relationships/audio" Target="../media/chimes.wav"/><Relationship Id="rId48" Type="http://schemas.openxmlformats.org/officeDocument/2006/relationships/audio" Target="../media/chimes.wav"/><Relationship Id="rId49" Type="http://schemas.openxmlformats.org/officeDocument/2006/relationships/audio" Target="../media/chimes.wav"/><Relationship Id="rId50" Type="http://schemas.openxmlformats.org/officeDocument/2006/relationships/audio" Target="../media/chimes.wav"/><Relationship Id="rId51" Type="http://schemas.openxmlformats.org/officeDocument/2006/relationships/audio" Target="../media/applause.wav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applause.wav"/><Relationship Id="rId62" Type="http://schemas.openxmlformats.org/officeDocument/2006/relationships/slideLayout" Target="../slideLayouts/slideLayout1.xml"/><Relationship Id="rId6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3286080" y="3564000"/>
            <a:ext cx="178596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1487520" y="1427040"/>
            <a:ext cx="5986440" cy="20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"/>
          <p:cNvPicPr/>
          <p:nvPr/>
        </p:nvPicPr>
        <p:blipFill>
          <a:blip r:embed="rId3"/>
          <a:stretch/>
        </p:blipFill>
        <p:spPr>
          <a:xfrm rot="20913000">
            <a:off x="438120" y="229536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"/>
          <p:cNvPicPr/>
          <p:nvPr/>
        </p:nvPicPr>
        <p:blipFill>
          <a:blip r:embed="rId4"/>
          <a:stretch/>
        </p:blipFill>
        <p:spPr>
          <a:xfrm rot="20913000">
            <a:off x="7724880" y="243828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"/>
          <p:cNvPicPr/>
          <p:nvPr/>
        </p:nvPicPr>
        <p:blipFill>
          <a:blip r:embed="rId5"/>
          <a:stretch/>
        </p:blipFill>
        <p:spPr>
          <a:xfrm rot="20913000">
            <a:off x="1652760" y="93816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"/>
          <p:cNvPicPr/>
          <p:nvPr/>
        </p:nvPicPr>
        <p:blipFill>
          <a:blip r:embed="rId6"/>
          <a:stretch/>
        </p:blipFill>
        <p:spPr>
          <a:xfrm rot="20913000">
            <a:off x="3724200" y="866880"/>
            <a:ext cx="9082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"/>
          <p:cNvPicPr/>
          <p:nvPr/>
        </p:nvPicPr>
        <p:blipFill>
          <a:blip r:embed="rId7"/>
          <a:stretch/>
        </p:blipFill>
        <p:spPr>
          <a:xfrm rot="20913000">
            <a:off x="6081840" y="1152360"/>
            <a:ext cx="90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9" descr=""/>
          <p:cNvPicPr/>
          <p:nvPr/>
        </p:nvPicPr>
        <p:blipFill>
          <a:blip r:embed="rId1"/>
          <a:stretch/>
        </p:blipFill>
        <p:spPr>
          <a:xfrm rot="20913000">
            <a:off x="102960" y="209520"/>
            <a:ext cx="907920" cy="91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3571920" y="5286240"/>
            <a:ext cx="11430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9"/>
          <p:cNvGrpSpPr/>
          <p:nvPr/>
        </p:nvGrpSpPr>
        <p:grpSpPr>
          <a:xfrm>
            <a:off x="357120" y="5857920"/>
            <a:ext cx="936720" cy="857160"/>
            <a:chOff x="357120" y="5857920"/>
            <a:chExt cx="936720" cy="857160"/>
          </a:xfrm>
        </p:grpSpPr>
        <p:pic>
          <p:nvPicPr>
            <p:cNvPr id="58" name="Picture 2" descr="C:\Users\Antoneta\Pictures\leaf-luck-clover_~u11227523.jpg"/>
            <p:cNvPicPr/>
            <p:nvPr/>
          </p:nvPicPr>
          <p:blipFill>
            <a:blip r:embed="rId3"/>
            <a:stretch/>
          </p:blipFill>
          <p:spPr>
            <a:xfrm>
              <a:off x="357120" y="5857920"/>
              <a:ext cx="9367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3"/>
            <p:cNvSpPr/>
            <p:nvPr/>
          </p:nvSpPr>
          <p:spPr>
            <a:xfrm>
              <a:off x="727560" y="6073560"/>
              <a:ext cx="49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39" descr=""/>
          <p:cNvPicPr/>
          <p:nvPr/>
        </p:nvPicPr>
        <p:blipFill>
          <a:blip r:embed="rId4"/>
          <a:stretch/>
        </p:blipFill>
        <p:spPr>
          <a:xfrm rot="20913000">
            <a:off x="1795320" y="223920"/>
            <a:ext cx="908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7"/>
          <p:cNvGrpSpPr/>
          <p:nvPr/>
        </p:nvGrpSpPr>
        <p:grpSpPr>
          <a:xfrm>
            <a:off x="2143080" y="5857920"/>
            <a:ext cx="928800" cy="795240"/>
            <a:chOff x="2143080" y="5857920"/>
            <a:chExt cx="928800" cy="795240"/>
          </a:xfrm>
        </p:grpSpPr>
        <p:pic>
          <p:nvPicPr>
            <p:cNvPr id="62" name="Picture 2" descr="C:\Users\Antoneta\Pictures\leaf-luck-clover_~u11227523.jpg"/>
            <p:cNvPicPr/>
            <p:nvPr/>
          </p:nvPicPr>
          <p:blipFill>
            <a:blip r:embed="rId5"/>
            <a:stretch/>
          </p:blipFill>
          <p:spPr>
            <a:xfrm>
              <a:off x="2143080" y="5857920"/>
              <a:ext cx="92880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39"/>
            <p:cNvSpPr/>
            <p:nvPr/>
          </p:nvSpPr>
          <p:spPr>
            <a:xfrm>
              <a:off x="2510280" y="6058080"/>
              <a:ext cx="49068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39" descr=""/>
          <p:cNvPicPr/>
          <p:nvPr/>
        </p:nvPicPr>
        <p:blipFill>
          <a:blip r:embed="rId6"/>
          <a:stretch/>
        </p:blipFill>
        <p:spPr>
          <a:xfrm rot="20913000">
            <a:off x="3867120" y="81000"/>
            <a:ext cx="907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1"/>
          <p:cNvGrpSpPr/>
          <p:nvPr/>
        </p:nvGrpSpPr>
        <p:grpSpPr>
          <a:xfrm>
            <a:off x="4929120" y="5715000"/>
            <a:ext cx="1000080" cy="785880"/>
            <a:chOff x="4929120" y="5715000"/>
            <a:chExt cx="1000080" cy="785880"/>
          </a:xfrm>
        </p:grpSpPr>
        <p:pic>
          <p:nvPicPr>
            <p:cNvPr id="66" name="Picture 2" descr="C:\Users\Antoneta\Pictures\leaf-luck-clover_~u11227523.jpg"/>
            <p:cNvPicPr/>
            <p:nvPr/>
          </p:nvPicPr>
          <p:blipFill>
            <a:blip r:embed="rId7"/>
            <a:stretch/>
          </p:blipFill>
          <p:spPr>
            <a:xfrm>
              <a:off x="4929120" y="5715000"/>
              <a:ext cx="10000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3"/>
            <p:cNvSpPr/>
            <p:nvPr/>
          </p:nvSpPr>
          <p:spPr>
            <a:xfrm>
              <a:off x="5324400" y="5913000"/>
              <a:ext cx="528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39" descr=""/>
          <p:cNvPicPr/>
          <p:nvPr/>
        </p:nvPicPr>
        <p:blipFill>
          <a:blip r:embed="rId8"/>
          <a:stretch/>
        </p:blipFill>
        <p:spPr>
          <a:xfrm rot="20913000">
            <a:off x="5724360" y="81000"/>
            <a:ext cx="908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6207120" y="5715000"/>
            <a:ext cx="936720" cy="857160"/>
            <a:chOff x="6207120" y="5715000"/>
            <a:chExt cx="936720" cy="857160"/>
          </a:xfrm>
        </p:grpSpPr>
        <p:pic>
          <p:nvPicPr>
            <p:cNvPr id="70" name="Picture 2" descr="C:\Users\Antoneta\Pictures\leaf-luck-clover_~u11227523.jpg"/>
            <p:cNvPicPr/>
            <p:nvPr/>
          </p:nvPicPr>
          <p:blipFill>
            <a:blip r:embed="rId9"/>
            <a:stretch/>
          </p:blipFill>
          <p:spPr>
            <a:xfrm>
              <a:off x="6207120" y="5715000"/>
              <a:ext cx="9367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7"/>
            <p:cNvSpPr/>
            <p:nvPr/>
          </p:nvSpPr>
          <p:spPr>
            <a:xfrm>
              <a:off x="6577560" y="5930640"/>
              <a:ext cx="49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Picture 39" descr=""/>
          <p:cNvPicPr/>
          <p:nvPr/>
        </p:nvPicPr>
        <p:blipFill>
          <a:blip r:embed="rId10"/>
          <a:stretch/>
        </p:blipFill>
        <p:spPr>
          <a:xfrm rot="20913000">
            <a:off x="7439040" y="81000"/>
            <a:ext cx="907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49"/>
          <p:cNvGrpSpPr/>
          <p:nvPr/>
        </p:nvGrpSpPr>
        <p:grpSpPr>
          <a:xfrm>
            <a:off x="7500960" y="5643720"/>
            <a:ext cx="865080" cy="857160"/>
            <a:chOff x="7500960" y="5643720"/>
            <a:chExt cx="865080" cy="857160"/>
          </a:xfrm>
        </p:grpSpPr>
        <p:pic>
          <p:nvPicPr>
            <p:cNvPr id="74" name="Picture 2" descr="C:\Users\Antoneta\Pictures\leaf-luck-clover_~u11227523.jpg"/>
            <p:cNvPicPr/>
            <p:nvPr/>
          </p:nvPicPr>
          <p:blipFill>
            <a:blip r:embed="rId11"/>
            <a:stretch/>
          </p:blipFill>
          <p:spPr>
            <a:xfrm>
              <a:off x="7500960" y="5643720"/>
              <a:ext cx="8650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51"/>
            <p:cNvSpPr/>
            <p:nvPr/>
          </p:nvSpPr>
          <p:spPr>
            <a:xfrm>
              <a:off x="7842960" y="5859360"/>
              <a:ext cx="4568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1.38889E-006 3.33333E-006 L 0.02361 0.07361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0.02361 0.07361 L -0.0158 0.1368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0.01579 0.13681 L 0.07066 0.1787 E">
                                      <p:cBhvr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0.07066 0.17871 L -0.00816 0.26273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0816 0.26273 L 0.07048 0.33611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07048 0.33611 L 0.06267 0.46203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0.06267 0.46203 L 0.1493 0.4831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1493 0.4831 L 0.1335 0.5882 E">
                                      <p:cBhvr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0.1335 0.5882 L 0.25954 0.52523 E">
                                      <p:cBhvr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Motion origin="layout" path="M 0.25954 0.52523 L 0.33819 0.6618 E">
                                      <p:cBhvr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3.05556E-006 4.44444E-006 L 0.00208 0.09629 E">
                                      <p:cBhvr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.00208 0.09629 L 0.02569 0.14883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2569 0.14884 L -0.04514 0.22222 E"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0.04515 0.22221 L 0.04931 0.23286 E">
                                      <p:cBhvr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.04931 0.23287 L 0.00208 0.32731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0.00209 0.32731 L 0.0809 0.32731 E">
                                      <p:cBhvr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0.0809 0.32731 L 0.02586 0.40092 E"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02587 0.40092 L 0.1125 0.3905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0.11249 0.3905 L 0.12812 0.45346 E">
                                      <p:cBhvr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pplause.wav"/>
                                        </p:tgtEl>
                                      </p:cMediaNode>
                                    </p:audio>
                                    <p:animMotion origin="layout" path="M 0.12812 0.45346 L 0.17534 0.64258 E">
                                      <p:cBhvr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2.22222E-006 1.48148E-006 L -0.07864 0.04213 E">
                                      <p:cBhvr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-0.07864 0.04213 L 0.02361 0.11574 E">
                                      <p:cBhvr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0.02361 0.11574 L -0.07083 0.15764 E">
                                      <p:cBhvr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-0.07083 0.15764 L 0.02361 0.21018 E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0.02361 0.21018 L -0.07083 0.25231 E">
                                      <p:cBhvr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-0.07083 0.25232 L 0.03524 0.30602 E">
                                      <p:cBhvr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0.03525 0.30603 L -0.02778 0.37941 E">
                                      <p:cBhvr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-0.02778 0.3794 L 0.06684 0.38982 E">
                                      <p:cBhvr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Motion origin="layout" path="M 0.06684 0.38981 L -0.01979 0.45278 E">
                                      <p:cBhvr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Motion origin="layout" path="M -0.01979 0.45278 L -0.01979 0.65255 E">
                                      <p:cBhvr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animMotion origin="layout" path="M 2.22222E-006 -2.59259E-006 L -0.04722 0.09445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animMotion origin="layout" path="M -0.04721 0.09445 L 0.02379 0.12593 E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animMotion origin="layout" path="M 0.02379 0.12592 L -0.06284 0.14676 E">
                                      <p:cBhvr>
                                        <p:cTn id="13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animMotion origin="layout" path="M -0.06285 0.14676 L -0.03924 0.22037 E">
                                      <p:cBhvr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mes.wav"/>
                                        </p:tgtEl>
                                      </p:cMediaNode>
                                    </p:audio>
                                    <p:animMotion origin="layout" path="M -0.03924 0.22037 L -0.07865 0.29398 E">
                                      <p:cBhvr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himes.wav"/>
                                        </p:tgtEl>
                                      </p:cMediaNode>
                                    </p:audio>
                                    <p:animMotion origin="layout" path="M -0.07864 0.29398 L 0.00018 0.35694 E">
                                      <p:cBhvr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animMotion origin="layout" path="M 0.00018 0.35694 L -0.03923 0.44097 E">
                                      <p:cBhvr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animMotion origin="layout" path="M -0.03924 0.44097 L -0.11788 0.49352 E">
                                      <p:cBhvr>
                                        <p:cTn id="15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himes.wav"/>
                                        </p:tgtEl>
                                      </p:cMediaNode>
                                    </p:audio>
                                    <p:animMotion origin="layout" path="M -0.11788 0.49352 L -0.03923 0.58797 E">
                                      <p:cBhvr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pplause.wav"/>
                                        </p:tgtEl>
                                      </p:cMediaNode>
                                    </p:audio>
                                    <p:animMotion origin="layout" path="M -0.03923 0.58797 L -0.18107 0.67199 E">
                                      <p:cBhvr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animMotion origin="layout" path="M -0.00086 0.00162 L 0.04653 0.07523 E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animMotion origin="layout" path="M 0.04653 0.07523 L -0.01649 0.12755 E">
                                      <p:cBhvr>
                                        <p:cTn id="17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animMotion origin="layout" path="M -0.01649 0.12755 L -0.07152 0.20116 E">
                                      <p:cBhvr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animMotion origin="layout" path="M -0.07152 0.20116 L 0.00712 0.2537 E">
                                      <p:cBhvr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animMotion origin="layout" path="M 0.00713 0.2537 L -0.06388 0.31667 E">
                                      <p:cBhvr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animMotion origin="layout" path="M -0.06388 0.31667 L 0.03056 0.37986 E">
                                      <p:cBhvr>
                                        <p:cTn id="19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animMotion origin="layout" path="M 0.03056 0.37987 L -0.04808 0.42199 E">
                                      <p:cBhvr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animMotion origin="layout" path="M -0.04809 0.422 L -0.11892 0.50602 E">
                                      <p:cBhvr>
                                        <p:cTn id="19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animMotion origin="layout" path="M -0.11892 0.50602 L -0.08749 0.61112 E">
                                      <p:cBhvr>
                                        <p:cTn id="20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pplause.wav"/>
                                        </p:tgtEl>
                                      </p:cMediaNode>
                                    </p:audio>
                                    <p:animMotion origin="layout" path="M -0.08749 0.61111 L -0.33958 0.66366 E">
                                      <p:cBhvr>
                                        <p:cTn id="20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o  igr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ijelite učenike u  5 gr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0 točnih odgovora  dovest će ekipu  do pobj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nce  se  pokreče  klikom   na  broj ek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erlin Sans FB"/>
              </a:rPr>
              <a:t>Priredila Antoneta Vilić - OŠFF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46:10Z</dcterms:created>
  <dc:creator>Antoneta</dc:creator>
  <dc:description/>
  <dc:language>en-US</dc:language>
  <cp:lastModifiedBy>Antoneta</cp:lastModifiedBy>
  <dcterms:modified xsi:type="dcterms:W3CDTF">2010-02-12T00:16:56Z</dcterms:modified>
  <cp:revision>175</cp:revision>
  <dc:subject/>
  <dc:title>Slide 1</dc:title>
</cp:coreProperties>
</file>