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E667-5781-42F4-86A8-CFE747C6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343-D6E4-4C7A-ADB4-9B3E972F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1EF-D7B4-4A96-BFBA-F9760BDD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DE8-7839-4B5A-A363-FCF7D1A2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146-00D9-4C74-B996-8B64D330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C24-8E6F-4A43-B286-266480EC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300-41A2-4F48-8DFD-6D782022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31A-9C97-40FB-87EE-3086BECC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66C-8CEE-401F-AC7A-CED412C7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3B2-2036-4675-931E-1AB716E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7488-95C4-4A12-BF89-CC40B58A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086-4D1F-4286-9CD9-11586A42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4C19-B5A3-4AD3-A7C4-A07ABC74897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applause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applause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applause.wav"/><Relationship Id="rId28" Type="http://schemas.openxmlformats.org/officeDocument/2006/relationships/audio" Target="../media/chimes.wav"/><Relationship Id="rId29" Type="http://schemas.openxmlformats.org/officeDocument/2006/relationships/audio" Target="../media/chimes.wav"/><Relationship Id="rId30" Type="http://schemas.openxmlformats.org/officeDocument/2006/relationships/audio" Target="../media/chimes.wav"/><Relationship Id="rId31" Type="http://schemas.openxmlformats.org/officeDocument/2006/relationships/audio" Target="../media/chimes.wav"/><Relationship Id="rId32" Type="http://schemas.openxmlformats.org/officeDocument/2006/relationships/audio" Target="../media/chimes.wav"/><Relationship Id="rId33" Type="http://schemas.openxmlformats.org/officeDocument/2006/relationships/audio" Target="../media/chimes.wav"/><Relationship Id="rId34" Type="http://schemas.openxmlformats.org/officeDocument/2006/relationships/audio" Target="../media/applause.wav"/><Relationship Id="rId35" Type="http://schemas.openxmlformats.org/officeDocument/2006/relationships/audio" Target="../media/chimes.wav"/><Relationship Id="rId36" Type="http://schemas.openxmlformats.org/officeDocument/2006/relationships/audio" Target="../media/chimes.wav"/><Relationship Id="rId37" Type="http://schemas.openxmlformats.org/officeDocument/2006/relationships/audio" Target="../media/chimes.wav"/><Relationship Id="rId38" Type="http://schemas.openxmlformats.org/officeDocument/2006/relationships/audio" Target="../media/chimes.wav"/><Relationship Id="rId39" Type="http://schemas.openxmlformats.org/officeDocument/2006/relationships/audio" Target="../media/chimes.wav"/><Relationship Id="rId40" Type="http://schemas.openxmlformats.org/officeDocument/2006/relationships/audio" Target="../media/chimes.wav"/><Relationship Id="rId41" Type="http://schemas.openxmlformats.org/officeDocument/2006/relationships/audio" Target="../media/applause.wav"/><Relationship Id="rId4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143000"/>
            <a:ext cx="77724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POMOGNITE SVOJIM ZNANJEM JEDNOM  OD  MIKIJA  DA  PRVI DONESE CVIJEĆE  MI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857760"/>
            <a:ext cx="677232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600" spc="-1" strike="noStrike">
                <a:solidFill>
                  <a:srgbClr val="ff0000"/>
                </a:solidFill>
                <a:latin typeface="Chiller"/>
              </a:rPr>
              <a:t>UTRKA  MIKIJ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Slika 4" descr="cn22.gif"/>
          <p:cNvPicPr/>
          <p:nvPr/>
        </p:nvPicPr>
        <p:blipFill>
          <a:blip r:embed="rId1"/>
          <a:stretch/>
        </p:blipFill>
        <p:spPr>
          <a:xfrm>
            <a:off x="0" y="3786120"/>
            <a:ext cx="2214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lika 13" descr="clipminniecute3.gif"/>
          <p:cNvPicPr/>
          <p:nvPr/>
        </p:nvPicPr>
        <p:blipFill>
          <a:blip r:embed="rId1"/>
          <a:stretch/>
        </p:blipFill>
        <p:spPr>
          <a:xfrm>
            <a:off x="4214880" y="507204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Srce 17"/>
          <p:cNvSpPr/>
          <p:nvPr/>
        </p:nvSpPr>
        <p:spPr>
          <a:xfrm>
            <a:off x="500040" y="2857680"/>
            <a:ext cx="28584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rce 18"/>
          <p:cNvSpPr/>
          <p:nvPr/>
        </p:nvSpPr>
        <p:spPr>
          <a:xfrm>
            <a:off x="642960" y="185724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rce 19"/>
          <p:cNvSpPr/>
          <p:nvPr/>
        </p:nvSpPr>
        <p:spPr>
          <a:xfrm>
            <a:off x="1071720" y="4071960"/>
            <a:ext cx="28548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rce 21"/>
          <p:cNvSpPr/>
          <p:nvPr/>
        </p:nvSpPr>
        <p:spPr>
          <a:xfrm>
            <a:off x="1071720" y="5000760"/>
            <a:ext cx="285480" cy="28548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rce 24"/>
          <p:cNvSpPr/>
          <p:nvPr/>
        </p:nvSpPr>
        <p:spPr>
          <a:xfrm>
            <a:off x="2500200" y="185724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rce 31"/>
          <p:cNvSpPr/>
          <p:nvPr/>
        </p:nvSpPr>
        <p:spPr>
          <a:xfrm>
            <a:off x="3571920" y="585792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rce 32"/>
          <p:cNvSpPr/>
          <p:nvPr/>
        </p:nvSpPr>
        <p:spPr>
          <a:xfrm>
            <a:off x="2214720" y="5786280"/>
            <a:ext cx="28548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rce 33"/>
          <p:cNvSpPr/>
          <p:nvPr/>
        </p:nvSpPr>
        <p:spPr>
          <a:xfrm>
            <a:off x="2000160" y="4929120"/>
            <a:ext cx="285840" cy="285840"/>
          </a:xfrm>
          <a:prstGeom prst="pi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rce 34"/>
          <p:cNvSpPr/>
          <p:nvPr/>
        </p:nvSpPr>
        <p:spPr>
          <a:xfrm>
            <a:off x="2000160" y="242892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rce 35"/>
          <p:cNvSpPr/>
          <p:nvPr/>
        </p:nvSpPr>
        <p:spPr>
          <a:xfrm>
            <a:off x="2928960" y="250020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rce 36"/>
          <p:cNvSpPr/>
          <p:nvPr/>
        </p:nvSpPr>
        <p:spPr>
          <a:xfrm>
            <a:off x="2071800" y="3286080"/>
            <a:ext cx="28548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rce 37"/>
          <p:cNvSpPr/>
          <p:nvPr/>
        </p:nvSpPr>
        <p:spPr>
          <a:xfrm>
            <a:off x="3000240" y="392904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rce 38"/>
          <p:cNvSpPr/>
          <p:nvPr/>
        </p:nvSpPr>
        <p:spPr>
          <a:xfrm>
            <a:off x="3000240" y="4714920"/>
            <a:ext cx="285840" cy="28584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rce 39"/>
          <p:cNvSpPr/>
          <p:nvPr/>
        </p:nvSpPr>
        <p:spPr>
          <a:xfrm>
            <a:off x="3786120" y="5143680"/>
            <a:ext cx="285840" cy="285480"/>
          </a:xfrm>
          <a:prstGeom prst="pie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rce 40"/>
          <p:cNvSpPr/>
          <p:nvPr/>
        </p:nvSpPr>
        <p:spPr>
          <a:xfrm>
            <a:off x="4500720" y="178596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rce 41"/>
          <p:cNvSpPr/>
          <p:nvPr/>
        </p:nvSpPr>
        <p:spPr>
          <a:xfrm>
            <a:off x="4000680" y="228600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rce 42"/>
          <p:cNvSpPr/>
          <p:nvPr/>
        </p:nvSpPr>
        <p:spPr>
          <a:xfrm>
            <a:off x="4857840" y="257184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rce 43"/>
          <p:cNvSpPr/>
          <p:nvPr/>
        </p:nvSpPr>
        <p:spPr>
          <a:xfrm>
            <a:off x="3857760" y="2928960"/>
            <a:ext cx="28548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rce 44"/>
          <p:cNvSpPr/>
          <p:nvPr/>
        </p:nvSpPr>
        <p:spPr>
          <a:xfrm>
            <a:off x="4786200" y="350028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rce 45"/>
          <p:cNvSpPr/>
          <p:nvPr/>
        </p:nvSpPr>
        <p:spPr>
          <a:xfrm>
            <a:off x="4071960" y="3857760"/>
            <a:ext cx="285840" cy="28548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rce 46"/>
          <p:cNvSpPr/>
          <p:nvPr/>
        </p:nvSpPr>
        <p:spPr>
          <a:xfrm>
            <a:off x="4286160" y="4643280"/>
            <a:ext cx="285840" cy="285840"/>
          </a:xfrm>
          <a:prstGeom prst="pi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rce 47"/>
          <p:cNvSpPr/>
          <p:nvPr/>
        </p:nvSpPr>
        <p:spPr>
          <a:xfrm>
            <a:off x="6572160" y="185724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rce 48"/>
          <p:cNvSpPr/>
          <p:nvPr/>
        </p:nvSpPr>
        <p:spPr>
          <a:xfrm>
            <a:off x="6072120" y="2357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rce 49"/>
          <p:cNvSpPr/>
          <p:nvPr/>
        </p:nvSpPr>
        <p:spPr>
          <a:xfrm>
            <a:off x="6858000" y="314316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rce 50"/>
          <p:cNvSpPr/>
          <p:nvPr/>
        </p:nvSpPr>
        <p:spPr>
          <a:xfrm>
            <a:off x="5929200" y="3500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rce 51"/>
          <p:cNvSpPr/>
          <p:nvPr/>
        </p:nvSpPr>
        <p:spPr>
          <a:xfrm>
            <a:off x="6572160" y="42148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rce 52"/>
          <p:cNvSpPr/>
          <p:nvPr/>
        </p:nvSpPr>
        <p:spPr>
          <a:xfrm>
            <a:off x="5929200" y="464328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rce 53"/>
          <p:cNvSpPr/>
          <p:nvPr/>
        </p:nvSpPr>
        <p:spPr>
          <a:xfrm>
            <a:off x="5286240" y="5072040"/>
            <a:ext cx="285840" cy="285840"/>
          </a:xfrm>
          <a:prstGeom prst="pie">
            <a:avLst/>
          </a:prstGeom>
          <a:solidFill>
            <a:srgbClr val="558ed5"/>
          </a:solidFill>
          <a:ln w="1908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rce 54"/>
          <p:cNvSpPr/>
          <p:nvPr/>
        </p:nvSpPr>
        <p:spPr>
          <a:xfrm>
            <a:off x="8215200" y="192888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rce 55"/>
          <p:cNvSpPr/>
          <p:nvPr/>
        </p:nvSpPr>
        <p:spPr>
          <a:xfrm>
            <a:off x="8215200" y="278604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rce 56"/>
          <p:cNvSpPr/>
          <p:nvPr/>
        </p:nvSpPr>
        <p:spPr>
          <a:xfrm>
            <a:off x="7643880" y="364320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rce 57"/>
          <p:cNvSpPr/>
          <p:nvPr/>
        </p:nvSpPr>
        <p:spPr>
          <a:xfrm>
            <a:off x="8215200" y="464328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rce 58"/>
          <p:cNvSpPr/>
          <p:nvPr/>
        </p:nvSpPr>
        <p:spPr>
          <a:xfrm>
            <a:off x="7215120" y="5000760"/>
            <a:ext cx="285840" cy="28548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rce 59"/>
          <p:cNvSpPr/>
          <p:nvPr/>
        </p:nvSpPr>
        <p:spPr>
          <a:xfrm>
            <a:off x="6357960" y="571500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rce 60"/>
          <p:cNvSpPr/>
          <p:nvPr/>
        </p:nvSpPr>
        <p:spPr>
          <a:xfrm>
            <a:off x="5286240" y="5857920"/>
            <a:ext cx="285840" cy="285840"/>
          </a:xfrm>
          <a:prstGeom prst="pie">
            <a:avLst/>
          </a:prstGeom>
          <a:solidFill>
            <a:srgbClr val="ffff99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unce 63"/>
          <p:cNvSpPr/>
          <p:nvPr/>
        </p:nvSpPr>
        <p:spPr>
          <a:xfrm>
            <a:off x="21420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unce 64"/>
          <p:cNvSpPr/>
          <p:nvPr/>
        </p:nvSpPr>
        <p:spPr>
          <a:xfrm>
            <a:off x="8286840" y="6072120"/>
            <a:ext cx="571320" cy="5716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unce 65"/>
          <p:cNvSpPr/>
          <p:nvPr/>
        </p:nvSpPr>
        <p:spPr>
          <a:xfrm>
            <a:off x="735804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unce 66"/>
          <p:cNvSpPr/>
          <p:nvPr/>
        </p:nvSpPr>
        <p:spPr>
          <a:xfrm>
            <a:off x="1214280" y="6072120"/>
            <a:ext cx="571680" cy="57168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unce 67"/>
          <p:cNvSpPr/>
          <p:nvPr/>
        </p:nvSpPr>
        <p:spPr>
          <a:xfrm>
            <a:off x="2571840" y="6072120"/>
            <a:ext cx="571320" cy="5716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ravokutnik 74"/>
          <p:cNvSpPr/>
          <p:nvPr/>
        </p:nvSpPr>
        <p:spPr>
          <a:xfrm>
            <a:off x="285840" y="1357200"/>
            <a:ext cx="857160" cy="716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ravokutnik 75"/>
          <p:cNvSpPr/>
          <p:nvPr/>
        </p:nvSpPr>
        <p:spPr>
          <a:xfrm>
            <a:off x="2214720" y="1428840"/>
            <a:ext cx="857160" cy="71280"/>
          </a:xfrm>
          <a:prstGeom prst="rect">
            <a:avLst/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avokutnik 76"/>
          <p:cNvSpPr/>
          <p:nvPr/>
        </p:nvSpPr>
        <p:spPr>
          <a:xfrm>
            <a:off x="4071960" y="1428840"/>
            <a:ext cx="857160" cy="71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ravokutnik 77"/>
          <p:cNvSpPr/>
          <p:nvPr/>
        </p:nvSpPr>
        <p:spPr>
          <a:xfrm>
            <a:off x="6000840" y="1357200"/>
            <a:ext cx="857160" cy="7164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avokutnik 78"/>
          <p:cNvSpPr/>
          <p:nvPr/>
        </p:nvSpPr>
        <p:spPr>
          <a:xfrm>
            <a:off x="7786800" y="1428840"/>
            <a:ext cx="857160" cy="71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lika 8" descr="crveno.jpg"/>
          <p:cNvPicPr/>
          <p:nvPr/>
        </p:nvPicPr>
        <p:blipFill>
          <a:blip r:embed="rId2"/>
          <a:stretch/>
        </p:blipFill>
        <p:spPr>
          <a:xfrm>
            <a:off x="281160" y="208080"/>
            <a:ext cx="1017360" cy="1157040"/>
          </a:xfrm>
          <a:prstGeom prst="rect">
            <a:avLst/>
          </a:prstGeom>
          <a:ln w="0">
            <a:noFill/>
          </a:ln>
        </p:spPr>
      </p:pic>
      <p:pic>
        <p:nvPicPr>
          <p:cNvPr id="91" name="Slika 11" descr="roza.jpg"/>
          <p:cNvPicPr/>
          <p:nvPr/>
        </p:nvPicPr>
        <p:blipFill>
          <a:blip r:embed="rId3"/>
          <a:stretch/>
        </p:blipFill>
        <p:spPr>
          <a:xfrm>
            <a:off x="2139840" y="208080"/>
            <a:ext cx="107964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Slika 9" descr="cn22.gif"/>
          <p:cNvPicPr/>
          <p:nvPr/>
        </p:nvPicPr>
        <p:blipFill>
          <a:blip r:embed="rId4"/>
          <a:stretch/>
        </p:blipFill>
        <p:spPr>
          <a:xfrm>
            <a:off x="3992400" y="133200"/>
            <a:ext cx="1146240" cy="1298880"/>
          </a:xfrm>
          <a:prstGeom prst="rect">
            <a:avLst/>
          </a:prstGeom>
          <a:ln w="0">
            <a:noFill/>
          </a:ln>
        </p:spPr>
      </p:pic>
      <p:pic>
        <p:nvPicPr>
          <p:cNvPr id="93" name="Slika 10" descr="plavo.jpg"/>
          <p:cNvPicPr/>
          <p:nvPr/>
        </p:nvPicPr>
        <p:blipFill>
          <a:blip r:embed="rId5"/>
          <a:stretch/>
        </p:blipFill>
        <p:spPr>
          <a:xfrm>
            <a:off x="5924520" y="133200"/>
            <a:ext cx="1079640" cy="1231920"/>
          </a:xfrm>
          <a:prstGeom prst="rect">
            <a:avLst/>
          </a:prstGeom>
          <a:ln w="0">
            <a:noFill/>
          </a:ln>
        </p:spPr>
      </p:pic>
      <p:pic>
        <p:nvPicPr>
          <p:cNvPr id="94" name="Slika 12" descr="žuto.jpg"/>
          <p:cNvPicPr/>
          <p:nvPr/>
        </p:nvPicPr>
        <p:blipFill>
          <a:blip r:embed="rId6"/>
          <a:stretch/>
        </p:blipFill>
        <p:spPr>
          <a:xfrm>
            <a:off x="7711920" y="208080"/>
            <a:ext cx="1078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2.22222E-006 1.48148E-006 L 2.22222E-006 0.11551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Motion origin="layout" path="M 2.22222E-006 0.11551 L -0.0158 0.34653 E">
                                      <p:cBhvr>
                                        <p:cTn id="1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Motion origin="layout" path="M -0.0158 0.34676 L 0.05503 0.49375 E">
                                      <p:cBhvr>
                                        <p:cTn id="1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animMotion origin="layout" path="M 0.05503 0.49375 L 0.05503 0.64074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Motion origin="layout" path="M 0.05504 0.64074 L 0.14948 0.61968 E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Motion origin="layout" path="M 0.14948 0.61968 L 0.16528 0.73518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animMotion origin="layout" path="M 0.16528 0.73519 L 0.31146 0.76343 E">
                                      <p:cBhvr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Motion origin="layout" path="M -5.55556E-006 -1.48148E-006 L 0.00781 0.12615 E">
                                      <p:cBhvr>
                                        <p:cTn id="3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Motion origin="layout" path="M 1.94444E-006 0.12593 L -0.05504 0.24144 E">
                                      <p:cBhvr>
                                        <p:cTn id="3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Motion origin="layout" path="M -0.05504 0.24144 L 0.03941 0.2625 E">
                                      <p:cBhvr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0.03941 0.2625 L -0.05504 0.37801 E">
                                      <p:cBhvr>
                                        <p:cTn id="4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-0.05504 0.37801 L 0.04722 0.47245 E">
                                      <p:cBhvr>
                                        <p:cTn id="5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0.04722 0.47245 L 0.0552 0.58796 E">
                                      <p:cBhvr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Motion origin="layout" path="M 0.0552 0.58796 L 0.14184 0.66134 E">
                                      <p:cBhvr>
                                        <p:cTn id="5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Motion origin="layout" path="M 4.44444E-006 -3.33333E-006 L 0.0243 0.14398 E">
                                      <p:cBhvr>
                                        <p:cTn id="6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0.0243 0.14398 L -0.04653 0.23843 E">
                                      <p:cBhvr>
                                        <p:cTn id="6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0.04653 0.23843 L 0.04791 0.26991 E">
                                      <p:cBhvr>
                                        <p:cTn id="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Motion origin="layout" path="M 0.04791 0.26991 L -0.06233 0.33287 E">
                                      <p:cBhvr>
                                        <p:cTn id="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Motion origin="layout" path="M -0.06233 0.33287 L 0.0559 0.42732 E">
                                      <p:cBhvr>
                                        <p:cTn id="8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Motion origin="layout" path="M 0.0559 0.42732 L -0.03854 0.47986 E">
                                      <p:cBhvr>
                                        <p:cTn id="84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animMotion origin="layout" path="M -0.03855 0.47986 L -0.00712 0.58496 E">
                                      <p:cBhvr>
                                        <p:cTn id="88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3.33333E-006 -2.96296E-006 L 0.03159 0.13658 E">
                                      <p:cBhvr>
                                        <p:cTn id="9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himes.wav"/>
                                        </p:tgtEl>
                                      </p:cMediaNode>
                                    </p:audio>
                                    <p:animMotion origin="layout" path="M 0.03159 0.13658 L -0.02361 0.24167 E">
                                      <p:cBhvr>
                                        <p:cTn id="9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Motion origin="layout" path="M -0.02361 0.24167 L 0.06302 0.34676 E">
                                      <p:cBhvr>
                                        <p:cTn id="10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animMotion origin="layout" path="M 0.06302 0.34676 L -0.0552 0.42014 E">
                                      <p:cBhvr>
                                        <p:cTn id="10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himes.wav"/>
                                        </p:tgtEl>
                                      </p:cMediaNode>
                                    </p:audio>
                                    <p:animMotion origin="layout" path="M -0.05521 0.42014 L 0.03924 0.53565 E">
                                      <p:cBhvr>
                                        <p:cTn id="10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himes.wav"/>
                                        </p:tgtEl>
                                      </p:cMediaNode>
                                    </p:audio>
                                    <p:animMotion origin="layout" path="M 0.03923 0.53564 L -0.0316 0.59861 E">
                                      <p:cBhvr>
                                        <p:cTn id="11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animMotion origin="layout" path="M -0.0316 0.59861 L -0.11042 0.65116 E">
                                      <p:cBhvr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himes.wav"/>
                                        </p:tgtEl>
                                      </p:cMediaNode>
                                    </p:audio>
                                    <p:animMotion origin="layout" path="M 3.33333E-006 -4.44444E-006 L 0.02361 0.14699 E">
                                      <p:cBhvr>
                                        <p:cTn id="12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himes.wav"/>
                                        </p:tgtEl>
                                      </p:cMediaNode>
                                    </p:audio>
                                    <p:animMotion origin="layout" path="M 0.02361 0.14698 L 0.00799 0.33587 E">
                                      <p:cBhvr>
                                        <p:cTn id="12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animMotion origin="layout" path="M 0.00799 0.33587 L -0.05503 0.46203 E">
                                      <p:cBhvr>
                                        <p:cTn id="13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himes.wav"/>
                                        </p:tgtEl>
                                      </p:cMediaNode>
                                    </p:audio>
                                    <p:animMotion origin="layout" path="M -0.05503 0.46204 L 0.02361 0.58796 E">
                                      <p:cBhvr>
                                        <p:cTn id="13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himes.wav"/>
                                        </p:tgtEl>
                                      </p:cMediaNode>
                                    </p:audio>
                                    <p:animMotion origin="layout" path="M 0.02361 0.58796 L -0.08663 0.61944 E">
                                      <p:cBhvr>
                                        <p:cTn id="13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animMotion origin="layout" path="M -0.08663 0.61945 L -0.19687 0.73495 E">
                                      <p:cBhvr>
                                        <p:cTn id="14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Motion origin="layout" path="M -0.19687 0.73495 L -0.31493 0.76643 E">
                                      <p:cBhvr>
                                        <p:cTn id="14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ravokutnik 1"/>
          <p:cNvSpPr/>
          <p:nvPr/>
        </p:nvSpPr>
        <p:spPr>
          <a:xfrm>
            <a:off x="1071720" y="1609560"/>
            <a:ext cx="664344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Kako igra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odijelite učenike u razredu  u 5 grup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Pripremite po 7 zadataka za svaku gru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Otvorite igru utrk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Članovima prvog tima postavite zadatak i ukoliko točno odgovore na njega, klikni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na cvijet odgovarajuće  boje  na dnu  slajda , kako bi se njihov Miki pomaknuo od srca da srca. U slučaju netočnog rješenja ostaju na mjestu i čekaju drugi kru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edam točnih odgovora dovest će ekipu do pobjede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niOkvir 2"/>
          <p:cNvSpPr/>
          <p:nvPr/>
        </p:nvSpPr>
        <p:spPr>
          <a:xfrm>
            <a:off x="1428840" y="535788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Comic Sans MS"/>
              </a:rPr>
              <a:t>Ppt izradila Dubravka Petković, OŠ Fažana , 10.veljače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snja</cp:lastModifiedBy>
  <dcterms:modified xsi:type="dcterms:W3CDTF">2010-03-08T16:15:48Z</dcterms:modified>
  <cp:revision>24</cp:revision>
  <dc:subject/>
  <dc:title>POMOGNITE SVOJIM ZNANJEM JEDNOM  MIKIJU DA DOĐE DO MINI</dc:title>
</cp:coreProperties>
</file>