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096-BDFF-44C1-A40A-46ED91DA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C0A-706E-4AD5-863F-9AC8DC3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5FC-2745-48E0-AF46-99C09277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B0C-5916-4DF4-8EF1-DEEC4AF0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0F42-A310-4507-B169-03B0B95D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A17D-0334-4923-90AA-777C76C3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647E-2D7A-40B9-835F-606DCB1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D1E2-2234-4700-8EBE-960E2367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057F-A8DF-4BF3-A721-6FAFBB8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206C-DC4A-4F3B-A89D-721174F2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29F-522B-4F62-846C-E5915FE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602-D884-41C2-83DC-084A7B9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01B6-0518-49CB-BBB2-776C3D3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16AE-46ED-4EEA-AD8C-42F378AD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11CD-EE05-4925-A8D6-A6B1F3DF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304B-D58E-4453-908C-8BE4EE90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AE97-9C80-4567-A82D-92CE45E7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BD0-8E1B-4EEB-9824-BA8C931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D28-DABF-499A-9050-51D385EB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217-8D4E-4ADF-A423-62DDF7E0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73E-34E4-4705-87FB-CA66B86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017-0E94-4A6A-B10C-DA0CA82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D47-BFFD-420F-BE09-00F5A46E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161-B5EF-4A81-B9BE-CE64C0D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D03-BC14-474E-B529-40852991AB1E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58DB-FAB0-4EA5-8A07-827DA6F0E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0828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Palatino Linotype"/>
              </a:rPr>
              <a:t>Dragi roditelji,</a:t>
            </a:r>
            <a:br>
              <a:rPr sz="6600"/>
            </a:br>
            <a:r>
              <a:rPr b="0" lang="hr-HR" sz="6600" spc="-1" strike="noStrike">
                <a:solidFill>
                  <a:srgbClr val="000000"/>
                </a:solidFill>
                <a:latin typeface="Palatino Linotype"/>
              </a:rPr>
              <a:t>dobrodošli!</a:t>
            </a:r>
            <a:endParaRPr b="0" lang="en-US" sz="6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Disciplinske metode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Upotrijebite konstruktivnu kritiku: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Prije nego ćete izgrditi dijete radije se fokusirajte na loše ponašanje i kako se ono može popraviti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Na primjer, umjesto da kažete:’Napravio si nered! Ostavio si igračke svuda naokolo’, pokušajte reći: ’Ova soba je u neredu. Molim te da je pospremiš.’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Umjesto fokusiranja na negativnom ponašanju, pomozite da ga dijete zamijeni sa prihvatljivijim ponašanjem.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Na primjer, ako dijete baca loptu po kući, odvedite ga van i poigrajte se loptom zajedno</a:t>
            </a: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Preusmjerite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Dajte djetetu predah ili time-ou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827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Odmaknite dijete od situacije kako bi ono vratilo samokontrolu.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Picture 4" descr="p46telloffkids_468x460"/>
          <p:cNvPicPr/>
          <p:nvPr/>
        </p:nvPicPr>
        <p:blipFill>
          <a:blip r:embed="rId1"/>
          <a:stretch/>
        </p:blipFill>
        <p:spPr>
          <a:xfrm>
            <a:off x="4643280" y="1557360"/>
            <a:ext cx="3457800" cy="3398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Promičite mentalno zdravlje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Obratite pažnju i promičite mentalno zdravlje Vašeg djeteta kao i njegovo fizičko zdravlje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9" name="Picture 4" descr="bubble"/>
          <p:cNvPicPr/>
          <p:nvPr/>
        </p:nvPicPr>
        <p:blipFill>
          <a:blip r:embed="rId1"/>
          <a:stretch/>
        </p:blipFill>
        <p:spPr>
          <a:xfrm>
            <a:off x="5219640" y="1916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Ima prijatelje i dobro se slaže s ostalom djeco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Može se koncentrirati i usredotočiti pažnju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Ima relativno stabilne režime prehrane i spavanj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Pokazuje prihvatljiv interes i napredak u škol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Zadovoljan je barem malo sa svim aspektima života-obitelji, prijateljima, školom, fizičkim izgledom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Nije tjeskoban ili ljutit zbog manjih neugodnosti i smetnj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Njegovi strahovi su prihvatljivi i nisu pretjerani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Pokazuje poštovanje prema drugim ljudim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Palatino Linotype"/>
              </a:rPr>
              <a:t>Ima hobije i uživa u različitim aktivnostim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Palatino Linotype"/>
              </a:rPr>
              <a:t>Znaci jakog mentalnog zdravlja</a:t>
            </a: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POZITIVNO IZRAŽAVANJ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981000"/>
          <a:ext cx="8218440" cy="57675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djelotvorna teh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ehnika ljubavi i log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olim te sjedni. Sada ćemo jest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Jesti ćemo čim sjedneš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olim te budi tih. Ne mogu čuti tvoga brata kada oboje govorite istovremen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ado ću te poslušati čim tvoj brat završi razgovarati sa m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čisti svoju sobu da možemo ići u kupovin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ado ću te odvesti u kupovinu čim ti soba bude čis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pričaj dok ti čita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očet ću ti čitati ponovno čim završiš pričati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možeš se igrati dok nisi završio svoju zadać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lobodno se idi igrati č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i završio svoju zadać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bavljaj kućanske poslove na vrijeme ili ćeš biti kažnjen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Vrlo rado ću te pustiti da ideš sa svojim prijateljima čim 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bavi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kućansk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poslov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50920" y="620640"/>
          <a:ext cx="8229600" cy="5645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razgovaraj sa mnom tim tonom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oslušat ću čim ti glas bude smiren kao moj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ću kupiti tvoju prljavu odjeću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ado ću ti oprati odjeću koja je ostavljena u košu za prljavo rublj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ideš van bez kaputa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ožeš izaći van čim staviš kapu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 vraćaj se u ovu prostoriju dok ne pokažeš malo poštovanja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lobodno se vrati u ovu prostoriju kad budeš smir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ospremi ovu sobu odmah, ozbiljno mislim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lodobno nam se možeš pridružiti na ____________ čim ti je soba pospremljen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stani kršiti pravila igr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ni koji poštuju pravil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gre dobrodošli  su igrati 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DOMAĆA ZADAĆA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Utvrdite vrijeme KADA će se raditi domaća zadać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Stvorite mjesto GDJE će se pisati domaća zadać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Pokažite interes za ono što dijete uči i ako ste u mogućnosti, pomozit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alatino Linotype"/>
              </a:rPr>
              <a:t>Informirajte se o radu i napretku svog djeteta  i razgovarajte o mogućim poteškoćama</a:t>
            </a: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7" name="Picture 4" descr="sadchild1"/>
          <p:cNvPicPr/>
          <p:nvPr/>
        </p:nvPicPr>
        <p:blipFill>
          <a:blip r:embed="rId1"/>
          <a:stretch/>
        </p:blipFill>
        <p:spPr>
          <a:xfrm>
            <a:off x="2556000" y="4292640"/>
            <a:ext cx="3671640" cy="231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Palatino Linotype"/>
              </a:rPr>
              <a:t>Hvala!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9" name="Picture 4" descr="fam"/>
          <p:cNvPicPr/>
          <p:nvPr/>
        </p:nvPicPr>
        <p:blipFill>
          <a:blip r:embed="rId1"/>
          <a:stretch/>
        </p:blipFill>
        <p:spPr>
          <a:xfrm>
            <a:off x="1000080" y="1762200"/>
            <a:ext cx="714384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lies_away"/>
          <p:cNvPicPr/>
          <p:nvPr/>
        </p:nvPicPr>
        <p:blipFill>
          <a:blip r:embed="rId2"/>
          <a:stretch/>
        </p:blipFill>
        <p:spPr>
          <a:xfrm rot="1544400">
            <a:off x="610920" y="333000"/>
            <a:ext cx="1400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manjite prepiranje, održavanje prodika i vikanj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e pouzdate u Vaše roditeljske vješt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tvorite više vremena za seb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tvorite vještine kojima ćete poticati suradnju umjesto svađ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Metode koje Vam mogu pomoći:</a:t>
            </a: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stvori osjećaj odgovornosti i inicijativ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ojača samopoštovanj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razvije vještine za donošenje pravovaljanih odluka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a potiče suradnju i uspjeh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Palatino Linotype"/>
              </a:rPr>
              <a:t>Vašem djetetu možete pomoći:</a:t>
            </a: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Palatino Linotype"/>
              </a:rPr>
              <a:t>Pomozite djetetu da razvije socijalne vještin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Socijalna kompetencija i samopoštovanje idu ruku pod ruku, stoga nađite vremena da pokažete dobar primjer i naučite dijete ponašanjima koja potiču pozitivne socijalne odnose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1" name="Picture 4" descr="Children%20playing"/>
          <p:cNvPicPr/>
          <p:nvPr/>
        </p:nvPicPr>
        <p:blipFill>
          <a:blip r:embed="rId1"/>
          <a:stretch/>
        </p:blipFill>
        <p:spPr>
          <a:xfrm>
            <a:off x="5148360" y="2060640"/>
            <a:ext cx="35938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Nađite vremena za razgovor sa svojim djetetom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Potaknite dijete na razgovor i dajte mu do znanja da je razgovor o osjećajima zdrav način iskazivanja straha, ljutnje, tuge i boli. Naučite dijete riječima kojima će moći opisati svoje osjećaje i budite mu uzor pričajući mu o vlastitim osjećajima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Palatino Linotype"/>
              </a:rPr>
              <a:t>Ostavite stres sa posla – na poslu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Važno je najprije prepoznati i imenovati vlastite potrebe kako bi mogli sabrati misli i biti smireni i postaviti dobar primjer svojoj djeci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000000"/>
                </a:solidFill>
                <a:latin typeface="Palatino Linotype"/>
              </a:rPr>
              <a:t>Izbjegavajte 'hyper-parenting'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Palatino Linotype"/>
              </a:rPr>
              <a:t>Dijete treba vremena i prostora i da bude kreativno, da razmišlja i otkriva život na vlastiti način.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6" name="Picture 4" descr="1108744179_4080"/>
          <p:cNvPicPr/>
          <p:nvPr/>
        </p:nvPicPr>
        <p:blipFill>
          <a:blip r:embed="rId1"/>
          <a:stretch/>
        </p:blipFill>
        <p:spPr>
          <a:xfrm>
            <a:off x="5508720" y="1628640"/>
            <a:ext cx="26654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Palatino Linotype"/>
              </a:rPr>
              <a:t>Slavite uspjeh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Nagrađujući dijet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za dobro ponašanj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više je konstruktivno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nego dati mu do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znanja kada s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ponašalo neprimjereno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4" descr="1044139244_ink_result"/>
          <p:cNvPicPr/>
          <p:nvPr/>
        </p:nvPicPr>
        <p:blipFill>
          <a:blip r:embed="rId1"/>
          <a:stretch/>
        </p:blipFill>
        <p:spPr>
          <a:xfrm>
            <a:off x="4859280" y="1125360"/>
            <a:ext cx="364500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Palatino Linotype"/>
              </a:rPr>
              <a:t>Upotrijebite disciplinu, a ne kaznu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Disciplina’ je metoda učenja djece prihvatljivom ponašanju i pomoć da djeca sama donose mudre odluke kako bi djelovali pozitivno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Kazna’, s druge strane, uključuje uporabu fizičkih sredstava ili verbalnog kritiziranja da se ukaže na negativno ponašanje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Palatino Linotype"/>
              </a:rPr>
              <a:t>Dok kažnjavanje može voditi ka smanjivanju samopouzdanja, disciplina će pomoći da djeca usvoje pozitivne socijalizacijske vještine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12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12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2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0:58:01Z</dcterms:created>
  <dc:creator>Mia</dc:creator>
  <dc:description/>
  <dc:language>en-US</dc:language>
  <cp:lastModifiedBy>ja</cp:lastModifiedBy>
  <dcterms:modified xsi:type="dcterms:W3CDTF">2009-02-14T20:03:26Z</dcterms:modified>
  <cp:revision>13</cp:revision>
  <dc:subject/>
  <dc:title>Dragi roditelji, dobrodošli!</dc:title>
</cp:coreProperties>
</file>