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240-47E8-4E34-838E-60C1A75C9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17E5-1262-439F-8442-39AA6CF47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UVOD:Obitelj je za dijete svijet u malom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prvim godinama života njegovi interesi, želje i potrebe ne izlaze iz obiteljskih okvi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itelj je prva škola socijalnih dodira, izvorište prvih pojmova o svijetu, životu i radu, odnosu prema ljudim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obitelji dijete provodi najveći dio svog života okruženo toplinom, njegom i ljubavlj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itelj je  najprirodnije i najutjecajnije  djetetovo okružen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dgoj u obitelji je pedagoški proces koji se ostvaruje pod utjecajem cjelokupnog njezinog načina života i rada, osjećajne povezanosti, svakodnevnih situacija količine  i kakvoće ukupnih odnosa u njo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iteljski odgoj je prvi i temeljni odgoj koji društvo pruža djetetu.On se ničime ne može zamijeniti ni nadoknadit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ko je dijete steklo osjećaj da ga ljudi iz neposredne okoline vole,poštuju,i prihvaćaju, onda ima sve preduvjete da se kvalitetno postavlja i zdravo odnosi prema svim okružjima i ljudima s kojima će u odrasloj dobi komunicirati i surađivati i raditi.Isto tako, bit će nepovjerljivo, egocentrično, nesigurno, cinično, nasilno, nezainteresirano, ako je u svojoj obitelji bilo omalovažavano, zlostavljano, odbačeno, zapostavljeno, nevoljeno, prikraćivano u ljubavi, pozitivnim uzorim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Roditeljska uloga u odgoju je vrlo osjetljiva, složena, odgovorna, naporna i dugotraj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 nju nisu svi jednako spremni niti osposobljeni, pa se nerijetko suočavaju s problemima za čije rješavanje im je potrebna pomoć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Djeca dolaze u školu sa velikim predznanjem koje su stekla u svojim obiteljim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Tradicionalna nastava podrazumijevala je podučavanje u kojem je učitelj podučavao-prenosio znanje učenicima, a zatim provjeravao stupanj usvojenosti gradiva. Roditelji su dobijali informaciju o uspjehu i tako se suradnja svodila na individualne razgovore i roditeljske sastanke. U središtu pozornosti nije bio sam učenik, nego nastavni program kojega je trebalo realizir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2CA-B878-46A3-A32E-CF1737A5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4D2-F727-4A82-9F30-47BE937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665-CFC2-4685-A282-5E998026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498-B557-4F30-A7DE-95AD7734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AF17-2949-4855-9961-721271B5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A991-35A9-497D-8C74-91119212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5CAE-F6E5-4045-A1A9-47D649E2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7D62-260A-4832-A8E8-A7157B0E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6686-A9B0-4AA6-8F79-D0D5DE49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AE6E-5005-48FE-8C71-102D413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9184-667C-4C65-ABC4-8F39E44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172-C655-4D50-9A6C-016F064C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05FB-F37C-4922-B336-A424E63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1F9-EBBF-4F13-A861-7BA6235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E43D-866A-4F49-8A04-86A7429A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98C9-795A-4F9F-A26F-FF965495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F01-3F27-41F4-8172-C7883B9B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FF2-F4E8-490E-B11D-DF68D8A5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537-3CF7-4ADE-8DE8-E6AF4F59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FC0-F787-4847-A242-8EBA93AF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090-3080-4783-A8E0-DB1CF29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91E-6399-4AD8-ACF8-E14AD881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6D3-5796-461A-8A05-2270ED5E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01E-D307-4B97-998F-181F37F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59FE-8025-440F-BB31-BE212E30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0BFA-B816-4D6A-837C-CBA310F60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ffffb7"/>
                </a:solidFill>
                <a:latin typeface="Monotype Corsiva"/>
              </a:rPr>
              <a:t>KORACI K USPJEŠNOM RODITELJSKOM</a:t>
            </a:r>
            <a:r>
              <a:rPr b="1" lang="hr-HR" sz="4800" spc="-1" strike="noStrike">
                <a:solidFill>
                  <a:srgbClr val="ffffb7"/>
                </a:solidFill>
                <a:latin typeface="Monotype Corsiva"/>
              </a:rPr>
              <a:t> SASTANKU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DSC01341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ULOGA UČITEL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BAR DOMAĆ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RGANIZATOR PROSTORA I VREME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ODITELJ AKTI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VAŽAVA INDIVIDUA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TVARA UGODNO I RADNO OZRAČ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AJE UPUTE,POJAŠNJAVA I POMA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Picture 005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ODLIKE DOBROG UČITEL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na podijeliti iskust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dobar kontakt oč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smisao za h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visoka očeki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obar je slušate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aje jasne  upute , prilagođava 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mpatičan , samokritičan i spon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štuje različita gledi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visoko zn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vjerljiv je i pouz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TIPOVI RODITELJSKIH SASTANAK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DAVAČ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GLE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DIONIČ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UŽENJE DJECE I ODRASL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DSC01342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166760" y="404640"/>
            <a:ext cx="25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EDAVAČ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DSC01343"/>
          <p:cNvPicPr/>
          <p:nvPr/>
        </p:nvPicPr>
        <p:blipFill>
          <a:blip r:embed="rId1"/>
          <a:stretch/>
        </p:blipFill>
        <p:spPr>
          <a:xfrm>
            <a:off x="-1523880" y="-784080"/>
            <a:ext cx="11712600" cy="8785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671480" y="549360"/>
            <a:ext cx="59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RADIONIČK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STRUKTURA RODITELJSKOG SASTANK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Uvodne aktivnosti za zagrijavanje i opuštanje atmosfer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0" y="2421000"/>
            <a:ext cx="457200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je uvod u sadrž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je pregled sadrž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emelj je dobre atmosf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sigurava upozna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građuje povjerenje i osjećaj    zajedniš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građuje prisniji od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je mentalnu i fizičku energ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vlači pažnju i usmje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bro motiv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Glavni- tematski d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java t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djela na skupine / pa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dati vrij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asne upute za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sigurati materijal za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moć skupin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ticati i ohrabrivati na aktiv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ilježiti zajedničke zaključ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hvaliti rad svih skupina i pojedin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DSC01346"/>
          <p:cNvPicPr/>
          <p:nvPr/>
        </p:nvPicPr>
        <p:blipFill>
          <a:blip r:embed="rId1"/>
          <a:stretch/>
        </p:blipFill>
        <p:spPr>
          <a:xfrm>
            <a:off x="-2052720" y="-2017800"/>
            <a:ext cx="15409800" cy="1045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zervirano mjesto broja slajda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E99A-F7E0-420C-BD68-2F29D0CD4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U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8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itelj je za dijete svijet u mal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iteljski odgoj je prvi i temeljni odgoj koji društvo pruža djete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oditeljska uloga u odgoju je vrlo osjetljiva, složena, odgovorna, naporna i dugotraj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oditelji se često suočavaju s problemima u odgo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obra suradnja učitelja  i roditelja može pomoći u rješavanju probl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Glavni- tematski d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DAVAN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KAZ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SPRAVA U MALIM SKUPIN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B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LUJA IDE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GRANJE ULOG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M1"/>
          <p:cNvPicPr/>
          <p:nvPr/>
        </p:nvPicPr>
        <p:blipFill>
          <a:blip r:embed="rId1"/>
          <a:stretch/>
        </p:blipFill>
        <p:spPr>
          <a:xfrm>
            <a:off x="-1523880" y="-603360"/>
            <a:ext cx="12191760" cy="8604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1166760" y="333360"/>
            <a:ext cx="77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RASPRAVA U MALIM SKUPIN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Picture 004"/>
          <p:cNvPicPr/>
          <p:nvPr/>
        </p:nvPicPr>
        <p:blipFill>
          <a:blip r:embed="rId1"/>
          <a:stretch/>
        </p:blipFill>
        <p:spPr>
          <a:xfrm>
            <a:off x="-2413080" y="476280"/>
            <a:ext cx="13538160" cy="9882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 flipV="1" rot="10800000">
            <a:off x="5579640" y="22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OLUJA IDE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ZAVRŠETA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ČITAJTE PRIČ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ČITAJTE LIJEPU MIS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ČITAJTE DJEČJI URAD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AIGRAJTE IG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VEDITE VOĐENU MEDITACIJ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SVRT NA SASTA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ALUACIJSKI LIST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400"/>
                            </p:stCondLst>
                            <p:childTnLst>
                              <p:par>
                                <p:cTn id="44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4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7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100"/>
                            </p:stCondLst>
                            <p:childTnLst>
                              <p:par>
                                <p:cTn id="4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Sistematizacija i evaluaci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3 stvari koje sam naučio/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2 stvari koje ću podijeliti s drug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1 stvar koju ću odmah učin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AKO SI DRUGAČIJI OD  DRUGIH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ZNAČI DA SI POSEBA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USPJEŠNA VEZA</a:t>
            </a:r>
            <a:br>
              <a:rPr sz="4400"/>
            </a:b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RODITELJ-ŠKO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1. dosljedna i jasna dvosmjerna       komunikacija- individualni razgov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2. dobro organizirani roditeljski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sast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RODITELJI     UČITELJ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očekujete kao sudionici odgojno –obrazovnog procesa od roditeljskih sastanaka i učitelj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1904760"/>
            <a:ext cx="427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očekujete kao učitelji od roditelja u ostvarivanju dobre suradnje na roditeljskim sastanci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ffffb7"/>
                </a:solidFill>
                <a:latin typeface="Monotype Corsiva"/>
              </a:rPr>
              <a:t>KORACI K USPJEŠNOM RODITELJSKOM</a:t>
            </a:r>
            <a:r>
              <a:rPr b="1" lang="hr-HR" sz="4800" spc="-1" strike="noStrike">
                <a:solidFill>
                  <a:srgbClr val="ffffb7"/>
                </a:solidFill>
                <a:latin typeface="Monotype Corsiva"/>
              </a:rPr>
              <a:t> SASTANKU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b7"/>
                </a:solidFill>
                <a:latin typeface="Arial Black"/>
              </a:rPr>
              <a:t>DOBRA TEMATSKA PRIPREMA UČITEL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BAR IZBOR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( sastav ro, poteškoće u radu s djeco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nosi u obitelji, učenje,ponašanje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TERESI I POTREBE RODIT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BRAZOVANJE RODIT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LASTITE SPOSOB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PISMENI POZIV RODITELJIM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ADNEVAK I VRIJEME ODRŽ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RIJEME TRAJ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JESTO ODRŽ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AZIV TEME ILI DNEVNI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TPIS UČITELJ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PRIMJER POZIV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Dragi roditelji__________________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        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Pozivam Vas na roditeljski sastanak 1o.11.2007.u 17.00 sati u učionicu našeg razrednog odjela.Upoznat ćemo se s temom „Kako pomoći djetetu u pisanju domaćih uradaka“.Radit ćemo u radionici koja će trajati 6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Dođite ,razmijenite svoja iskustva s drugim roditeljima i saznajte nešto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                                                                                                        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Vaša učiteljica</a:t>
            </a:r>
            <a:r>
              <a:rPr b="1" lang="hr-HR" sz="2400" spc="-1" strike="noStrike">
                <a:solidFill>
                  <a:srgbClr val="ff0000"/>
                </a:solidFill>
                <a:latin typeface="Lucida Calligraphy"/>
              </a:rPr>
              <a:t>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MJESTO I VRIJEME ODRŽAVANJA RODITELJSKOG SASTANK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ČIO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SPORED STOLOVA I STO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DNI MATERIJ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REDSTVA I POMAG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RIJEME- PRILAGODITI RODITELJ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ULJINA SASTANKA: OD 45 MIN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AKSIMALNO 90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8:16:22Z</dcterms:created>
  <dc:creator>Melita Lesić</dc:creator>
  <dc:description/>
  <dc:language>en-US</dc:language>
  <cp:lastModifiedBy>Višnja</cp:lastModifiedBy>
  <dcterms:modified xsi:type="dcterms:W3CDTF">2009-10-24T18:35:29Z</dcterms:modified>
  <cp:revision>5</cp:revision>
  <dc:subject/>
  <dc:title>KORACI K USPJEŠNOM RODITELJSKOM SASTANKU</dc:title>
</cp:coreProperties>
</file>